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BA3-5FF0-4438-8851-FF44F991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6E1-3987-474E-AC58-89ABC606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D99-4A3E-4950-81D9-E1E74A01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AA9-04D4-4BE6-AF5D-B885DDFA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DA6-5CF3-4BB1-9726-6B385A90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73A-34D0-4899-B22D-A6C58B12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366-F193-431B-B55D-A44AF2A9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1EB-CBD6-4CF8-88FE-7D3B07C3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ECE-EDCC-440A-B504-BEDECF08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D1F-2B42-440B-89E3-8604AA5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EFF-E85F-43E5-8094-33E3551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FCD-1AD9-40B0-A31F-652A7F7A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508-624F-447D-B1F1-FD0BAF2B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首页大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9360" y="914400"/>
            <a:ext cx="6727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lay a ga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Today is Sunday . Liu Mei is very busy toda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Her mother is not at home . So she has to 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lot of  things  . What does she have to do ?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you gu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29718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oes she have to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819520"/>
          <a:ext cx="8001000" cy="2819160"/>
        </p:xfrm>
        <a:graphic>
          <a:graphicData uri="http://schemas.openxmlformats.org/drawingml/2006/table">
            <a:tbl>
              <a:tblPr/>
              <a:tblGrid>
                <a:gridCol w="1398600"/>
                <a:gridCol w="2602080"/>
                <a:gridCol w="1299960"/>
                <a:gridCol w="27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She / He  has to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3160" y="137160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ind out three thing your friends have to do at hom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rite down their answers in the for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首页大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865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9720" y="304920"/>
            <a:ext cx="415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do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s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tidy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9240" y="213372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in Tao :      tidy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510516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320" y="281952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uce :        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40" y="3571920"/>
            <a:ext cx="49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James :        do his home work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1040" y="4343400"/>
            <a:ext cx="54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ucy :          help with the cook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320" y="510552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ate :          look after the bab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1040" y="586728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m :          do the wash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1640" y="21924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Ann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040" y="8380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 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7840" y="144792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some shopping with her Momm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(Mumm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7120" y="205740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ing her friends to her part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760" y="289548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Mommy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680" y="33526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some shopp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39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e for the foo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720" y="41497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k the mea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3124080" cy="1219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0560" y="4714920"/>
            <a:ext cx="53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friends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400" y="52228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y the presents for 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400" y="5680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 to her part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181480"/>
            <a:ext cx="3657600" cy="129564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1-400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3414600"/>
          </a:xfrm>
          <a:prstGeom prst="rect">
            <a:avLst/>
          </a:prstGeom>
          <a:ln w="0">
            <a:noFill/>
          </a:ln>
        </p:spPr>
      </p:pic>
      <p:pic>
        <p:nvPicPr>
          <p:cNvPr id="69" name="图1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0200" y="11937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y can’t she c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200" y="15238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her Momm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640" y="19051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she have to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2000" y="2286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with the wash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266688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s she coming l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30481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will come if she ca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5333760" cy="2362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800" y="3776760"/>
            <a:ext cx="844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ere’s Meim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can’t come .She has to help her Momm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at does she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has t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elp with the washing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Is s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’ll come if s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Oh well , Let’s ask Wei Hua instea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2-400" descr=""/>
          <p:cNvPicPr/>
          <p:nvPr/>
        </p:nvPicPr>
        <p:blipFill>
          <a:blip r:embed="rId2"/>
          <a:stretch/>
        </p:blipFill>
        <p:spPr>
          <a:xfrm flipH="1">
            <a:off x="-360" y="2133720"/>
            <a:ext cx="3048120" cy="259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9" name="图3-400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3047760" cy="2624040"/>
          </a:xfrm>
          <a:prstGeom prst="rect">
            <a:avLst/>
          </a:prstGeom>
          <a:ln w="0">
            <a:noFill/>
          </a:ln>
        </p:spPr>
      </p:pic>
      <p:pic>
        <p:nvPicPr>
          <p:cNvPr id="80" name="图4-400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5-400" descr=""/>
          <p:cNvPicPr/>
          <p:nvPr/>
        </p:nvPicPr>
        <p:blipFill>
          <a:blip r:embed="rId2"/>
          <a:stretch/>
        </p:blipFill>
        <p:spPr>
          <a:xfrm>
            <a:off x="2666880" y="1657440"/>
            <a:ext cx="3962520" cy="3543120"/>
          </a:xfrm>
          <a:prstGeom prst="rect">
            <a:avLst/>
          </a:prstGeom>
          <a:ln w="0">
            <a:noFill/>
          </a:ln>
        </p:spPr>
      </p:pic>
      <p:pic>
        <p:nvPicPr>
          <p:cNvPr id="86" name="图5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19376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he have to do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0200" y="1523880"/>
            <a:ext cx="50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I’m not sure . I think he may hav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finish his homewor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143000"/>
            <a:ext cx="5333760" cy="129528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960" y="2971800"/>
            <a:ext cx="873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ere’s Li L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 can’t make it today. He has to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I’m not sure . I think he may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ave to help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 in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Is 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’ll come if 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Oh well , we’ll have to ask Zhang Li instea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8-400" descr=""/>
          <p:cNvPicPr/>
          <p:nvPr/>
        </p:nvPicPr>
        <p:blipFill>
          <a:blip r:embed="rId2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pic>
        <p:nvPicPr>
          <p:cNvPr id="93" name="图7-400" descr=""/>
          <p:cNvPicPr/>
          <p:nvPr/>
        </p:nvPicPr>
        <p:blipFill>
          <a:blip r:embed="rId3"/>
          <a:stretch/>
        </p:blipFill>
        <p:spPr>
          <a:xfrm>
            <a:off x="2971800" y="2133720"/>
            <a:ext cx="3124080" cy="262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6-400" descr=""/>
          <p:cNvPicPr/>
          <p:nvPr/>
        </p:nvPicPr>
        <p:blipFill>
          <a:blip r:embed="rId4"/>
          <a:stretch/>
        </p:blipFill>
        <p:spPr>
          <a:xfrm>
            <a:off x="0" y="2133720"/>
            <a:ext cx="29718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1720" y="1828800"/>
            <a:ext cx="336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re the twi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0640" y="3886200"/>
            <a:ext cx="21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s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| Sh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1:33:02Z</dcterms:created>
  <dc:creator>eetdc</dc:creator>
  <dc:description/>
  <dc:language>en-US</dc:language>
  <cp:lastModifiedBy>wb</cp:lastModifiedBy>
  <dcterms:modified xsi:type="dcterms:W3CDTF">2001-04-30T05:36:36Z</dcterms:modified>
  <cp:revision>18</cp:revision>
  <dc:subject/>
  <dc:title>PowerPoint 演示文稿</dc:title>
</cp:coreProperties>
</file>