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0F97-A7D0-40D4-9311-0971263F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868-7325-4FA9-9C5D-11C23071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772-36F9-4827-813A-DF642980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254-208C-4E38-9CCE-B1CEEF04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C201-E041-44E7-AECD-55A681BE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1BD6-8231-4C14-895B-B9446D37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169E-71F4-4FA6-A8BC-EAE880F0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4241-0285-4118-A2BD-C9E33CC9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48F9-165A-4CA7-B2AF-F91B3F5D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0650-054C-45F6-9B5C-03DB6E31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4B73-492F-4F13-84A2-9E96860F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033-8F3E-46E5-B4A4-7257729F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1769-B45B-428A-91C1-9867AC5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880B-0551-4A42-BB6C-C15AAABE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E130-EF81-46D1-BCFA-CCC3008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BEB4-1320-4B33-9F9B-DBCC1F06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3271-369D-4F78-91D8-3B039303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1F1-0F01-4EAF-B003-D518FB82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299-CD9E-4C7D-AD58-9B6F4666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FB9-65E6-4C0F-BD7C-4F4EE908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73C-B31A-45CB-9F24-787556F4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00E-4D19-45AA-B6FC-F6A79DB2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188-2DD5-4F70-BEBF-0B4F204A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4A98-C52F-4762-98D0-4CF273E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56F-C67A-4B7C-B88C-CD1330ECE57A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119-91A5-463B-BCF0-2FB5DBC0CE88}" type="slidenum">
              <a:rPr b="0" lang="zh-CN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80880"/>
            <a:ext cx="595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The –ing for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构成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一般情况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rain--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结尾的动词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hope-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重读闭音节的动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stop-----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ie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结尾的动词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die-----                   lie-----  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tie----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74400" y="148896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rain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17400" y="202248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hop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560" y="31240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stopp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267080"/>
            <a:ext cx="10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d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3960" y="4191120"/>
            <a:ext cx="9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l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0600" y="4876920"/>
            <a:ext cx="9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Narrow"/>
              </a:rPr>
              <a:t>tying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9640" y="2349360"/>
            <a:ext cx="812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Walking through the park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we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saw a lot of flower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989000"/>
            <a:ext cx="79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Standing on the tower 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the whole village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could be see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84000" y="1268280"/>
            <a:ext cx="3672360" cy="4105440"/>
            <a:chOff x="2484000" y="1268280"/>
            <a:chExt cx="3672360" cy="4105440"/>
          </a:xfrm>
        </p:grpSpPr>
        <p:sp>
          <p:nvSpPr>
            <p:cNvPr id="124" name=""/>
            <p:cNvSpPr/>
            <p:nvPr/>
          </p:nvSpPr>
          <p:spPr>
            <a:xfrm flipH="1">
              <a:off x="2484000" y="1341360"/>
              <a:ext cx="3382920" cy="381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56000" y="1268280"/>
              <a:ext cx="3600360" cy="4105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03480" y="988920"/>
            <a:ext cx="769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作宾语补足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I saw  two bird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uild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a n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495288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作定语、状语、宾补的用法被称作现在分词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41200" y="2859120"/>
            <a:ext cx="597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1.-ing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表示正在发生的动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与动词宾语是主动关系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 Narrow"/>
              </a:rPr>
              <a:t>3.hear,watch,see,feel:make,hav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32000" y="1052640"/>
            <a:ext cx="7010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     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完成时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       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e was praised for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taught for 60 year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been there several time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,he offered to be our guid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8560" y="1197000"/>
            <a:ext cx="211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Arial Narrow"/>
              </a:rPr>
              <a:t>Having+-e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35280" y="3716280"/>
            <a:ext cx="5883120" cy="1556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表达的事件发生在主要动词的时间之前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9120" y="1341360"/>
            <a:ext cx="835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Having finished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the work,she went ou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190512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 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被动语态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He did it with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eing asked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The building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being built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is our librar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371600"/>
            <a:ext cx="7696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的所有格形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Mr. Lee complained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ary’s com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to class lat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Mr. Lee complained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ary coming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 to class lat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83000" y="1828800"/>
            <a:ext cx="681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否定式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Not having received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 a reply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she decided to write 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2560" y="4265640"/>
            <a:ext cx="22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33"/>
                </a:solidFill>
                <a:latin typeface="Arial Narrow"/>
              </a:rPr>
              <a:t>Not+-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00200" y="1371600"/>
            <a:ext cx="7026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比较下列每组句子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Judy alway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remembers to lock the door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remember seeing the Alps</a:t>
            </a: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 for the first tim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30481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记住去做某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28840" y="4494240"/>
            <a:ext cx="22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 Narrow"/>
              </a:rPr>
              <a:t>记得过去做过的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1600200"/>
            <a:ext cx="6019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Sam often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forgets to lock the doo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’ll never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forget seeing the Alps for the first time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47040" y="25146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忘记去做某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70520" y="4695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 Narrow"/>
              </a:rPr>
              <a:t>忘记发生的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52480" y="2057400"/>
            <a:ext cx="647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主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Collect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information is very important to busines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3880" y="1219320"/>
            <a:ext cx="701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y to learn English well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The room was hot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ied opening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e window,but that didn’t help.So 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tried turning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on the fan,but I was still hot</a:t>
            </a:r>
            <a:r>
              <a:rPr b="0" lang="en-US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480" y="6206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努力做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2200" y="5029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尝试新的方法，看是否行得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1600200"/>
            <a:ext cx="7483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ret to tell you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at you failed the t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regret lending him some money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.He never paid me back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8880" y="1143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遗憾地告诉某人某个坏消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4797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 Narrow"/>
              </a:rPr>
              <a:t>对发生在过去 的某事感到后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1600200"/>
            <a:ext cx="62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Missing the train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eans waiting for an hour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didn’t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ean to start an argumen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92200" y="114300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Narrow"/>
              </a:rPr>
              <a:t>意味着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05280" y="388620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Arial Narrow"/>
              </a:rPr>
              <a:t>打算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981080" y="1371600"/>
            <a:ext cx="6324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带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-ing </a:t>
            </a: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的动词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appreciate,advise,consider,dislike,enjoy,finish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can’t  help,keep,mind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 Narrow"/>
              </a:rPr>
              <a:t>miss,practice,sugges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1447920"/>
            <a:ext cx="8001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advised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ait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until tomorrow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appreciated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aring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from them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will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onsider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o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with you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islike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riv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long distance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03280" y="620640"/>
            <a:ext cx="73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enjoy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visiting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them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can’t help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worrying about it.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keep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hoping he will com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Would you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in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helping me with thi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miss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being with my family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1752480"/>
            <a:ext cx="69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athlet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practice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throwing the bal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She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suggested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going to a movi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143000"/>
            <a:ext cx="693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动名词用法检测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1.I would appreciate___ back this afternoo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A.you to call   B.you cal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C.your calling  D. you’re cal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4952880"/>
            <a:ext cx="2819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143000"/>
            <a:ext cx="716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I can hardly imagine Peter ___ across the Atlantic Ocean in five day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sail   B.to sail   C.sai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have sail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4191120"/>
            <a:ext cx="1752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0720" y="1600200"/>
            <a:ext cx="8153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3.____ is a good form of exercise for both young and o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he walk   B. Walk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walk     D.Wal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3809880"/>
            <a:ext cx="2438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19320" y="1676520"/>
            <a:ext cx="7256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2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宾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enjoy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learn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English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How about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meet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outside the theatr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676520" y="546120"/>
            <a:ext cx="654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4.__You were brave enough to raise objections at the meeting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Well,now I regret ___ tha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do     B. to be do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have done 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having don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647712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19320" y="762120"/>
            <a:ext cx="6933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.Only one of these books is_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worth to read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worth being rea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worth of reading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worth read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5257800"/>
            <a:ext cx="327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71600" y="1295280"/>
            <a:ext cx="7772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6.The squirrel was lucky that it just missed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atching          B.to be caugh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eing caught   D.to catch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3434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828800" y="1066680"/>
            <a:ext cx="6629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7.The boy is looking forward ___ a gif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be give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to being giv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eing give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giv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0920" y="407664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1981080"/>
            <a:ext cx="7238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8.Has the driver been used to ___in all kinds of weather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drive       B.dro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driving    D.be driv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0292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828800" y="137160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9.Do you feel like ___ or shall we go by bu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walk    B.walk  C.walking   D.to walk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28800" y="43434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133720" y="914400"/>
            <a:ext cx="5486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0.It’s no use ___ me believe you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rying making    B.trying 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rying to force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to try 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7242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752480" y="1523880"/>
            <a:ext cx="6923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1.Our teacher suggested ___ the exhibition once 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us to visit  B.our visi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visit       D.our to visi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58136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685800"/>
            <a:ext cx="67705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2.What worried the child most was ___ to visit his mother in the hospita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his not allowing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his not being a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his being not allowed   D.having not been a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4343400"/>
            <a:ext cx="5181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9120" y="1065240"/>
            <a:ext cx="767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3.As soon as he arrived home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 got down to 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developing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develop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develop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developed his film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33526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687320" y="609480"/>
            <a:ext cx="661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表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 work was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tir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试比较 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 was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tired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for the hard work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y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are danc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86400" y="4724280"/>
            <a:ext cx="376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以上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作用相当于名词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 Narrow"/>
              </a:rPr>
              <a:t>被 称作是动名词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55840" y="838080"/>
            <a:ext cx="7695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现在分词用法检测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1.European football is played 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80 countries,___ it the most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popular sport in the world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A.making       B.mak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C.made         D.to mak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457200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8000" y="760320"/>
            <a:ext cx="6755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2.She asked me to help her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 that she couldn’t mov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heavy  suitcase alon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only to realiz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realiz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having been realiz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realiz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4495680"/>
            <a:ext cx="2133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607760" y="1370160"/>
            <a:ext cx="7140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3.The salesman scolded the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girl caught ___and let her off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have stolen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to be stea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stea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steal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5867280"/>
            <a:ext cx="2590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8280" y="1065240"/>
            <a:ext cx="7698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4.There was a terrible noise 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he sudden burst of ligh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follow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be 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being follow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11480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62240" y="1566720"/>
            <a:ext cx="6586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5.Do you know the boy ___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under the big tre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lay                   B.lai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laying              D.ly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472428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34800" y="1065240"/>
            <a:ext cx="7171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6.“Can’t you read?”Mary sai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_ to the notic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angrily poin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and point angril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angrily point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and angrily point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3352680"/>
            <a:ext cx="3200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50920" y="988920"/>
            <a:ext cx="802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7.The visiting Minister express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is satisfaction with his talks,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___ that he had enjoyed his stay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her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having added    B.to ad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adding               D.add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4100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70760" y="988920"/>
            <a:ext cx="8113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8.____ a reply,he decided to writ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gain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Not receiv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Receiving no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Not having receiv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Having not receiv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4724280"/>
            <a:ext cx="4724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4240" y="912960"/>
            <a:ext cx="736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9.When he was a boy,he used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to go there and watch 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to repair bicycl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B.bicycles to be repair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bicycles being repair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.repairing bicycl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724280"/>
            <a:ext cx="5410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608480" y="1446120"/>
            <a:ext cx="6947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10.____,his face turned pal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A.Hearing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B.When hearing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C.Having heard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D.After he heard the new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5181480"/>
            <a:ext cx="5867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13000" y="907920"/>
            <a:ext cx="7197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4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定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sleep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boy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I know the man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stand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ther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81240" y="357336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1.</a:t>
            </a: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与被修饰词是主动关系 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2.</a:t>
            </a:r>
            <a:r>
              <a:rPr b="0" lang="zh-CN" sz="3600" spc="-1" strike="noStrike">
                <a:solidFill>
                  <a:srgbClr val="eaeaea"/>
                </a:solidFill>
                <a:latin typeface="Arial Narrow"/>
              </a:rPr>
              <a:t>表示 正在发生的动作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7040" y="4941720"/>
            <a:ext cx="353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a </a:t>
            </a:r>
            <a:r>
              <a:rPr b="0" lang="zh-CN" sz="4800" spc="-1" strike="noStrike">
                <a:solidFill>
                  <a:srgbClr val="ff0000"/>
                </a:solidFill>
                <a:latin typeface="Arial Narrow"/>
              </a:rPr>
              <a:t>walking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stick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736640" y="1992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03560" y="1217520"/>
            <a:ext cx="675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12.Not until Jane got off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bus did she find her walle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____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A.missing    B.missed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Narrow"/>
              </a:rPr>
              <a:t>C.losing      D.mis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26708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327680" y="1065240"/>
            <a:ext cx="778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12.When I got back hom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I saw a message pinned to the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door___ “Sorry to miss you;Will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all later.”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A.read              B.read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.to read          D.reading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556272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685800"/>
            <a:ext cx="723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              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5.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作状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They stood there </a:t>
            </a: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waiting for the bus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Walking in the street</a:t>
            </a:r>
            <a:r>
              <a:rPr b="0" lang="zh-CN" sz="4800" spc="-1" strike="noStrike">
                <a:solidFill>
                  <a:srgbClr val="ffffff"/>
                </a:solidFill>
                <a:latin typeface="Arial Narrow"/>
              </a:rPr>
              <a:t>,I saw two birds building a nes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1295280"/>
            <a:ext cx="746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作什么状语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2.-ing 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与句子主语存在主动关系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-ing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的逻辑主语与句子主语一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伴随状语表示与主要动词同时间发生， 常放在句尾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;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</a:rPr>
              <a:t>时间、原因状语常放在句子开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916280"/>
            <a:ext cx="775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Arial"/>
              </a:rPr>
              <a:t>现在分词作状语时，它逻辑上的主语必须与句子的主语一致。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50920" y="2205000"/>
            <a:ext cx="860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Walking through the park, </a:t>
            </a:r>
            <a:r>
              <a:rPr b="1" lang="en-US" sz="4800" spc="-1" strike="noStrike">
                <a:solidFill>
                  <a:srgbClr val="99ff33"/>
                </a:solidFill>
                <a:latin typeface="Arial Black"/>
              </a:rPr>
              <a:t>the  flowers</a:t>
            </a:r>
            <a:r>
              <a:rPr b="1" lang="en-US" sz="4800" spc="-1" strike="noStrike">
                <a:solidFill>
                  <a:srgbClr val="eaeaea"/>
                </a:solidFill>
                <a:latin typeface="Arial Black"/>
              </a:rPr>
              <a:t> looked very beautiful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84000" y="1268280"/>
            <a:ext cx="3672360" cy="4105440"/>
            <a:chOff x="2484000" y="1268280"/>
            <a:chExt cx="3672360" cy="4105440"/>
          </a:xfrm>
        </p:grpSpPr>
        <p:sp>
          <p:nvSpPr>
            <p:cNvPr id="119" name=""/>
            <p:cNvSpPr/>
            <p:nvPr/>
          </p:nvSpPr>
          <p:spPr>
            <a:xfrm flipH="1">
              <a:off x="2484000" y="1341360"/>
              <a:ext cx="3382920" cy="38163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56000" y="1268280"/>
              <a:ext cx="3600360" cy="4105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9:17:35Z</dcterms:created>
  <dc:creator>Legend User</dc:creator>
  <dc:description/>
  <dc:language>en-US</dc:language>
  <cp:lastModifiedBy>赵晨盼</cp:lastModifiedBy>
  <dcterms:modified xsi:type="dcterms:W3CDTF">2002-11-03T13:08:29Z</dcterms:modified>
  <cp:revision>32</cp:revision>
  <dc:subject/>
  <dc:title>PowerPoint 演示文稿</dc:title>
</cp:coreProperties>
</file>