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AC8-2DB3-4F0D-93FC-6F01AB2F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308-9681-4393-9318-4DD342BB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97A-4EF1-466B-8D00-24608F2B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536-4546-4B93-8174-67A125DD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B61-31E7-4854-93AC-34CEAC2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6A8-CA6B-4B5C-9941-60198FF2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092-A8F7-4317-9597-9937DFEF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502-F6A8-45F5-ACDF-76372E0D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5AD-778B-42B0-90A8-BCF9C14D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A7B-F492-407E-B9C3-9DA834E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45F-801E-4235-9190-4530DB1A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4EF-F471-45FC-AE1B-AB6C62B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A3D7-2E87-47DE-AFC5-4ED6FE8CF65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hyperlink" Target="http://images.webshots.com/scripts/PhotoDownload.fcgi?targetmode=&amp;photos=19013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hyperlink" Target="http://images.webshots.com/scripts/PhotoDownload.fcgi?targetmode=&amp;photos=2237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hyperlink" Target="http://images.webshots.com/scripts/PhotoDownload.fcgi?targetmode=&amp;photos=1936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hyperlink" Target="http://images.webshots.com/scripts/PhotoDownload.fcgi?targetmode=&amp;photos=5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hyperlink" Target="http://images.webshots.com/scripts/PhotoDownload.fcgi?targetmode=&amp;photos=211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hyperlink" Target="http://images.webshots.com/scripts/PhotoDownload.fcgi?targetmode=&amp;photos=637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hyperlink" Target="http://images.webshots.com/scripts/PhotoDownload.fcgi?targetmode=&amp;photos=11001" TargetMode="External"/><Relationship Id="rId3" Type="http://schemas.openxmlformats.org/officeDocument/2006/relationships/hyperlink" Target="http://images.webshots.com/scripts/PhotoDownload.fcgi?targetmode=&amp;photos=11001" TargetMode="External"/><Relationship Id="rId4" Type="http://schemas.openxmlformats.org/officeDocument/2006/relationships/hyperlink" Target="http://images.webshots.com/scripts/PhotoDownload.fcgi?targetmode=&amp;photos=1100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666633"/>
                </a:solidFill>
                <a:latin typeface="Monotype Corsiva"/>
              </a:rPr>
              <a:t>10 ROSE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9024_wallpaper280" descr="&quot;Frosted English Rose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19824_wallpaper280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590920" y="225252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5469_wallpaper280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2514600" y="225252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nd the last one for a long and healthy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19013_wallpaper280" descr="&quot;Gentle Blossom&quot; © Byron W. Moore /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e original message says tha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You should not keep this message to yourself al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648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end it 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If you send it to 2 persons,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wish will be granted within the year</a:t>
            </a:r>
            <a:r>
              <a:rPr b="0" i="1" lang="fr-CA" sz="4400" spc="-1" strike="noStrike">
                <a:solidFill>
                  <a:srgbClr val="808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Send it to 5 persons …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And your wishes will come true 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within 3 month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To 15 and more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dream will come true ...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tomorrow al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Now I am not superstitious at all,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but I do believ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If you receive this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>
                <a:solidFill>
                  <a:srgbClr val="808000"/>
                </a:solidFill>
                <a:latin typeface="Monotype Corsiva"/>
              </a:rPr>
              <a:t>It’s because you’re  a special p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at it alway feels nice to be send flowers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Send these flowers to all persons you care about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ommercialScript BT"/>
              </a:rPr>
              <a:t>Thank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4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11456_wallpaper280" descr="&quot;Rose Bridal Bouquet&quot; © SuperStock, Inc."/>
          <p:cNvPicPr/>
          <p:nvPr/>
        </p:nvPicPr>
        <p:blipFill>
          <a:blip r:embed="rId1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Book Antiqua"/>
              </a:rPr>
              <a:t>I send you 10 wishes for</a:t>
            </a:r>
            <a:br>
              <a:rPr sz="4400"/>
            </a:br>
            <a:r>
              <a:rPr b="0" i="1" lang="fr-CA" sz="9600" spc="-1" strike="noStrike">
                <a:solidFill>
                  <a:srgbClr val="808000"/>
                </a:solidFill>
                <a:latin typeface="Lucida Handwriting"/>
              </a:rPr>
              <a:t>20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rose for fri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4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8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2237_wallpaper280" descr="&quot;Rose Dew, Coos County, Oregon&quot; © Wood Sabol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2705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 second one for 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19360_wallpaper280" descr="&quot;Prime of Life&quot; ©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502_wallpaper280" descr="&quot;Rosebud&quot; © Rob Per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5527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inancial w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21101_wallpaper280" descr="&quot;Hope Blooms&quot; © SuperStock, Inc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suc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6376_wallpaper280" descr="&quot;Birthday Roses&quot; © The Image Ba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2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11001_wallpaper280" descr="&quot;True Love Forever&quot; © SuperStock, Inc."/>
          <p:cNvPicPr/>
          <p:nvPr/>
        </p:nvPicPr>
        <p:blipFill>
          <a:blip r:embed="rId5"/>
          <a:stretch/>
        </p:blipFill>
        <p:spPr>
          <a:xfrm>
            <a:off x="2286000" y="22525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Nike</cp:lastModifiedBy>
  <dcterms:modified xsi:type="dcterms:W3CDTF">2002-01-10T14:53:45Z</dcterms:modified>
  <cp:revision>38</cp:revision>
  <dc:subject/>
  <dc:title>Mots d’enfants</dc:title>
</cp:coreProperties>
</file>