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wmf" ContentType="image/x-wmf"/>
  <Override PartName="/ppt/media/image10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4.png" ContentType="image/png"/>
  <Override PartName="/ppt/media/image13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370E-4872-46FF-8B5A-717E155311C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每句之间停顿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每句之间停顿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9D0-25BB-449E-8C25-5CFC6F9D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C8F-A4F9-441D-93A6-7C498830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7E5-B9D4-4600-84DC-AD9B0046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0287-80DE-45D6-AB27-2FC53749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6B4-4C70-4DA2-B32F-1FCF90DB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FEA-CB9A-48A4-8B58-851F921A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FF4-3DD5-4425-82EF-73CBB33B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6034-4EB4-40C4-9A29-617211F5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308-B4B0-4C6A-B8A9-5683B6F1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3934-AC15-4985-A14E-463EEB39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7C6-CAE8-4C2A-980C-14DFCC93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55F8-82F4-491F-9A0D-FC42B648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3D60-CAC6-4473-90FB-C22926057D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年级  高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U22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RITAIN AND IRELAND (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6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星期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一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15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:40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讲课教师   </a:t>
            </a:r>
            <a:r>
              <a:rPr b="1" lang="zh-CN" sz="4000" spc="-1" strike="noStrike">
                <a:solidFill>
                  <a:srgbClr val="ffff66"/>
                </a:solidFill>
                <a:latin typeface="宋体"/>
              </a:rPr>
              <a:t>赖丽燕  人民大学附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79840" y="1214280"/>
            <a:ext cx="59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      on        off     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38680" y="265896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75320" y="41068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514600"/>
            <a:ext cx="58672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ondon is ______ the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outheast of Eng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Cardiff is ______ the w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Lond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306680" y="23544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74880" y="433548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03520" y="1143000"/>
            <a:ext cx="59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      on        off     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2209680"/>
            <a:ext cx="6096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 Cardiff is ______ the south    coast of Wa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re are many islands   ______ the northwest coast of Scotlan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4222t008" descr=""/>
          <p:cNvPicPr/>
          <p:nvPr/>
        </p:nvPicPr>
        <p:blipFill>
          <a:blip r:embed="rId1"/>
          <a:srcRect l="0" t="0" r="0" b="4906"/>
          <a:stretch/>
        </p:blipFill>
        <p:spPr>
          <a:xfrm>
            <a:off x="1676520" y="990720"/>
            <a:ext cx="5943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20360" y="1676520"/>
            <a:ext cx="521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ich island is larger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ritain or Irel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1228680" cy="1295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73640" y="3581280"/>
            <a:ext cx="517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The larger of the tw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islands is Brit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5680" y="1143000"/>
            <a:ext cx="4041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do the let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K” stand f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400800" y="1066680"/>
          <a:ext cx="1494000" cy="15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066680"/>
                    <a:ext cx="14940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278880" y="3048120"/>
            <a:ext cx="485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letters “UK” st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for:The United Kingd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f Great Britain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orthern Ireland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tbjx0201ZW_0029_1" descr=""/>
          <p:cNvPicPr/>
          <p:nvPr/>
        </p:nvPicPr>
        <p:blipFill>
          <a:blip r:embed="rId3"/>
          <a:srcRect l="4736" t="2955" r="5419" b="5598"/>
          <a:stretch/>
        </p:blipFill>
        <p:spPr>
          <a:xfrm>
            <a:off x="1676520" y="2895480"/>
            <a:ext cx="1447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5920" y="1073160"/>
            <a:ext cx="469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“UK” ma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p o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1494000" cy="1576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507480" y="2895480"/>
            <a:ext cx="455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 “UK” is ma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up of Scotland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ales, England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Northern Ire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0" t="0" r="15128" b="0"/>
          <a:stretch/>
        </p:blipFill>
        <p:spPr>
          <a:xfrm>
            <a:off x="1371600" y="2743200"/>
            <a:ext cx="2057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56440" y="1447920"/>
            <a:ext cx="493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capital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otl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1494000" cy="1576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82520" y="3657600"/>
            <a:ext cx="34390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Edinburg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50160" y="1371600"/>
            <a:ext cx="5973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Scotland famous f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81680" y="2362320"/>
            <a:ext cx="1494000" cy="1576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19060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4222t017" descr=""/>
          <p:cNvPicPr/>
          <p:nvPr/>
        </p:nvPicPr>
        <p:blipFill>
          <a:blip r:embed="rId2"/>
          <a:srcRect l="0" t="0" r="0" b="7689"/>
          <a:stretch/>
        </p:blipFill>
        <p:spPr>
          <a:xfrm>
            <a:off x="838080" y="4419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2438280"/>
            <a:ext cx="52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cotland is famous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s beautiful countrysi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0" y="1295280"/>
            <a:ext cx="3964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capit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Wa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1493640" cy="1576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4222t012" descr=""/>
          <p:cNvPicPr/>
          <p:nvPr/>
        </p:nvPicPr>
        <p:blipFill>
          <a:blip r:embed="rId2"/>
          <a:stretch/>
        </p:blipFill>
        <p:spPr>
          <a:xfrm>
            <a:off x="3505320" y="2971800"/>
            <a:ext cx="4114800" cy="2905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73400" y="4124160"/>
            <a:ext cx="183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ardif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47360" y="838080"/>
            <a:ext cx="4153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e there many co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es in Wa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488280" y="1143000"/>
          <a:ext cx="10839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8280" y="1143000"/>
                    <a:ext cx="1083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4222t010" descr=""/>
          <p:cNvPicPr/>
          <p:nvPr/>
        </p:nvPicPr>
        <p:blipFill>
          <a:blip r:embed="rId3"/>
          <a:stretch/>
        </p:blipFill>
        <p:spPr>
          <a:xfrm>
            <a:off x="1447920" y="2362320"/>
            <a:ext cx="6400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25880" y="1676520"/>
            <a:ext cx="2812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Unit 2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2360" y="3200400"/>
            <a:ext cx="723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RITAIN AND IREL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1523880"/>
            <a:ext cx="655308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re used to be a lot of co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mines in the south, but many of them have been closed, or are about to be clo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95280" y="990720"/>
            <a:ext cx="49532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’s the capital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gl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18280" y="114300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19060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7172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4222t004" descr=""/>
          <p:cNvPicPr/>
          <p:nvPr/>
        </p:nvPicPr>
        <p:blipFill>
          <a:blip r:embed="rId2"/>
          <a:srcRect l="0" t="0" r="0" b="5355"/>
          <a:stretch/>
        </p:blipFill>
        <p:spPr>
          <a:xfrm>
            <a:off x="1447920" y="2362320"/>
            <a:ext cx="3400200" cy="3200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59600" y="3733920"/>
            <a:ext cx="309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Times New Roman"/>
              </a:rPr>
              <a:t>London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1219320"/>
            <a:ext cx="6512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’s the population of Lond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705720" y="1523880"/>
            <a:ext cx="108432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4222t001" descr=""/>
          <p:cNvPicPr/>
          <p:nvPr/>
        </p:nvPicPr>
        <p:blipFill>
          <a:blip r:embed="rId2"/>
          <a:srcRect l="13597" t="0" r="16149" b="-3098"/>
          <a:stretch/>
        </p:blipFill>
        <p:spPr>
          <a:xfrm>
            <a:off x="1447920" y="3048120"/>
            <a:ext cx="2361960" cy="2895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62520" y="3200400"/>
            <a:ext cx="38862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It has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f seven mill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0200" y="1523880"/>
            <a:ext cx="6512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’s the capital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rthern Irel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1299960" cy="1371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20240" y="3505320"/>
            <a:ext cx="281268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Times New Roman"/>
              </a:rPr>
              <a:t>Belfast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3440" y="1676520"/>
            <a:ext cx="474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The larger of the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island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s Brit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6920" y="3581280"/>
            <a:ext cx="441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 taller of the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boys is To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95280" y="243828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ich is better of the tw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ooks, this one or that on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10666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ch is bett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is book or that boo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3809880"/>
            <a:ext cx="64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ch is the better of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wo book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is one or th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36800" y="82404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84520" y="41767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81040" y="2351160"/>
            <a:ext cx="87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28800" y="1219320"/>
            <a:ext cx="57913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ch is _______ country,   Canada  or Australia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a large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 lar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a larger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 the lar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423540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WHATNOW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15494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828800" y="1066680"/>
            <a:ext cx="579132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f the manager had to choose between the two, he would say John was _____ choi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good        B. the be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better      D. the be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75040" y="41911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55000" y="990720"/>
            <a:ext cx="562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letters “UK”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stand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United Kingdom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eat Britain and Northe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reland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0120" y="4600440"/>
            <a:ext cx="54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tands for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United States of America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4120" y="467676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US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66680" y="332100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ARS” stands for severe ac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respiratory syndr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74600" y="1371600"/>
            <a:ext cx="493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UK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 made up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ur countr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6280" y="3124080"/>
            <a:ext cx="500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ur class is made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f 29 boys and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gir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ower_of_london_and_the_city" descr=""/>
          <p:cNvPicPr/>
          <p:nvPr/>
        </p:nvPicPr>
        <p:blipFill>
          <a:blip r:embed="rId1"/>
          <a:stretch/>
        </p:blipFill>
        <p:spPr>
          <a:xfrm>
            <a:off x="1600200" y="3352680"/>
            <a:ext cx="3124080" cy="2249640"/>
          </a:xfrm>
          <a:prstGeom prst="rect">
            <a:avLst/>
          </a:prstGeom>
          <a:ln w="0">
            <a:noFill/>
          </a:ln>
        </p:spPr>
      </p:pic>
      <p:pic>
        <p:nvPicPr>
          <p:cNvPr id="53" name="tower_bridge_in_london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3124080" cy="1519200"/>
          </a:xfrm>
          <a:prstGeom prst="rect">
            <a:avLst/>
          </a:prstGeom>
          <a:ln w="0">
            <a:noFill/>
          </a:ln>
        </p:spPr>
      </p:pic>
      <p:pic>
        <p:nvPicPr>
          <p:cNvPr id="54" name="big_ben_at_sunset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276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3880" y="114300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otland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 famous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ts beautiful countrysi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4360" y="4267080"/>
            <a:ext cx="57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hina is famous for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Great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w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2240" y="2666880"/>
            <a:ext cx="518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France is famous f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erfu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27000" y="3371760"/>
            <a:ext cx="519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hina is famous as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untry with a lo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is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5400" y="1600200"/>
            <a:ext cx="483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instein is famous 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 inventor.  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83808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re used to b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lot of coal mines in the south, but many of them have been closed, or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re about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be clo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2360" y="3124080"/>
            <a:ext cx="516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re used to be a t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here, </a:t>
            </a:r>
            <a:r>
              <a:rPr b="1" i="1" lang="en-US" sz="4000" spc="-1" strike="noStrike">
                <a:solidFill>
                  <a:srgbClr val="ff99ff"/>
                </a:solidFill>
                <a:latin typeface="Times New Roman"/>
              </a:rPr>
              <a:t>but now it’s g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4880" y="4343400"/>
            <a:ext cx="466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hen you came in, 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as about to lea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79400" y="1295280"/>
            <a:ext cx="558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ndon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s a pop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f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7 mill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7960" y="2763720"/>
            <a:ext cx="523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hina has a popul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f 1.3 bill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4222t013" descr=""/>
          <p:cNvPicPr/>
          <p:nvPr/>
        </p:nvPicPr>
        <p:blipFill>
          <a:blip r:embed="rId1"/>
          <a:srcRect l="0" t="0" r="0" b="9930"/>
          <a:stretch/>
        </p:blipFill>
        <p:spPr>
          <a:xfrm>
            <a:off x="1066680" y="4267080"/>
            <a:ext cx="73152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022-2-2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2606760" cy="3505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19320" y="1295280"/>
            <a:ext cx="67816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st Irish people 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very Sunday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church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 people's liv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1143000"/>
            <a:ext cx="632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Irish _____________ music and poems. In towns and villages people ______ together in the evening to sing and play musi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733920" y="1066680"/>
            <a:ext cx="46479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y also ____ ________  to read their own poems to each 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022-1-1" descr=""/>
          <p:cNvPicPr/>
          <p:nvPr/>
        </p:nvPicPr>
        <p:blipFill>
          <a:blip r:embed="rId1"/>
          <a:stretch/>
        </p:blipFill>
        <p:spPr>
          <a:xfrm>
            <a:off x="1298520" y="1600200"/>
            <a:ext cx="2359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022-2-2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2719440" cy="3657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19320" y="1295280"/>
            <a:ext cx="67816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st Irish people 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very Sunday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church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 people's liv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47920" y="1066680"/>
            <a:ext cx="632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Irish ________________ music and poems. In towns and villages people ______ together in the evening to sing and play musi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581280" y="990720"/>
            <a:ext cx="4648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y also ____ ________  to read their own poems to each 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022-1-1" descr=""/>
          <p:cNvPicPr/>
          <p:nvPr/>
        </p:nvPicPr>
        <p:blipFill>
          <a:blip r:embed="rId1"/>
          <a:stretch/>
        </p:blipFill>
        <p:spPr>
          <a:xfrm>
            <a:off x="1298520" y="1600200"/>
            <a:ext cx="2359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21-1-1" descr=""/>
          <p:cNvPicPr/>
          <p:nvPr/>
        </p:nvPicPr>
        <p:blipFill>
          <a:blip r:embed="rId1"/>
          <a:srcRect l="6464" t="0" r="0" b="0"/>
          <a:stretch/>
        </p:blipFill>
        <p:spPr>
          <a:xfrm>
            <a:off x="1295280" y="1295280"/>
            <a:ext cx="2206800" cy="4267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42560" y="1295280"/>
            <a:ext cx="420552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ritain i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ea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Ire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09800" y="2286000"/>
            <a:ext cx="40928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ales i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w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Eng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65160" y="3429000"/>
            <a:ext cx="413100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ngland lie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outheast of Brit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71280" y="4648320"/>
            <a:ext cx="38901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ondon lie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iver Th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543800" y="1905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7543800" y="29718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7543800" y="44197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7543800" y="5181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022-2-2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2719440" cy="36576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219320" y="1295280"/>
            <a:ext cx="67816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st Irish people 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very Sunday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church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 people's liv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8040" y="990720"/>
            <a:ext cx="28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 to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6960" y="2814480"/>
            <a:ext cx="4101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l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 important p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1066680"/>
            <a:ext cx="632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Irish ________________ music and poems. In towns and villages people ______ together in the evening to sing and play musi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40640" y="1219320"/>
            <a:ext cx="32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 very fond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3440" y="28954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581280" y="990720"/>
            <a:ext cx="4648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y also ____ ________  to read their own poems to each 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022-1-1" descr=""/>
          <p:cNvPicPr/>
          <p:nvPr/>
        </p:nvPicPr>
        <p:blipFill>
          <a:blip r:embed="rId1"/>
          <a:stretch/>
        </p:blipFill>
        <p:spPr>
          <a:xfrm>
            <a:off x="1298520" y="1600200"/>
            <a:ext cx="2359080" cy="3733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657600" y="1295280"/>
            <a:ext cx="428292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35920" y="3730680"/>
            <a:ext cx="523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ydney _______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s Opera House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60480" y="3733920"/>
            <a:ext cx="29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s famous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3520" y="3279600"/>
            <a:ext cx="549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e  ____________ lea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hen it began to r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67960" y="3203640"/>
            <a:ext cx="30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ere about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2800" y="3290760"/>
            <a:ext cx="52250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Foreign language stu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_____________ in Kar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Marx's lif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9160" y="3962520"/>
            <a:ext cx="289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layed a p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51160" y="3508200"/>
            <a:ext cx="58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he is such a nice girl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 of us ___________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31160" y="4114800"/>
            <a:ext cx="249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re fond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370520" y="3203640"/>
            <a:ext cx="5946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is room is too big. W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hould ________ it 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w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1120" y="380988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div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92400" y="3733920"/>
            <a:ext cx="10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71600" y="33526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y   ________   pla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basketball every day w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y were at college.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1840" y="3279600"/>
            <a:ext cx="166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us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990720"/>
            <a:ext cx="632448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F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nd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be made up of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每单元四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divide…into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分组练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play a part in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听说重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 be fond of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学英语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39625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EFC is our English text-book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stands for  “Senior English for China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00200" y="28195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aiwan is to the east of Fuji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371600"/>
            <a:ext cx="64771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ngkong is to the south of Shangha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1640" y="3809880"/>
            <a:ext cx="49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aiwan is east of Fuji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1280" y="4572000"/>
            <a:ext cx="5071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ast of Fujian is Taiw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3880" y="2362320"/>
            <a:ext cx="64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ach unit of the book is made up of four lessons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 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06960" y="1752480"/>
            <a:ext cx="630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EFC is our English text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book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 stands for  “Seni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nglish for China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811520" y="1828800"/>
            <a:ext cx="6237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hen we have our Englis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lasses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ur teacher usu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divides us into small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d asks us to practi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peaking and listening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676520" y="1295280"/>
            <a:ext cx="5790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ur teacher says speaking and listening plays an important part in lear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 foreign language. Mo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f us are very fond of learning English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US is made up ___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fty sta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.The US is made up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of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fty sta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.______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left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indow there is a ma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f the wor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zh-CN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On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the left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indow there is a map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fter the meeting w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ver and everyone ha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ft the meeting room, he turned ____all the ligh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fter the meeting w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ver and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veryone had lef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meeting room, 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urned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 off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ll the ligh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countryside the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s  very beautiful , ____ l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f mountains and riv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2000" y="1371600"/>
            <a:ext cx="40442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uangdong lies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south of Hun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41560" y="374508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2000" y="3429000"/>
            <a:ext cx="404424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uangdong lies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south of Hun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countryside there 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ery beautiful,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with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lots   of mountains and riv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5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hanghai lies ______the Changjiang Ri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5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hanghai lies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on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the Changjian Ri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en the building was _____fire, many peop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ere trapped in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en the building was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on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fire, many peop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ere trapped in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mainland (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大陆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 Taiwan Island are separated _____the s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mainland (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大陆）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 Taiwan Island are separat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by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s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cotland is ____ the north of England; it’s part of Brit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cotland is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to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north of England; it’s part of Brit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9 . In one of his book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fessor Wang gave 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me advice ____how to improve Engli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nunci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3320" y="1523880"/>
            <a:ext cx="36583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eijing lies i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rth of Chin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7080" y="3657600"/>
            <a:ext cx="38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ina is in the e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As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9.  In one of his book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fessor Wang gave 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me advice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on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 improve Engli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nunci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first elepha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rrived ____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earch  center 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5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first elepha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rrived </a:t>
            </a:r>
            <a:r>
              <a:rPr b="1" lang="zh-CN" sz="44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at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resear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enter in 195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1.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fter the stro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arthquake happened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people had to mo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____ a safer plac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52120" y="16765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11.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After the stro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earthquake happened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the people had to mo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to 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a safer 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294920" y="1189080"/>
            <a:ext cx="303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S00554_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1905120" cy="17175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30440" y="2819520"/>
            <a:ext cx="27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1. P 32, Ex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06160" y="3809880"/>
            <a:ext cx="62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. to preview the next un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66800" y="1600200"/>
            <a:ext cx="38138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uhan lies o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angtze Riv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65240" y="31352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66440" y="3429000"/>
            <a:ext cx="419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anghai lies o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uangpu Riv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66680" y="30481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apan is on the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33680" y="2666880"/>
            <a:ext cx="87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8640" y="4724280"/>
            <a:ext cx="50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st of China lies Jap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9000" y="3886200"/>
            <a:ext cx="491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pan lies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9000" y="1371600"/>
            <a:ext cx="613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pan lies to the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2320" y="2209680"/>
            <a:ext cx="58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pan is to the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65400" y="44197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36800" y="335268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75240" y="14479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60948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ang Lingdi</cp:lastModifiedBy>
  <dcterms:modified xsi:type="dcterms:W3CDTF">2003-06-10T09:15:37Z</dcterms:modified>
  <cp:revision>699</cp:revision>
  <dc:subject/>
  <dc:title>PowerPoint Presentation</dc:title>
</cp:coreProperties>
</file>