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3.jpeg" ContentType="image/jpe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4.png" ContentType="image/png"/>
  <Override PartName="/ppt/media/image5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B17B-60B9-4E8B-98A5-C853A9B0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45B-6066-4EDB-B0E2-620D0E3B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629-89C2-4914-8481-26014266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99E-9867-4E83-86E1-CD1C560E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6F3-1D73-4086-BF68-1CD51201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DAB-1590-4F22-8ED5-038323D3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6579-5A9D-41B3-8D6A-20C284DB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92A6-E284-42E4-886F-44943D47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C208-856D-40F2-8BBF-9F102C82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A90E-3828-4357-8E0A-C755C5C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0E49-E73E-4872-870B-3E80716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3DD-2154-4D71-928E-309B2CD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ABEE-B2E8-4A0E-AE8F-E2BC9075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A781-634E-4F54-8DF5-755A3482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C327-2297-4CF5-B061-1EFCD6DC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D9F0-D826-48CE-9A37-8D18F33D0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AA13-004F-4B27-8809-8EDC24C3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F4E-0DBC-4F9C-BCAA-0526906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81BD-9DC6-47C4-9570-914D0FDE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4BA-163E-4224-9E5A-F18C9B30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B05-4ABF-4951-9919-8F4E36F4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1BF-1336-4A06-82F2-F6221F3B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781-ADC0-467C-9AFE-779ADBE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C9EC-88FD-40AF-AF37-3E57B54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76E8-3ADB-49EE-A7C5-69F7481BBA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5439-3A12-496D-B0BF-88FFCEA4DB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%20want.MPG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81080" y="68580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Unit1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Comic Sans MS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8862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LON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NTARC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343400" y="5029200"/>
            <a:ext cx="194796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352680" y="4495680"/>
            <a:ext cx="914400" cy="9144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4495680"/>
            <a:ext cx="1067040" cy="91440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-131760"/>
            <a:ext cx="8381880" cy="70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mic Sans MS"/>
              </a:rPr>
              <a:t>Scanning:True or False</a:t>
            </a:r>
            <a:r>
              <a:rPr b="1" lang="en-US" sz="3200" spc="-1" strike="noStrike">
                <a:solidFill>
                  <a:srgbClr val="339933"/>
                </a:solidFill>
                <a:latin typeface="Comic Sans MS"/>
              </a:rPr>
              <a:t> exer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(    )The author made her Antarctica expedition in December,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(    ) The weather in Antarctica was changeable, which added difficulty to he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(    ) She fell into a deep hole and fell down onto the bottom, a few hundred f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(    ) Climbing along the ropes to the sled, she quickly returned to the g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(    ) Although she was hurt, she still decided to continue her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685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0400" y="822240"/>
            <a:ext cx="14479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n November 1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403848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ut luckily she hung on the ropes which were tied to the s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56386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t took her a long time to climb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6338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ive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3200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657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5257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6400800"/>
            <a:ext cx="365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6329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38080" y="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Comic Sans MS"/>
              </a:rPr>
              <a:t>Find out some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533520"/>
            <a:ext cx="7696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5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1997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hird d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wee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v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days la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xt morning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l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5335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veled alone at the North p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143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gan her jour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18288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uggled through stormy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438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ayed in her 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048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elebrated her 60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birth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657600"/>
            <a:ext cx="533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ell into a hole and climbed  out fi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495288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d a bad accident with the sled and hurt her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6324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ave up and went back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90720" y="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urther reading: answer the following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53352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How did Helen Thayer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How did she celebrate her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143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walked ,skied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led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860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w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ed a frozen cake with a candle,sa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the top of her voice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334120"/>
            <a:ext cx="670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/>
          </p:cNvPr>
          <p:cNvSpPr/>
          <p:nvPr/>
        </p:nvSpPr>
        <p:spPr>
          <a:xfrm>
            <a:off x="1523880" y="342900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5257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y self-rescuing. Thanks to all the training she had had. She was in good health and her equipment worked well.She had strong w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7339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     How did she struggle out of the ho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id she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1295280"/>
            <a:ext cx="769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She struggled to her knees and tried every means to put the tent up and dragged her sleeping bag into the tent and lay down out of the cold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28600"/>
            <a:ext cx="7878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 How did she prevent herself from being frozen to death after the accid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3124080"/>
            <a:ext cx="81532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 Some people think Thayer’s trip was a failure. Do you think so ? When she made the final decision , which things did she take into consider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 Do you think she went ther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lo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only to celebrate he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irth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were her real purpos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66680" y="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Fill in the blan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9144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wanted to _______  my birthday in a special way. After making the necessary__________, I started the journey of _______ on Nov.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,1997. The weather in Antarctica was ________. Sometimes the wind was too_______ for us to pace any inch;sometimes terrible snow storms came _______  and I had to use my tent as  a _______. Besides, I once fell into a hole and fortunately _____  myself out. The worst was that I had a bad_______ with the sled, which forced me to _____ up my j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838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eleb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16765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rep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220968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2590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29718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3809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dde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4343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he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724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scu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5486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cc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94360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0"/>
            <a:ext cx="23623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1009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Comic Sans MS"/>
              </a:rPr>
              <a:t>What kind of woman is Helen Thayer?    What can you learn from 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8077320" y="5181480"/>
            <a:ext cx="1066680" cy="1676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90720" y="213372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ve, strong, responsible, confident, optimistic, strong will, never give up, give in to difficulty, like challeng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3429000"/>
            <a:ext cx="3429000" cy="1523880"/>
          </a:xfrm>
          <a:prstGeom prst="irregularSeal2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3886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omic Sans MS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800600"/>
            <a:ext cx="710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roup work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e  an interview to Helen Thayer. One acts as Helen Thayer. The other three act as  reporters or journa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76520" y="41911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00600"/>
            <a:ext cx="8076960" cy="1749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ME WORK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rite down some sentences to describe Helen Th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95280" y="5257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Comic Sans MS"/>
              </a:rPr>
              <a:t>Helen Th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179280"/>
            <a:ext cx="4267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She is a cross country ski racer and climber. She walked and skied alone to the North Pole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88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at the age of 50 and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2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she returned to the North Pole again. 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5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she wrote a book about her journey to the pole named </a:t>
            </a:r>
            <a:r>
              <a:rPr b="1" i="1" lang="en-US" sz="2800" spc="-1" strike="noStrike">
                <a:solidFill>
                  <a:srgbClr val="6600cc"/>
                </a:solidFill>
                <a:latin typeface="Comic Sans MS"/>
              </a:rPr>
              <a:t>POLAR DREAM. 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997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, Helen spent her 60</a:t>
            </a:r>
            <a:r>
              <a:rPr b="1" lang="en-US" sz="2800" spc="-1" strike="noStrike" baseline="30000">
                <a:solidFill>
                  <a:srgbClr val="6600cc"/>
                </a:solidFill>
                <a:latin typeface="Comic Sans MS"/>
              </a:rPr>
              <a:t>th</a:t>
            </a: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 birthday traveling alone in </a:t>
            </a: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Antar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362320" y="762120"/>
          <a:ext cx="56386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762120"/>
                    <a:ext cx="56386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600200" y="5638680"/>
            <a:ext cx="632448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ntarctic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the Sou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762120"/>
            <a:ext cx="571500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ctic( the North Po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47920" y="42670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engu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olar  b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762120"/>
            <a:ext cx="335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on the   North Po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105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(only in Antarctic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791320"/>
            <a:ext cx="8839080" cy="1068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cy wind ,sunshine 24h ,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orm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,90 degrees below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tremel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c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3120" y="4572000"/>
            <a:ext cx="611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62132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867280"/>
            <a:ext cx="8915400" cy="94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re are little human activities because of the extreme clim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19920"/>
            <a:ext cx="7391160" cy="579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2120" y="6019920"/>
            <a:ext cx="7924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anger is just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round the corne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9404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068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Skimming (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lone in Antarctica</a:t>
            </a:r>
            <a:r>
              <a:rPr b="1" lang="en-US" sz="4400" spc="-1" strike="noStrike">
                <a:solidFill>
                  <a:srgbClr val="3333ff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990720"/>
            <a:ext cx="76964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is the main idea of this t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What dangers did she meet with while travelling in Antarc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5238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Helen traveled alone in Antarctica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ccessfully overcame the difficulty s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4800600"/>
            <a:ext cx="8229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oo strong 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lling into a ho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 bad accident with the sled and hurt her leg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7:28:57Z</dcterms:created>
  <dc:creator>njsz_personal</dc:creator>
  <dc:description/>
  <dc:language>en-US</dc:language>
  <cp:lastModifiedBy>zy</cp:lastModifiedBy>
  <dcterms:modified xsi:type="dcterms:W3CDTF">2005-03-27T13:00:39Z</dcterms:modified>
  <cp:revision>13</cp:revision>
  <dc:subject/>
  <dc:title>PowerPoint 演示文稿</dc:title>
</cp:coreProperties>
</file>