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9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10.png" ContentType="image/png"/>
  <Override PartName="/ppt/media/chimes.wav" ContentType="audio/x-wav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415-2BF3-4E8C-8C86-9A5C2975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7AD-F226-4685-9E41-DC517472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0FD-52FE-4F26-89D3-935F0DE5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1DC-C234-42DD-8A8E-E5DF97BC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04E-B262-48EA-A0ED-03E8929B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259-4C44-425C-9EB9-B67E8693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C28-9902-4ED7-AEF8-543D61E9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DBE-22A4-4577-A8EC-77BAF85B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13E-837C-422F-A9C3-FD791F21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877-27D7-4FB5-AB8D-B428BF08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BE6-819B-4A08-B60D-FB4D9229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55D-290D-469A-8818-652BB3B5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F92E-5762-4888-A920-AEF608D762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1219320"/>
            <a:ext cx="937260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Unit25 What do  you lik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Lesson9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9720" y="487692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讲人：刘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360" y="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sten and writ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106668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6858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2096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39625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6858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4960" y="83808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7040" y="144792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3400" y="274320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7760" y="457200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Meim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2440" y="914400"/>
            <a:ext cx="209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k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ery mu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9040" y="914400"/>
            <a:ext cx="132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k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3040" y="892080"/>
            <a:ext cx="185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on’t lik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74720" y="2276640"/>
            <a:ext cx="168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t d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ump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8360" y="26668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14280" y="25812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560" y="4267080"/>
            <a:ext cx="19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ato c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680" y="4267080"/>
            <a:ext cx="168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od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2400" y="4267080"/>
            <a:ext cx="108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20" y="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ading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71400" y="60660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erci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9720" y="1219320"/>
            <a:ext cx="85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ll the following sentences right(R) or wrong(W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960" y="2305080"/>
            <a:ext cx="80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.Li Shan is from a family of four people.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97880" y="22860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9760" y="2895480"/>
            <a:ext cx="64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.They like to eat the same food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4000" y="28954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0480" y="3505320"/>
            <a:ext cx="63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3.Li Shan likes meat very much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326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7680" y="35053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8680" y="419112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4.Li Shan’s father is from Shanghai.(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3480" y="41911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560" y="495288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5.Li Shan’s mother likes fish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40480" y="49528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382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3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0" y="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erci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9388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选择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52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68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8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84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0" y="990720"/>
            <a:ext cx="255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iscu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960" y="2438280"/>
            <a:ext cx="865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at does your mother/father like to 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es your mother/father like to eat…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ere is your mother/father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60" y="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51920" y="431640"/>
            <a:ext cx="30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Homewor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0440" y="1905120"/>
            <a:ext cx="717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rite a letter to Li Shan t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you li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22040" y="2452680"/>
            <a:ext cx="47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Bye-bye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4:12:16Z</dcterms:created>
  <dc:creator>Pyq</dc:creator>
  <dc:description/>
  <dc:language>en-US</dc:language>
  <cp:lastModifiedBy>MS User</cp:lastModifiedBy>
  <dcterms:modified xsi:type="dcterms:W3CDTF">2006-03-16T14:12:13Z</dcterms:modified>
  <cp:revision>36</cp:revision>
  <dc:subject/>
  <dc:title>PowerPoint 演示文稿</dc:title>
</cp:coreProperties>
</file>