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394-2022-4DF0-BC99-44BCDDE1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19A-2491-42DB-BE38-1989EDFB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0EE-7B94-4672-9784-21C08BA8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3DF-88FA-47C5-8CEB-C419AAD6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B23A-310C-469A-BA76-310A9229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7FBF-AD5A-4788-8B26-EA7F5DF1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E4AD-B07A-4C9E-90F5-4F88AB2E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444E-C941-47B4-8407-A6C00BE9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7F24-BE6D-44E2-9A69-2840982F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E64D-4B5C-4A12-8174-CE8B563D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8BC5-1165-48C3-8BD6-CFFEE855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1ABD-3F60-4920-8D70-752E4513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A7C2-15E1-46D4-B25B-FD4F4BF6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B46A-0E6C-49E8-80A5-F353A3B0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676C-5F22-49FA-AF28-03E3E384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27C0-EF4E-43B3-99B6-7A850E98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6781-FB91-4E32-A987-DEB3B0E9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44F-6FCD-491C-BEF7-5959D4E3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BB4-A2A5-4897-A619-70E71545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E38-0F49-45E8-A636-AB09C344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A86-730E-4011-B8EF-6FAC88AD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7B2-E632-445B-897B-26E4D81B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C8A-0BDE-45D7-8A33-8DCB9D6A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38A-9F00-4B24-851C-83CD03EF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8251-05C6-4602-8FDD-818E78217A2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7B69-DF3A-4C8D-B760-BEF3D41A5B9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842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 Black"/>
              </a:rPr>
              <a:t>English Idioms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格说，英语中没有中国式的歇后语。中国式歇后语前半句通常为比喻，后半句为本意，如猪八戒照镜子（里外不是人） ；和尚打伞（无法无天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另一类不涉及比喻或谐音，而是日常俗语，耳熟能详，不必说完，听者已可领会，如三人同行（必有吾师）。英语中不乏实例。请补完下半句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3049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.A bird in 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. A friend in n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.A penny sa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.A stitch in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.An apple a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.Ask not what your country do for yo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.Better to have loved and 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.Birds of a fea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9.Damned if you d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.Don’t count your chick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24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worth two in the bu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friend in de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1371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penny ear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43240" y="1943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ves n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2514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eps the doctor a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k what you can do for your count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720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n never to have loved at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4724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 toge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257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mned if you don’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5791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they are hatch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5335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1.Don’t call u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2.Finders keeper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3.Fool me once, shame on yo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4.He is a Jack of all tr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5.Hope for the bes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6.If you can’t beat th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7.If you can’t stand the h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8.If the shoe fit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.If the mountain cannot come to Mohamme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.Man propos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we’ll call yo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08576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ers weep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1676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l me twice, shame on 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aster of n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276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prepare for the wor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90840" y="32767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i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3809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y out of the kitch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r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49528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hammed will go to the mount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603900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d dispo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.One man’s m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2.Penny wis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3.Speak of the de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4.The grass is always greener on the other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.There but for the grace of the G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6.To err is huma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7.Too many coo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8.Two’s compa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.United we stan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0.we must learn to w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10000" y="4953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nother man’s poi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990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und fooli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429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 devil is sure to app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2133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f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2666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 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3219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forgive, div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95520" y="3753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spoil the bro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43243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’s a crow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52760" y="48578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ded, we f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410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we can ru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60948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1.What goes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2.When poverty comes in at the d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3.When in 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4.When the cat is a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5.When the going gets toug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6.Where there is a wi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7.Where there’s smok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8.With friends like hi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9.You can catch more flies with hone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0.You scratch my back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609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t come dow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143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ve flies out of the wind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733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what the Romans 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ice will pl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6200" y="2819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ugh get go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352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is a 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36840" y="388620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’s a fi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4419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needs enem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5029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n with vineg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5543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I’ll scratch yo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90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Thanks for your attention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71800"/>
            <a:ext cx="914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CAN YOU THINK 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MORE IDIO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LIKE THES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/>
  <dc:description/>
  <dc:language>en-US</dc:language>
  <cp:lastModifiedBy>w</cp:lastModifiedBy>
  <dcterms:modified xsi:type="dcterms:W3CDTF">2003-10-31T01:18:42Z</dcterms:modified>
  <cp:revision>2</cp:revision>
  <dc:subject/>
  <dc:title>English Idioms</dc:title>
</cp:coreProperties>
</file>