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82261-B6F8-436E-8F58-BBAA5BD43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935D9-90A3-4263-94CF-E197161B9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6A7B7-8D5E-48FA-AE40-AD924398C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E1E5C-88A1-40BD-B31F-A60849DE4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A8587-D81D-46CF-A6C8-39281C43C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6F42F-E528-4F8D-9803-8AA42958A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BF89E-D3C2-4A63-9440-4E78E9EC7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427D5-3D31-49F0-976E-5EEDE1B4E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7A71A-770B-436A-A806-F2AEA56DF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57AD1-20BD-4A48-8B2B-60A93C47A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932C3-662C-4A46-83BA-A24250B44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2036F-D604-4011-B014-9220D5BF0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7298C-33B9-4156-9870-D1F8BE90E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C8BC0-E702-4631-91F5-46F4EE6F5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885EA-B7C3-418C-A1BA-447A51588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E70E8-73C5-4AE9-ABDB-B13069A10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E1A6E-43C4-42CC-B631-01A5DAAF4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F74A5-84E5-4C72-8A71-CC10E7527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167F9-D5EB-4792-A9A9-F6B939526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78F41-1692-49AC-BEF0-36E3CE2E1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8CC33-A81F-4477-AE69-05649DC56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EB43C-A2F9-4820-B9AC-004B657BC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39CC4-361B-4DF0-98EA-307A41B6B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D3DC7-76BB-4D52-B9AE-183960984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2B8AD-372D-4A39-9DAD-E61CD0DEB96A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FDEE7-71BF-49DB-ACE3-974045551B08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Internet%20Explorer%20墙纸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304920" y="304920"/>
            <a:ext cx="815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33"/>
                </a:solidFill>
                <a:latin typeface="Times New Roman"/>
                <a:ea typeface="华文行楷"/>
              </a:rPr>
              <a:t>定语从句</a:t>
            </a:r>
            <a:r>
              <a:rPr b="0" lang="zh-CN" sz="7200" spc="-1" strike="noStrike">
                <a:solidFill>
                  <a:srgbClr val="ff0000"/>
                </a:solidFill>
                <a:latin typeface="华文行楷"/>
                <a:ea typeface="华文行楷"/>
              </a:rPr>
              <a:t>专题讲座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1143000" y="5943600"/>
            <a:ext cx="67816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行楷"/>
              </a:rPr>
              <a:t>XZ Middle School</a:t>
            </a:r>
            <a:endParaRPr b="1" i="1" lang="en-US" sz="40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行楷"/>
              <a:ea typeface="华文行楷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8610480" y="6248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304920"/>
            <a:ext cx="9144000" cy="36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3.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   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She has two brothers,who are both doctor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4.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   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Last Saturday they reached Shanghai,where a meeting</a:t>
            </a:r>
            <a:br>
              <a:rPr sz="2000"/>
            </a:br>
            <a:br>
              <a:rPr sz="2000"/>
            </a:b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is to be hel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2.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     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在非限制性定语从句中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as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与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which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可以在整个主句作为其先行词</a:t>
            </a:r>
            <a:br>
              <a:rPr sz="2000"/>
            </a:br>
            <a:br>
              <a:rPr sz="2000"/>
            </a:b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指代上面或下面说的一件事，其区别如下：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1.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   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a.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从意义上来看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which(=and this/that)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可以译为“这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/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那”</a:t>
            </a:r>
            <a:br>
              <a:rPr sz="2000"/>
            </a:br>
            <a:br>
              <a:rPr sz="2000"/>
            </a:b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as(=in accordance with what)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译为“正如、象”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4038480"/>
            <a:ext cx="91440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He is a teacher,which(=as)is clear from his manner</a:t>
            </a:r>
            <a:br>
              <a:rPr sz="2000"/>
            </a:br>
            <a:br>
              <a:rPr sz="2000"/>
            </a:b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或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He is a teacher,as(=which)can be seen from his manner.</a:t>
            </a:r>
            <a:br>
              <a:rPr sz="2000"/>
            </a:br>
            <a:br>
              <a:rPr sz="2000"/>
            </a:b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The student forgot to bring his dictionary,as is often</a:t>
            </a:r>
            <a:br>
              <a:rPr sz="2000"/>
            </a:br>
            <a:br>
              <a:rPr sz="2000"/>
            </a:b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the case.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（此句中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as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不能用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which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代。）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380880"/>
            <a:ext cx="9252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.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  2  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b.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从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as,which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在非限制性定语从句中的位置和作用来看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as</a:t>
            </a:r>
            <a:br>
              <a:rPr sz="2000"/>
            </a:br>
            <a:br>
              <a:rPr sz="2000"/>
            </a:b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引导的从句可置于主句之前，亦可置于主句之后，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which</a:t>
            </a:r>
            <a:br>
              <a:rPr sz="2000"/>
            </a:br>
            <a:br>
              <a:rPr sz="2000"/>
            </a:b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一般置于主句之后。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1981080"/>
            <a:ext cx="9144000" cy="40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E.g.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1.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    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This poem is written by Scott,as almost everybody knows.</a:t>
            </a:r>
            <a:br>
              <a:rPr sz="2000"/>
            </a:br>
            <a:br>
              <a:rPr sz="2000"/>
            </a:b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or:This poem,which almost everybody knows,is written by Scott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2.   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Oceans cover more than 70 percent of the earth,as we have seen.</a:t>
            </a:r>
            <a:br>
              <a:rPr sz="2000"/>
            </a:br>
            <a:br>
              <a:rPr sz="2000"/>
            </a:b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or:As is well-known to us all ,oceans cover more  than 70 percent of the earth.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但不可译为：</a:t>
            </a:r>
            <a:br>
              <a:rPr sz="2000"/>
            </a:br>
            <a:br>
              <a:rPr sz="2000"/>
            </a:b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Which is well-know to us all,oceans cover more</a:t>
            </a:r>
            <a:br>
              <a:rPr sz="2000"/>
            </a:br>
            <a:br>
              <a:rPr sz="2000"/>
            </a:b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than 70 percent of the earth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0"/>
            <a:ext cx="9144000" cy="454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一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.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用适当的关系代词或关系副词：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1.Yesterday I met doctor Wang _____told me the good news of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　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his son's passing the examination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2.The two pupils______ you taught three yeas ago have becom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　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teachers.</a:t>
            </a:r>
            <a:br>
              <a:rPr sz="2000"/>
            </a:br>
            <a:br>
              <a:rPr sz="2000"/>
            </a:b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3.He began to work in Beijing in the year______ New China i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　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founded.</a:t>
            </a:r>
            <a:br>
              <a:rPr sz="2000"/>
            </a:br>
            <a:br>
              <a:rPr sz="2000"/>
            </a:b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4.I don't know the reason______ she did n't agree to our plan.</a:t>
            </a:r>
            <a:br>
              <a:rPr sz="2000"/>
            </a:br>
            <a:br>
              <a:rPr sz="2000"/>
            </a:b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5.This is a soldier________ died in the war of Resistan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886200" y="22860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Who,tha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905120" y="1676520"/>
            <a:ext cx="32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33"/>
                </a:solidFill>
                <a:latin typeface="Times New Roman"/>
              </a:rPr>
              <a:t>Who / that / who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952880" y="250668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33"/>
                </a:solidFill>
                <a:latin typeface="Times New Roman"/>
              </a:rPr>
              <a:t>wh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124080" y="3429000"/>
            <a:ext cx="19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33"/>
                </a:solidFill>
                <a:latin typeface="Times New Roman"/>
              </a:rPr>
              <a:t>wh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362320" y="388620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</a:rPr>
              <a:t>Who/th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0" y="0"/>
            <a:ext cx="9144000" cy="46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6.He told everything    ________he had seen in the traffic accident.</a:t>
            </a:r>
            <a:br>
              <a:rPr sz="2000"/>
            </a:br>
            <a:br>
              <a:rPr sz="2000"/>
            </a:b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7.This was the best model of the TV set_________ the facto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　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produced 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　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last year.</a:t>
            </a:r>
            <a:br>
              <a:rPr sz="2000"/>
            </a:br>
            <a:br>
              <a:rPr sz="2000"/>
            </a:b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8.They have visited the Museum of Chinese History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　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___________Premier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z h o u ‘ s life and deeds are being shown.</a:t>
            </a:r>
            <a:br>
              <a:rPr sz="2000"/>
            </a:br>
            <a:br>
              <a:rPr sz="2000"/>
            </a:b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9.Alice,_______dress is all red, looks very pretty.</a:t>
            </a:r>
            <a:br>
              <a:rPr sz="2000"/>
            </a:br>
            <a:br>
              <a:rPr sz="2000"/>
            </a:b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10.The first thing ________I am going to do this evening is to write a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　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report about the experiment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66880" y="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</a:rPr>
              <a:t>th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029200" y="6094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</a:rPr>
              <a:t>th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09480" y="205740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33"/>
                </a:solidFill>
                <a:latin typeface="Times New Roman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143000" y="2666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33"/>
                </a:solidFill>
                <a:latin typeface="Times New Roman"/>
              </a:rPr>
              <a:t>who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286000" y="335268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33"/>
                </a:solidFill>
                <a:latin typeface="Times New Roman"/>
              </a:rPr>
              <a:t>th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2313000"/>
            <a:ext cx="952488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0456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33"/>
                </a:solidFill>
                <a:latin typeface="Times New Roman"/>
                <a:ea typeface="华文新魏"/>
              </a:rPr>
              <a:t>           </a:t>
            </a:r>
            <a:r>
              <a:rPr b="1" lang="zh-CN" sz="3200" spc="-1" strike="noStrike">
                <a:solidFill>
                  <a:srgbClr val="ff0033"/>
                </a:solidFill>
                <a:latin typeface="Times New Roman"/>
                <a:ea typeface="华文新魏"/>
              </a:rPr>
              <a:t>学习定语从句的关键是如何选择关联词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。关联词在句中作状语就应使用关系副词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.(where, when ,why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等。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)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否则使用关系代词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(who ,whom, whose,which, that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等。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33"/>
                </a:solidFill>
                <a:latin typeface="Times New Roman"/>
                <a:ea typeface="华文新魏"/>
              </a:rPr>
              <a:t>二、</a:t>
            </a:r>
            <a:r>
              <a:rPr b="1" lang="zh-CN" sz="2800" spc="-1" strike="noStrike">
                <a:solidFill>
                  <a:srgbClr val="ff0033"/>
                </a:solidFill>
                <a:latin typeface="Arial"/>
                <a:ea typeface="华文新魏"/>
              </a:rPr>
              <a:t>由</a:t>
            </a:r>
            <a:r>
              <a:rPr b="1" lang="zh-CN" sz="2800" spc="-1" strike="noStrike">
                <a:solidFill>
                  <a:srgbClr val="ff0033"/>
                </a:solidFill>
                <a:latin typeface="Arial"/>
                <a:ea typeface="华文新魏"/>
              </a:rPr>
              <a:t>who,whom,whose</a:t>
            </a:r>
            <a:r>
              <a:rPr b="1" lang="zh-CN" sz="2800" spc="-1" strike="noStrike">
                <a:solidFill>
                  <a:srgbClr val="ff0033"/>
                </a:solidFill>
                <a:latin typeface="Arial"/>
                <a:ea typeface="华文新魏"/>
              </a:rPr>
              <a:t>引导的定语从句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：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(who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作主语，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whom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作宾语，         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whose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用作定语，同时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whose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还可以指物，相当于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of which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。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)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e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.g.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This is the doctor who saved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the baby's lif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He is the student whom the teacher praised at the meeting.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0456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一、           在复句中修饰名词或代词的从句叫做定语从句。需要学习和掌握的</a:t>
            </a:r>
            <a:br>
              <a:rPr sz="2800"/>
            </a:b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定语从句有以下三种：由关系代词或关系副词引导的定语从句。由介词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+which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引导的定语从句。非限制性定语从句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228600"/>
            <a:ext cx="9144000" cy="49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1.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    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I know the girl whose mother died a year ag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2.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    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Have you seen the notebook whose cover is black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33"/>
                </a:solidFill>
                <a:latin typeface="Arial"/>
                <a:ea typeface="华文新魏"/>
              </a:rPr>
              <a:t>三、由</a:t>
            </a:r>
            <a:r>
              <a:rPr b="0" lang="zh-CN" sz="3200" spc="-1" strike="noStrike">
                <a:solidFill>
                  <a:srgbClr val="ff0033"/>
                </a:solidFill>
                <a:latin typeface="Arial"/>
                <a:ea typeface="华文新魏"/>
              </a:rPr>
              <a:t>which</a:t>
            </a:r>
            <a:r>
              <a:rPr b="0" lang="zh-CN" sz="3200" spc="-1" strike="noStrike">
                <a:solidFill>
                  <a:srgbClr val="ff0033"/>
                </a:solidFill>
                <a:latin typeface="Arial"/>
                <a:ea typeface="华文新魏"/>
              </a:rPr>
              <a:t>引导的定语从句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：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(which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在从句中作主语或谓语动词的宾 语。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E.g.1.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    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This is the store which opens all nigh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2.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    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This is the pen which my brother bought for 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3.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    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Is this the House in which Lu X un once lived?</a:t>
            </a:r>
            <a:br>
              <a:rPr sz="2800"/>
            </a:b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(or Is this the house which Lu X un once lived in?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4.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    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This is the magazine which you are looking fo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0"/>
            <a:ext cx="9144000" cy="45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Notes: which,whom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在从句中作介词的宾语时，介词一般可置                                                                                                                                                                                                                                                    关系代词之前或放在从句原来的位置。但在含有介词的动词固定短语中介词只能放在原来的位置上，而不能放在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which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之前，如例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则不能改为</a:t>
            </a:r>
            <a:br>
              <a:rPr sz="2800"/>
            </a:b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This is the magazine for which you are look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3.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    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He lives in a room whose window opens to the south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629400" cy="242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33"/>
                </a:solidFill>
                <a:latin typeface="Arial"/>
                <a:ea typeface="华文新魏"/>
              </a:rPr>
              <a:t>四由</a:t>
            </a:r>
            <a:r>
              <a:rPr b="1" lang="zh-CN" sz="3200" spc="-1" strike="noStrike">
                <a:solidFill>
                  <a:srgbClr val="ff0033"/>
                </a:solidFill>
                <a:latin typeface="Arial"/>
                <a:ea typeface="华文新魏"/>
              </a:rPr>
              <a:t>that</a:t>
            </a:r>
            <a:r>
              <a:rPr b="1" lang="zh-CN" sz="3200" spc="-1" strike="noStrike">
                <a:solidFill>
                  <a:srgbClr val="ff0033"/>
                </a:solidFill>
                <a:latin typeface="Arial"/>
                <a:ea typeface="华文新魏"/>
              </a:rPr>
              <a:t>引导的定语从句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,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可以指人或物，代替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who,whom,which.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1.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    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在定语从句中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that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在从句中作主语、宾语，但不能放在介词后作介词宾语：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、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1676520"/>
            <a:ext cx="8381880" cy="28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E.g.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1.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   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This is the photo(that/which)I took in Beijing last year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2.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   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This is the man(that/who)lives next door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3.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   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Is this the professor that you talked about yesterday?</a:t>
            </a:r>
            <a:br>
              <a:rPr sz="2000"/>
            </a:br>
            <a:br>
              <a:rPr sz="2000"/>
            </a:b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(about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不能放在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that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前面。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4648320"/>
            <a:ext cx="6858000" cy="114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但下列情况只能用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that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1. 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序数词或最高级形容词修饰先行词时用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that</a:t>
            </a:r>
            <a:r>
              <a:rPr b="0" lang="zh-CN" sz="1300" spc="-1" strike="noStrike">
                <a:solidFill>
                  <a:srgbClr val="ffffff"/>
                </a:solidFill>
                <a:latin typeface="Arial"/>
              </a:rPr>
              <a:t>。</a:t>
            </a:r>
            <a:r>
              <a:rPr b="0" lang="zh-CN" sz="13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304920"/>
            <a:ext cx="9144000" cy="41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E.g.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1.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   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This is one of the best novels that I have ever rea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2.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   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The first English song that I learned was ABC so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2.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   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All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 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much,everything,nothing,something,anything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作先行词时用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that.(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但先行词是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everybody,everyone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时应用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who,one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指人时也用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who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。）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9144000" cy="39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E.g.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1.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   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Everything that we saw at the exhibition greatly</a:t>
            </a:r>
            <a:br>
              <a:rPr sz="2000"/>
            </a:br>
            <a:br>
              <a:rPr sz="2000"/>
            </a:b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interested u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2.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   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Is there anything that belongs to you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3.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   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All that we need is more tim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4.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   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Nothing that the parents do does n't influence </a:t>
            </a:r>
            <a:br>
              <a:rPr sz="2000"/>
            </a:br>
            <a:br>
              <a:rPr sz="2000"/>
            </a:b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their children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3.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    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先行词为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any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、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no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、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only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、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very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等修饰时用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that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9144000" cy="28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E.g.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1.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   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That is the only way that we can find at present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2.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   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This is the twelfth letter that she has received from him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3.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   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This is the very museum that we visited for the first tim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4.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    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that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可以用来引导限制性定语从句，当它在从句中作介宾时，</a:t>
            </a:r>
            <a:br>
              <a:rPr sz="2000"/>
            </a:br>
            <a:br>
              <a:rPr sz="2000"/>
            </a:b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介词应后移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438280"/>
            <a:ext cx="9144000" cy="222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E.g.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This is the good student that the teachers talked about </a:t>
            </a:r>
            <a:br>
              <a:rPr sz="2000"/>
            </a:br>
            <a:br>
              <a:rPr sz="2000"/>
            </a:b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just now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5.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    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先行词既指人又指物的并列名词时，用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that.</a:t>
            </a:r>
            <a:r>
              <a:rPr b="1" lang="zh-CN" sz="13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286000" y="5411880"/>
            <a:ext cx="457200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9144000" cy="32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E.g.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My mother and her old friends talked of the things  and persons </a:t>
            </a:r>
            <a:br>
              <a:rPr sz="2000"/>
            </a:br>
            <a:br>
              <a:rPr sz="2000"/>
            </a:b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that they remembered in the school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、</a:t>
            </a:r>
            <a:r>
              <a:rPr b="1" lang="zh-CN" sz="3200" spc="-1" strike="noStrike">
                <a:solidFill>
                  <a:srgbClr val="ff0033"/>
                </a:solidFill>
                <a:latin typeface="Times New Roman"/>
                <a:ea typeface="华文新魏"/>
              </a:rPr>
              <a:t>非限制性定语从句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限制性定语从句对先行词起限制作用，而非限制性定语从句是对概 念</a:t>
            </a:r>
            <a:br>
              <a:rPr sz="2000"/>
            </a:br>
            <a:br>
              <a:rPr sz="2000"/>
            </a:b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清楚的先行词加以追加阐述或补充说明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276720"/>
            <a:ext cx="9977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1.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     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非限制性定语从句一般用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which/who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引导而不用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that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或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what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引导，</a:t>
            </a:r>
            <a:br>
              <a:rPr sz="2000"/>
            </a:br>
            <a:br>
              <a:rPr sz="2000"/>
            </a:b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作宾语的关系代词不能省略，从句与主句用逗号分开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4038480"/>
            <a:ext cx="9144000" cy="227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华文新魏"/>
              </a:rPr>
              <a:t>E.g.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华文新魏"/>
              </a:rPr>
              <a:t>1.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   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华文新魏"/>
              </a:rPr>
              <a:t>Yesterday I saw your brother,who told me the good news 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华文新魏"/>
              </a:rPr>
              <a:t>of your mother's recovery from her illnes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华文新魏"/>
              </a:rPr>
              <a:t>2.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   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华文新魏"/>
              </a:rPr>
              <a:t>I went to see their new house,which I liked very much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8T08:21:01Z</dcterms:created>
  <dc:creator>swh</dc:creator>
  <dc:description/>
  <dc:language>en-US</dc:language>
  <cp:lastModifiedBy>we</cp:lastModifiedBy>
  <dcterms:modified xsi:type="dcterms:W3CDTF">2002-06-22T23:15:22Z</dcterms:modified>
  <cp:revision>11</cp:revision>
  <dc:subject/>
  <dc:title>PowerPoint 演示文稿</dc:title>
</cp:coreProperties>
</file>