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F94-7E96-4CE4-A56E-EE065E00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914-9965-4FB8-8099-6B5D7B54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651A-75C7-48E6-AF23-C3EDA05A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AD5F-B477-4AF8-89A9-DF3C2E83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BB9D-E040-4D21-B4DB-3331A124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4034-5433-401E-B887-4C63102E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CBE3-0ECE-4C1A-B6C9-4A82C607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6FF-258B-4510-B589-0A529788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5B24-3A8E-4E2E-9D46-E74DCB4E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D8B-A648-48D4-8561-101BEC12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353-F375-4695-B83D-33982AF8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E47-C00A-4BF1-9DFC-D441B212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012E-B7C7-479F-B2C9-19FB96760E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2209680"/>
            <a:ext cx="5486400" cy="16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Unit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Making a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4267080"/>
            <a:ext cx="54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rming u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sten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95280" y="1828800"/>
            <a:ext cx="6934320" cy="33199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read some famous quotes and think abo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What do they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explain them in your own wo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Do you agree with them? Why or wh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1981080"/>
            <a:ext cx="7543800" cy="11692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agination is more important than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bert Eins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3429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want to succeed,it’s more important for you to have imagination than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66680" y="1752480"/>
            <a:ext cx="7086600" cy="15958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ius is one percent inspiration and ninety-nine percent perspi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mas Alva Ed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3886200"/>
            <a:ext cx="7086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f we make great efforts to do something, we’ll succ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o matter how clever he is, a person will fail if he doesn’t try his b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1447920"/>
            <a:ext cx="6781680" cy="15958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hing in life is to be feared. It is only to be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e Cu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335268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thing to be feared in the world,while there are only things to be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1676520"/>
            <a:ext cx="7010280" cy="15958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takes a very unusual mind to undertake analysis of the obv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fred North White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365760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explore or study the obvious things is not so easy. It needs a very unusual mind, that is to say,original ideas and opin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1600200"/>
            <a:ext cx="6629400" cy="15958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ou cannot teach a man anything;you can only help him find it within him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alileo Galil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3526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not teach a man anything; you can only help him discover something by himself or help him teach him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676520" y="160020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Discus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2514600"/>
            <a:ext cx="6400800" cy="18180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makes a scientist success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y have in comm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list of good qualities they h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429000" y="12952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Listen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286000"/>
            <a:ext cx="6858000" cy="28933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n fir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着火，燃烧着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house was on f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衷于，充满热情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se students are on fire for what they are learning in the comput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1143000"/>
            <a:ext cx="3048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Debat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22860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22860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2590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971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Biology    2.Maths      3.Physics       4.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3581280"/>
            <a:ext cx="72388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te your point of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think that biology is the most important and useful science,becau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asons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……                2. ……                 3.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52480" y="1143000"/>
            <a:ext cx="601992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an who is called the greatest scientist in the 2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133720" y="2438280"/>
            <a:ext cx="4495680" cy="3124440"/>
            <a:chOff x="2133720" y="2438280"/>
            <a:chExt cx="4495680" cy="3124440"/>
          </a:xfrm>
        </p:grpSpPr>
        <p:pic>
          <p:nvPicPr>
            <p:cNvPr id="45" name="爱因斯坦4" descr=""/>
            <p:cNvPicPr/>
            <p:nvPr/>
          </p:nvPicPr>
          <p:blipFill>
            <a:blip r:embed="rId2"/>
            <a:stretch/>
          </p:blipFill>
          <p:spPr>
            <a:xfrm>
              <a:off x="2133720" y="2438280"/>
              <a:ext cx="2209680" cy="312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爱因斯坦２" descr=""/>
            <p:cNvPicPr/>
            <p:nvPr/>
          </p:nvPicPr>
          <p:blipFill>
            <a:blip r:embed="rId3"/>
            <a:stretch/>
          </p:blipFill>
          <p:spPr>
            <a:xfrm>
              <a:off x="4343400" y="2438280"/>
              <a:ext cx="2286000" cy="312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2590920" y="57913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bert Ei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95280" y="1066680"/>
            <a:ext cx="647712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woman who was the first woman scientist to receive the Nobel Pr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438280" y="2438280"/>
            <a:ext cx="4038840" cy="2819520"/>
            <a:chOff x="2438280" y="2438280"/>
            <a:chExt cx="4038840" cy="2819520"/>
          </a:xfrm>
        </p:grpSpPr>
        <p:pic>
          <p:nvPicPr>
            <p:cNvPr id="50" name="居里3" descr=""/>
            <p:cNvPicPr/>
            <p:nvPr/>
          </p:nvPicPr>
          <p:blipFill>
            <a:blip r:embed="rId2"/>
            <a:stretch/>
          </p:blipFill>
          <p:spPr>
            <a:xfrm>
              <a:off x="4419720" y="2438280"/>
              <a:ext cx="205740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居里4" descr=""/>
            <p:cNvPicPr/>
            <p:nvPr/>
          </p:nvPicPr>
          <p:blipFill>
            <a:blip r:embed="rId3"/>
            <a:stretch/>
          </p:blipFill>
          <p:spPr>
            <a:xfrm>
              <a:off x="2438280" y="2438280"/>
              <a:ext cx="198144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2286000" y="5562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dame / Marie Cu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71600" y="1143000"/>
            <a:ext cx="6629400" cy="155628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an who made more than 1,000 inventions in his life and invented electric bul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514600" y="2971800"/>
            <a:ext cx="4038480" cy="2819520"/>
            <a:chOff x="2514600" y="2971800"/>
            <a:chExt cx="4038480" cy="2819520"/>
          </a:xfrm>
        </p:grpSpPr>
        <p:pic>
          <p:nvPicPr>
            <p:cNvPr id="55" name="爱迪生2" descr=""/>
            <p:cNvPicPr/>
            <p:nvPr/>
          </p:nvPicPr>
          <p:blipFill>
            <a:blip r:embed="rId2"/>
            <a:stretch/>
          </p:blipFill>
          <p:spPr>
            <a:xfrm>
              <a:off x="2514600" y="2971800"/>
              <a:ext cx="213372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爱迪生3" descr=""/>
            <p:cNvPicPr/>
            <p:nvPr/>
          </p:nvPicPr>
          <p:blipFill>
            <a:blip r:embed="rId3"/>
            <a:stretch/>
          </p:blipFill>
          <p:spPr>
            <a:xfrm>
              <a:off x="4648320" y="2971800"/>
              <a:ext cx="190476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2819520" y="58672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omas Alva Ed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3880" y="914400"/>
            <a:ext cx="6400800" cy="58140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an who invented lightning r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286000" y="1752480"/>
            <a:ext cx="4648320" cy="4191120"/>
            <a:chOff x="2286000" y="1752480"/>
            <a:chExt cx="4648320" cy="4191120"/>
          </a:xfrm>
        </p:grpSpPr>
        <p:pic>
          <p:nvPicPr>
            <p:cNvPr id="60" name="富兰克林1" descr=""/>
            <p:cNvPicPr/>
            <p:nvPr/>
          </p:nvPicPr>
          <p:blipFill>
            <a:blip r:embed="rId2"/>
            <a:stretch/>
          </p:blipFill>
          <p:spPr>
            <a:xfrm>
              <a:off x="2286000" y="1752480"/>
              <a:ext cx="243828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富兰克林3" descr=""/>
            <p:cNvPicPr/>
            <p:nvPr/>
          </p:nvPicPr>
          <p:blipFill>
            <a:blip r:embed="rId3"/>
            <a:stretch/>
          </p:blipFill>
          <p:spPr>
            <a:xfrm>
              <a:off x="4724280" y="1752480"/>
              <a:ext cx="22100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895480" y="5867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njamin Frank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95280" y="1143000"/>
            <a:ext cx="655344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an who discovered the force of grav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438280" y="2514600"/>
            <a:ext cx="4343400" cy="3276720"/>
            <a:chOff x="2438280" y="2514600"/>
            <a:chExt cx="4343400" cy="3276720"/>
          </a:xfrm>
        </p:grpSpPr>
        <p:pic>
          <p:nvPicPr>
            <p:cNvPr id="65" name="牛顿3" descr=""/>
            <p:cNvPicPr/>
            <p:nvPr/>
          </p:nvPicPr>
          <p:blipFill>
            <a:blip r:embed="rId2"/>
            <a:stretch/>
          </p:blipFill>
          <p:spPr>
            <a:xfrm>
              <a:off x="4572000" y="2514600"/>
              <a:ext cx="220968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牛顿5" descr=""/>
            <p:cNvPicPr/>
            <p:nvPr/>
          </p:nvPicPr>
          <p:blipFill>
            <a:blip r:embed="rId3"/>
            <a:stretch/>
          </p:blipFill>
          <p:spPr>
            <a:xfrm>
              <a:off x="2438280" y="2514600"/>
              <a:ext cx="2163960" cy="327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2971800" y="5943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t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1066680"/>
            <a:ext cx="640080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famous biologist who is known for his theory of ev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362320" y="2438280"/>
            <a:ext cx="4114800" cy="3353040"/>
            <a:chOff x="2362320" y="2438280"/>
            <a:chExt cx="4114800" cy="3353040"/>
          </a:xfrm>
        </p:grpSpPr>
        <p:pic>
          <p:nvPicPr>
            <p:cNvPr id="70" name="达尔文1" descr=""/>
            <p:cNvPicPr/>
            <p:nvPr/>
          </p:nvPicPr>
          <p:blipFill>
            <a:blip r:embed="rId2"/>
            <a:stretch/>
          </p:blipFill>
          <p:spPr>
            <a:xfrm>
              <a:off x="4495680" y="2438280"/>
              <a:ext cx="1981440" cy="335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达尔文3" descr=""/>
            <p:cNvPicPr/>
            <p:nvPr/>
          </p:nvPicPr>
          <p:blipFill>
            <a:blip r:embed="rId3"/>
            <a:stretch/>
          </p:blipFill>
          <p:spPr>
            <a:xfrm>
              <a:off x="2362320" y="2438280"/>
              <a:ext cx="2133360" cy="335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3048120" y="59436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les Darw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95280" y="990720"/>
            <a:ext cx="655344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hinese who made the earliest seismo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666880" y="2438280"/>
            <a:ext cx="3657600" cy="3276720"/>
            <a:chOff x="2666880" y="2438280"/>
            <a:chExt cx="3657600" cy="3276720"/>
          </a:xfrm>
        </p:grpSpPr>
        <p:pic>
          <p:nvPicPr>
            <p:cNvPr id="75" name="张衡" descr=""/>
            <p:cNvPicPr/>
            <p:nvPr/>
          </p:nvPicPr>
          <p:blipFill>
            <a:blip r:embed="rId2"/>
            <a:stretch/>
          </p:blipFill>
          <p:spPr>
            <a:xfrm>
              <a:off x="2666880" y="2438280"/>
              <a:ext cx="192096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地动仪" descr=""/>
            <p:cNvPicPr/>
            <p:nvPr/>
          </p:nvPicPr>
          <p:blipFill>
            <a:blip r:embed="rId3"/>
            <a:stretch/>
          </p:blipFill>
          <p:spPr>
            <a:xfrm>
              <a:off x="4572000" y="2438280"/>
              <a:ext cx="1752480" cy="327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"/>
          <p:cNvSpPr/>
          <p:nvPr/>
        </p:nvSpPr>
        <p:spPr>
          <a:xfrm>
            <a:off x="3048120" y="57913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Zhang He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3880" y="838080"/>
            <a:ext cx="609624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hinese who is called the father of modern r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286000" y="2362320"/>
            <a:ext cx="5029200" cy="3429000"/>
            <a:chOff x="2286000" y="2362320"/>
            <a:chExt cx="5029200" cy="3429000"/>
          </a:xfrm>
        </p:grpSpPr>
        <p:pic>
          <p:nvPicPr>
            <p:cNvPr id="80" name="袁隆平1" descr=""/>
            <p:cNvPicPr/>
            <p:nvPr/>
          </p:nvPicPr>
          <p:blipFill>
            <a:blip r:embed="rId2"/>
            <a:stretch/>
          </p:blipFill>
          <p:spPr>
            <a:xfrm>
              <a:off x="4419720" y="3429000"/>
              <a:ext cx="289548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袁隆平2" descr=""/>
            <p:cNvPicPr/>
            <p:nvPr/>
          </p:nvPicPr>
          <p:blipFill>
            <a:blip r:embed="rId3"/>
            <a:stretch/>
          </p:blipFill>
          <p:spPr>
            <a:xfrm>
              <a:off x="2286000" y="2362320"/>
              <a:ext cx="219708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4800600" y="25909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uan Long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3:07:45Z</dcterms:created>
  <dc:creator>Legend User</dc:creator>
  <dc:description/>
  <dc:language>en-US</dc:language>
  <cp:lastModifiedBy>Legend User</cp:lastModifiedBy>
  <dcterms:modified xsi:type="dcterms:W3CDTF">2004-09-01T14:53:51Z</dcterms:modified>
  <cp:revision>5</cp:revision>
  <dc:subject/>
  <dc:title>PowerPoint 演示文稿</dc:title>
</cp:coreProperties>
</file>