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B7EB-2E80-4CFA-9856-7DCAF3A7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52C-93D1-40BA-8362-0C0792C7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EB3C-9A1E-4A3F-859A-9ACF99397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C14-7715-475C-A2D4-8FE2EEC57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87DD-6D67-4E01-9D88-E634E2D1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D25-8DA7-4265-A1E4-F91E23E81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56F-03F1-40B3-8FFF-6F4E017E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A863-8A77-4B84-9878-F3D0AFDAC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65D0-296C-4EB3-851E-AA186B4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20B6-5E95-4F8F-8852-3DF5C899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554C-D6E2-4010-A2A1-7F7B9889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D207-55E1-4B33-86E3-E2CA0FC95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CF72-0F07-4039-A0B6-6CF6BC0B469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54400" y="990720"/>
            <a:ext cx="805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ookman Old Style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75360" y="2681280"/>
            <a:ext cx="388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Book Antiqua"/>
              </a:rPr>
              <a:t>Word Pow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5628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江安中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934320" y="54864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刘文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08000" y="6508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614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465920" y="533520"/>
            <a:ext cx="648828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ation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il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362320" y="10663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436120" y="4343400"/>
            <a:ext cx="257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.g.   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6483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19920" y="429732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organ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483084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05320" y="4876920"/>
            <a:ext cx="1676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reali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000" y="2276640"/>
            <a:ext cx="810108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explor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: v.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勘探，勘查，探索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.g. Upon arriving on the island, we were eag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explore. 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一到岛上就急不可耐地考察起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6320" y="380880"/>
            <a:ext cx="9144000" cy="61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ood afternoon, everyone. I’m so gla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be here to tell you something abou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uter spac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and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pace exploration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Space explor -ation began in 1957 with 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aunch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of the fir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rtificial satellite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nmanned spaceships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have been launched into space since 1959. By 1961, people wer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rbiting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the Earth. Yuri Gagarin from the former Soviet Union become the first human being to travel in space.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2040" y="425520"/>
            <a:ext cx="873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Read the first part of the speech and 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the time line of the main events mention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66680" y="1752480"/>
          <a:ext cx="7391520" cy="3835440"/>
        </p:xfrm>
        <a:graphic>
          <a:graphicData uri="http://schemas.openxmlformats.org/drawingml/2006/table">
            <a:tbl>
              <a:tblPr/>
              <a:tblGrid>
                <a:gridCol w="1524240"/>
                <a:gridCol w="5867280"/>
              </a:tblGrid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im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6600"/>
                          </a:solidFill>
                          <a:latin typeface="Courier New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727360" y="2631960"/>
            <a:ext cx="954396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the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2" action="ppaction://hlinksldjump"/>
              </a:rPr>
              <a:t>launch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of the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artificial satell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657600"/>
            <a:ext cx="48294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urier New"/>
              </a:rPr>
              <a:t>unmanned spaceship…  launch into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10160" y="4724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Courier New"/>
                <a:hlinkClick r:id="rId3" action="ppaction://hlinksldjump"/>
              </a:rPr>
              <a:t>orbit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Courier New"/>
              </a:rPr>
              <a:t>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685800" y="685800"/>
            <a:ext cx="9067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launch: n.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产品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上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890960"/>
            <a:ext cx="2057400" cy="1677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14600" y="14018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 the successful launch of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20113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product laun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819520"/>
            <a:ext cx="630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把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航天器等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发射上天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90920" y="3733920"/>
            <a:ext cx="65530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.g. Does everyone know how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unch a spaceship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4952880"/>
            <a:ext cx="1905120" cy="1616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-152280" y="457200"/>
            <a:ext cx="9067680" cy="25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orbit: v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绕轨道运行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围绕…运动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e.g. The earth takes a year to </a:t>
            </a:r>
            <a:r>
              <a:rPr b="1" i="1" lang="zh-CN" sz="3000" spc="-1" strike="noStrike">
                <a:solidFill>
                  <a:srgbClr val="000000"/>
                </a:solidFill>
                <a:latin typeface="Times New Roman"/>
              </a:rPr>
              <a:t>orbit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the sun.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1905120"/>
            <a:ext cx="807732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(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天体等运行的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轨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.g.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 earth’s </a:t>
            </a:r>
            <a:r>
              <a:rPr b="1" i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orbit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rou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62320" y="502920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733920"/>
            <a:ext cx="7467480" cy="22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 new satellite has been </a:t>
            </a:r>
            <a:r>
              <a:rPr b="1" i="1" lang="zh-CN" sz="3000" spc="-1" strike="noStrike" u="sng">
                <a:solidFill>
                  <a:srgbClr val="000000"/>
                </a:solidFill>
                <a:uFillTx/>
                <a:latin typeface="Times New Roman"/>
              </a:rPr>
              <a:t>put into orbi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around the earth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颗新的人造卫星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送上了环绕地球的轨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124080"/>
            <a:ext cx="746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a space station </a:t>
            </a: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Times New Roman"/>
              </a:rPr>
              <a:t>in orbit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round the mo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83357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9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52880" cy="655308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638680" y="762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13860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launch tow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24526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unch p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3352680"/>
            <a:ext cx="3657600" cy="1981440"/>
          </a:xfrm>
          <a:prstGeom prst="wedgeEllipseCallout">
            <a:avLst>
              <a:gd name="adj1" fmla="val -110675"/>
              <a:gd name="adj2" fmla="val 9326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581280"/>
            <a:ext cx="333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 platform from which a space shuttle is sent into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123720" y="1066680"/>
            <a:ext cx="2590920" cy="1524240"/>
          </a:xfrm>
          <a:prstGeom prst="line">
            <a:avLst/>
          </a:prstGeom>
          <a:ln w="76320">
            <a:solidFill>
              <a:srgbClr val="ff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79680" y="5105520"/>
            <a:ext cx="69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at lifts the space shuttle into sp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57294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rock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36232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" y="217440"/>
            <a:ext cx="8839080" cy="23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en-US" sz="3800" spc="-1" strike="noStrike">
                <a:solidFill>
                  <a:srgbClr val="3333cc"/>
                </a:solidFill>
                <a:latin typeface="Times New Roman"/>
              </a:rPr>
              <a:t>What happens to the two rockets after they separate from the space shuttle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600200"/>
            <a:ext cx="88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ll into the sea and a ship will pick them 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36232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867280" y="2209680"/>
            <a:ext cx="2743200" cy="1524240"/>
          </a:xfrm>
          <a:prstGeom prst="cloudCallout">
            <a:avLst>
              <a:gd name="adj1" fmla="val -97745"/>
              <a:gd name="adj2" fmla="val 11895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26208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4d4d4d"/>
                </a:solidFill>
                <a:latin typeface="Times New Roman"/>
              </a:rPr>
              <a:t>tracking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304920" y="6480"/>
            <a:ext cx="8839080" cy="12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</a:t>
            </a: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Read the speech and fill in the blanks using words we learn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28600" y="990720"/>
          <a:ext cx="8763120" cy="5640120"/>
        </p:xfrm>
        <a:graphic>
          <a:graphicData uri="http://schemas.openxmlformats.org/drawingml/2006/table">
            <a:tbl>
              <a:tblPr/>
              <a:tblGrid>
                <a:gridCol w="8763120"/>
              </a:tblGrid>
              <a:tr h="565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 _____  and traveling to _____ to carry out _______. If this comes true, you’ll probably travel by ____, a spaceship that looks like an aeroplane. Two _____ supposed by a launch tower will lift the space shuttle into space. Some time after the rockets and the space shuttle are ______, the rockets will separate from the space shuttle and fall into the sea. Then a ship will pick them up. Astronauts will do their research in a base in outer space shuttle called _______. Sometimes they go out of their space shuttle to take a _______. In outer space astronauts cannot take off their 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6842160" y="1773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74880" y="276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608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6553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10552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Who is sh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105520" y="1187280"/>
            <a:ext cx="426708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 beauty named Chang’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on the moon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3048120"/>
            <a:ext cx="4419720" cy="2971800"/>
          </a:xfrm>
          <a:prstGeom prst="cloudCallout">
            <a:avLst>
              <a:gd name="adj1" fmla="val -50217"/>
              <a:gd name="adj2" fmla="val -88087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410080" y="3352680"/>
            <a:ext cx="358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tory about Chang’e told us that we human beings had been dreaming of traveling to space for thousands of year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18120" y="303120"/>
            <a:ext cx="683136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         space exploration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                space shuttl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tower       rocket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launch pad          astronaut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tracking ship      spacesui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walk           space s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04920" y="7632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Century Gothic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52280" y="380880"/>
          <a:ext cx="8915400" cy="6310440"/>
        </p:xfrm>
        <a:graphic>
          <a:graphicData uri="http://schemas.openxmlformats.org/drawingml/2006/table">
            <a:tbl>
              <a:tblPr/>
              <a:tblGrid>
                <a:gridCol w="8915400"/>
              </a:tblGrid>
              <a:tr h="63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 guess some of you are dreaming of becoming an________ and traveling to ______ to carry out _________________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If this comes true, you’ll probably travel by ____________, a spaceship that looks like an aeroplane. Two ______ supported by a launch tower will lift the space shuttle into space. Some time after the rockets and the space shuttle are ________,  the rockets will separate from the space shuttle and fall into the sea. Then a ship will pick them up. Astronauts will do their research in a base in outer space  called ___________. Sometimes they go out of their space shuttle to take a _________. In outer space astronauts cannot take off their _________, which protect them and provide oxygen. In 1965, Alexei Leonov from the former Soviet Union became the first human being to take a walk in spac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5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7697880" y="3808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trona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87400" y="7621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4120" y="76212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53720" y="114300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hu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7600" y="15238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r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7720" y="2631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launc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16720" y="3809880"/>
            <a:ext cx="192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57440" y="4191120"/>
            <a:ext cx="159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74840" y="4572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paces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44000" cy="713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14400" y="114300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722600"/>
            <a:ext cx="9144000" cy="43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Today, most importa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lanet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examined. Photos have been taken 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amples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ave been collected from th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planets, but no evidence of life has been discovered on any of the planets so far. Scientific research still continu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60948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cc"/>
                </a:solidFill>
                <a:latin typeface="Century Gothic"/>
              </a:rPr>
              <a:t>Today’s space explo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62120" y="3049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3333cc"/>
                </a:solidFill>
                <a:latin typeface="Century Gothic"/>
              </a:rPr>
              <a:t>nine planets in the solar system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13716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arth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05520" y="1295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upiter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木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ercury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水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228600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ars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火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27672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eptune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81480" y="3276720"/>
            <a:ext cx="403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Pluto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冥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14400" y="43434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42670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turn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土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05520" y="51814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Uranus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王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0" y="5029200"/>
            <a:ext cx="251460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0" y="5334120"/>
          <a:ext cx="9144000" cy="1371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>
            <a:off x="76320" y="5486400"/>
            <a:ext cx="3045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5486400"/>
            <a:ext cx="304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3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95880"/>
            <a:ext cx="304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1600" y="541008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536400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Jupit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040640" y="5424480"/>
            <a:ext cx="160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ercu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8000" y="5410080"/>
            <a:ext cx="121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Ma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9320" y="5410080"/>
            <a:ext cx="15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ptu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49800"/>
            <a:ext cx="120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Plu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10760" y="6049800"/>
            <a:ext cx="13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e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38840" y="6049800"/>
            <a:ext cx="148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a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640" y="6049800"/>
            <a:ext cx="157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ran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2590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3200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057400" y="3124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228600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429000" y="3352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2057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2666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29600" y="1752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20" y="5451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9184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88928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600200" y="685800"/>
            <a:ext cx="57150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4752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Gothic"/>
              </a:rPr>
              <a:t>Thank you!</a:t>
            </a:r>
            <a:endParaRPr b="0" lang="en-US" sz="2400" spc="1" strike="noStrike">
              <a:ln w="4752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Gothic"/>
              <a:ea typeface="Century Gothic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0360" y="658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1" dur="236710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820480" y="243000"/>
            <a:ext cx="294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uit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410080" y="1170000"/>
            <a:ext cx="3429000" cy="5230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6252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640" y="152280"/>
            <a:ext cx="258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astronau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80880" y="1143000"/>
            <a:ext cx="3505320" cy="5257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6019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969.7.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11280" y="4890960"/>
            <a:ext cx="2908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wal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3124080" cy="3260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105520" y="2590920"/>
            <a:ext cx="3238560" cy="2895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76720" y="533520"/>
            <a:ext cx="327636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125080" y="5765760"/>
            <a:ext cx="356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5053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5053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4267080" y="3505320"/>
            <a:ext cx="4876920" cy="3124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920" y="4343400"/>
            <a:ext cx="341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 shutt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-27612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94000" y="-101520"/>
            <a:ext cx="277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4800" spc="-1" strike="noStrike">
                <a:solidFill>
                  <a:srgbClr val="3333cc"/>
                </a:solidFill>
                <a:latin typeface="Times New Roman"/>
              </a:rPr>
              <a:t>spaceshi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962520" y="3581280"/>
            <a:ext cx="4190760" cy="2357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952880" y="76320"/>
            <a:ext cx="3276720" cy="3352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609480" y="914400"/>
            <a:ext cx="32767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34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914400" y="228600"/>
            <a:ext cx="8077320" cy="44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pac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5067360"/>
            <a:ext cx="1981080" cy="14857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867280" y="1066680"/>
            <a:ext cx="152640" cy="1371600"/>
          </a:xfrm>
          <a:custGeom>
            <a:avLst/>
            <a:gdLst>
              <a:gd name="textAreaLeft" fmla="*/ 97560 w 152640"/>
              <a:gd name="textAreaRight" fmla="*/ 15300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00400" y="106668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8280" y="838080"/>
            <a:ext cx="74678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    spaceman            space st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uit              space shut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ship             outer space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acewal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41316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间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空地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48006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张桌子占据了太多的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38280" y="212760"/>
            <a:ext cx="50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n.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地球大气以外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4114800"/>
            <a:ext cx="6629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.g. The desk takes up too much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0880" y="2362320"/>
            <a:ext cx="929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Times New Roman"/>
              </a:rPr>
              <a:t>Space explorat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563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09:44:50Z</dcterms:created>
  <dc:creator>英语组02</dc:creator>
  <dc:description/>
  <dc:language>en-US</dc:language>
  <cp:lastModifiedBy>SEC</cp:lastModifiedBy>
  <dcterms:modified xsi:type="dcterms:W3CDTF">2005-11-06T23:22:57Z</dcterms:modified>
  <cp:revision>63</cp:revision>
  <dc:subject/>
  <dc:title>PowerPoint 演示文稿</dc:title>
</cp:coreProperties>
</file>