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.gif" ContentType="image/gif"/>
  <Override PartName="/ppt/media/image3.jpeg" ContentType="image/jpeg"/>
  <Override PartName="/ppt/media/image2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5.jpeg" ContentType="image/jpeg"/>
  <Override PartName="/ppt/media/image10.jpeg" ContentType="image/jpeg"/>
  <Override PartName="/ppt/media/image11.gif" ContentType="image/gif"/>
  <Override PartName="/ppt/media/image14.png" ContentType="image/pn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192E-8AD4-4EE0-BFF2-8CC4826C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031C-A89F-4A1F-B433-9D1B7E4F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75E0-C62C-4C76-919D-C64CE3F7B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E0EF-E20B-4B09-8553-45E3F5714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DA34-BF16-47CF-9E08-600F4B0E0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ADFF-1750-411F-B146-F3FE6F08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194A-8FE8-4666-9F9E-02D4F0EFD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582D-96B6-4953-BD5D-F963EDDF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13A6-E837-4F88-B830-CEE3ED3B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8E0C-87AE-4DD8-8898-D9EF227D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A613-4F81-4B77-978F-5B59D2DB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C0BA-FF1D-4E01-A4EC-CC37DEB2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E314-9591-4303-813B-85781A24C0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c8c"/>
            </a:gs>
            <a:gs pos="100000">
              <a:srgbClr val="fefef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" descr=""/>
          <p:cNvPicPr/>
          <p:nvPr/>
        </p:nvPicPr>
        <p:blipFill>
          <a:blip r:embed="rId1"/>
          <a:stretch/>
        </p:blipFill>
        <p:spPr>
          <a:xfrm>
            <a:off x="-15228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152280" y="2620800"/>
            <a:ext cx="10667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3300"/>
                </a:solidFill>
                <a:latin typeface="Comic Sans MS"/>
              </a:rPr>
              <a:t>Welcome to our class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-763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Listen to the tape, and identify the supporting details for each point bel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0" y="1295280"/>
          <a:ext cx="9144000" cy="5664240"/>
        </p:xfrm>
        <a:graphic>
          <a:graphicData uri="http://schemas.openxmlformats.org/drawingml/2006/table">
            <a:tbl>
              <a:tblPr/>
              <a:tblGrid>
                <a:gridCol w="3252960"/>
                <a:gridCol w="58910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ain poin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upporting detail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99ff66"/>
                      </a:solidFill>
                    </a:lnR>
                    <a:lnT w="5760">
                      <a:solidFill>
                        <a:srgbClr val="99ff66"/>
                      </a:solidFill>
                    </a:lnT>
                    <a:lnB>
                      <a:noFill/>
                    </a:lnB>
                    <a:solidFill>
                      <a:srgbClr val="99ff66"/>
                    </a:solidFill>
                  </a:tcPr>
                </a:tc>
              </a:tr>
              <a:tr h="15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 went miss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>
                      <a:noFill/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 Foster thought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 Foster was surprised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>
                      <a:noFill/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police found that Justin return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’s friend said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tnesses said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elly heard_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212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boy was taken away by alien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saw___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_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vis Wood said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66ff33"/>
                      </a:solidFill>
                    </a:lnL>
                    <a:lnR w="13680">
                      <a:solidFill>
                        <a:srgbClr val="66ff33"/>
                      </a:solidFill>
                    </a:lnR>
                    <a:lnT w="13680">
                      <a:solidFill>
                        <a:srgbClr val="66ff33"/>
                      </a:solidFill>
                    </a:lnT>
                    <a:lnB w="13680">
                      <a:solidFill>
                        <a:srgbClr val="66ff33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-58680" y="15177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83680" y="324000"/>
            <a:ext cx="62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int1: Justin Foster went mis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0760" y="3301920"/>
            <a:ext cx="19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ppor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tai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43200" y="1600200"/>
            <a:ext cx="297180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rs Foster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r Foster was surpri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ustin Fo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40120" y="1565280"/>
            <a:ext cx="322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he was spend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night with a frie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3276720"/>
            <a:ext cx="3200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that his son didn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’t tell anyone that he was staying out late.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920" y="530208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didn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’t show up at the family lunch the next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62320" y="1905120"/>
            <a:ext cx="228600" cy="3504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5253120"/>
            <a:ext cx="17524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6094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int2: The police found that Justin returned                        home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120" y="3625920"/>
            <a:ext cx="190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p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tai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360" y="2260440"/>
            <a:ext cx="27928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st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friends 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nesses 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lly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486400" y="182736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Justin went home after playing baseball with th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81480" y="3351240"/>
            <a:ext cx="3886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hey saw Justin walking towards his home at 10.45 p.m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876920" y="4875120"/>
            <a:ext cx="39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him put on his favorite CD after he went to his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57400" y="2514600"/>
            <a:ext cx="228600" cy="2895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5253120"/>
            <a:ext cx="17524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533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Point3: The boy was taken away by ali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320" y="335268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upporting detai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1828800"/>
            <a:ext cx="2667240" cy="50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lly s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lly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vis Wood 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95840" y="1778040"/>
            <a:ext cx="27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a large space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flying outs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614200" y="3443400"/>
            <a:ext cx="208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Justin sh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62720" y="4772160"/>
            <a:ext cx="327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Times New Roman"/>
              </a:rPr>
              <a:t>the aliens took her away so that they could do scientific research on 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2057400"/>
            <a:ext cx="304920" cy="327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5253120"/>
            <a:ext cx="17524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b0ce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u=4231877098,3831793191&amp;gp=1" descr=""/>
          <p:cNvPicPr/>
          <p:nvPr/>
        </p:nvPicPr>
        <p:blipFill>
          <a:blip r:embed="rId1"/>
          <a:stretch/>
        </p:blipFill>
        <p:spPr>
          <a:xfrm>
            <a:off x="2743200" y="304920"/>
            <a:ext cx="6400800" cy="1218960"/>
          </a:xfrm>
          <a:prstGeom prst="rect">
            <a:avLst/>
          </a:prstGeom>
          <a:ln w="0">
            <a:noFill/>
          </a:ln>
        </p:spPr>
      </p:pic>
      <p:pic>
        <p:nvPicPr>
          <p:cNvPr id="99" name="200522117148269" descr=""/>
          <p:cNvPicPr/>
          <p:nvPr/>
        </p:nvPicPr>
        <p:blipFill>
          <a:blip r:embed="rId2"/>
          <a:stretch/>
        </p:blipFill>
        <p:spPr>
          <a:xfrm>
            <a:off x="76320" y="-76320"/>
            <a:ext cx="2590560" cy="5029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362320" y="167652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ppose you are Justin Foster, try to tell  us your exper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800600"/>
            <a:ext cx="87631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you are Detective Sam Peterson, try to tell us          what you think happened to Just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4991040" y="-1181160"/>
            <a:ext cx="1219320" cy="3886200"/>
          </a:xfrm>
          <a:prstGeom prst="cloudCallout">
            <a:avLst>
              <a:gd name="adj1" fmla="val 7148"/>
              <a:gd name="adj2" fmla="val 37157550"/>
            </a:avLst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16200000"/>
          </a:gradFill>
          <a:ln w="9360">
            <a:solidFill>
              <a:srgbClr val="008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6600"/>
                </a:solidFill>
                <a:latin typeface="Comic Sans MS"/>
              </a:rPr>
              <a:t>Imag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0" y="28954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you are Kelly, try to tell us  what   you think happened to Just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191120"/>
            <a:ext cx="9067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se you are Mavis Wood, try to tell us  what you think happened to Just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320" y="-1440"/>
            <a:ext cx="5057640" cy="259236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533520"/>
            <a:ext cx="3240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99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50000">
                      <a:srgbClr val="4d0808"/>
                    </a:gs>
                    <a:gs pos="100000">
                      <a:srgbClr val="fff200"/>
                    </a:gs>
                  </a:gsLst>
                  <a:lin ang="8100000"/>
                </a:gradFill>
                <a:latin typeface="Comic Sans MS"/>
              </a:rPr>
              <a:t>Homework</a:t>
            </a:r>
            <a:endParaRPr b="1" lang="en-US" sz="2400" spc="1" strike="noStrike">
              <a:ln w="9360">
                <a:solidFill>
                  <a:srgbClr val="ff99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50000">
                    <a:srgbClr val="4d0808"/>
                  </a:gs>
                  <a:gs pos="100000">
                    <a:srgbClr val="fff200"/>
                  </a:gs>
                </a:gsLst>
                <a:lin ang="8100000"/>
              </a:gradFill>
              <a:latin typeface="Comic Sans MS"/>
              <a:ea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2971800"/>
            <a:ext cx="54356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Write down your own opinion on what you  think happened to Justin Foster in about 100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4172040"/>
            <a:ext cx="2743200" cy="2644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8dac8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6" descr=""/>
          <p:cNvPicPr/>
          <p:nvPr/>
        </p:nvPicPr>
        <p:blipFill>
          <a:blip r:embed="rId1"/>
          <a:stretch/>
        </p:blipFill>
        <p:spPr>
          <a:xfrm>
            <a:off x="-152280" y="-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004840" y="1892160"/>
            <a:ext cx="5426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i="1" lang="en-US" sz="8800" spc="-1" strike="noStrike">
                <a:solidFill>
                  <a:srgbClr val="ff3300"/>
                </a:solidFill>
                <a:latin typeface="Comic Sans MS"/>
              </a:rPr>
              <a:t>Thanks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3300"/>
                </a:solidFill>
                <a:latin typeface="Comic Sans MS"/>
              </a:rPr>
              <a:t>Good Bye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u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200410211650431" descr=""/>
          <p:cNvPicPr/>
          <p:nvPr/>
        </p:nvPicPr>
        <p:blipFill>
          <a:blip r:embed="rId1"/>
          <a:stretch/>
        </p:blipFill>
        <p:spPr>
          <a:xfrm>
            <a:off x="1905120" y="0"/>
            <a:ext cx="510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u=2838073443,3507240701&amp;gp=2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324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NewsMedia_20759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ac8c"/>
            </a:gs>
            <a:gs pos="50000">
              <a:srgbClr val="fefefe"/>
            </a:gs>
            <a:gs pos="100000">
              <a:srgbClr val="8dac8c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1143000"/>
            <a:ext cx="899136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Unit 1 Tales of the unexplain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     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Welcome to the un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&amp;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                     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6" descr=""/>
          <p:cNvPicPr/>
          <p:nvPr/>
        </p:nvPicPr>
        <p:blipFill>
          <a:blip r:embed="rId1"/>
          <a:stretch/>
        </p:blipFill>
        <p:spPr>
          <a:xfrm>
            <a:off x="0" y="3429000"/>
            <a:ext cx="3200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533520"/>
            <a:ext cx="4876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986200"/>
            <a:ext cx="929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‘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Boy missing, police puzzled</a:t>
            </a:r>
            <a:r>
              <a:rPr b="1" lang="en-US" sz="4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5119560"/>
            <a:ext cx="975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 boy  is missing and the police are puzzl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000000071" descr=""/>
          <p:cNvPicPr/>
          <p:nvPr/>
        </p:nvPicPr>
        <p:blipFill>
          <a:blip r:embed="rId1"/>
          <a:stretch/>
        </p:blipFill>
        <p:spPr>
          <a:xfrm>
            <a:off x="5029200" y="0"/>
            <a:ext cx="4267080" cy="1523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467480" y="3733920"/>
            <a:ext cx="1676520" cy="10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609480"/>
            <a:ext cx="9144000" cy="64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Read the newspaper article quickly, then try to answer these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article abou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is miss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o the police know what happened to Justin?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85000" y="3276720"/>
            <a:ext cx="563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 article is about a missing bo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640" y="4572000"/>
            <a:ext cx="41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Justin Foster is miss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7840" y="5881680"/>
            <a:ext cx="10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08040" y="5735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Reading..."/>
          <p:cNvPicPr/>
          <p:nvPr/>
        </p:nvPicPr>
        <p:blipFill>
          <a:blip r:embed="rId1"/>
          <a:stretch/>
        </p:blipFill>
        <p:spPr>
          <a:xfrm>
            <a:off x="7162920" y="4929120"/>
            <a:ext cx="198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52280"/>
            <a:ext cx="9144000" cy="62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cc"/>
                </a:solidFill>
                <a:latin typeface="Times New Roman"/>
              </a:rPr>
              <a:t>Read the article carefully, and answer the following questions.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ere does Justin Foster l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y did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n's mother go to bed earl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port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o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ust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did the witnesses see Justin walking hom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 Justin has any brothers and siste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lour were the alien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else has been taken by the alie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o is in charge of the cas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6240" y="2311560"/>
            <a:ext cx="447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Because she had a heada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971800"/>
            <a:ext cx="283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e plays baseb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920" y="3595680"/>
            <a:ext cx="221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At 10.45 p.m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3600" y="426708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Yes, he has a sis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98720" y="4890960"/>
            <a:ext cx="26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hey were wh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91440" y="5486400"/>
            <a:ext cx="630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Mavis Wood has been taken by the alie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480" y="624852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Detective Sam Peterson was in charge of the c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9240" y="1690560"/>
            <a:ext cx="535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He lives in Dover, New Hampsh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Reading..."/>
          <p:cNvPicPr/>
          <p:nvPr/>
        </p:nvPicPr>
        <p:blipFill>
          <a:blip r:embed="rId1"/>
          <a:stretch/>
        </p:blipFill>
        <p:spPr>
          <a:xfrm>
            <a:off x="7162920" y="4929120"/>
            <a:ext cx="19810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2T08:43:23Z</dcterms:created>
  <dc:creator>SEC</dc:creator>
  <dc:description/>
  <dc:language>en-US</dc:language>
  <cp:lastModifiedBy>SEC</cp:lastModifiedBy>
  <dcterms:modified xsi:type="dcterms:W3CDTF">2005-11-05T14:24:41Z</dcterms:modified>
  <cp:revision>36</cp:revision>
  <dc:subject/>
  <dc:title>PowerPoint 演示文稿</dc:title>
</cp:coreProperties>
</file>