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type.wav" ContentType="audio/x-wav"/>
  <Override PartName="/ppt/media/image17.png" ContentType="image/png"/>
  <Override PartName="/ppt/media/image12.jpeg" ContentType="image/jpeg"/>
  <Override PartName="/ppt/media/image13.png" ContentType="image/png"/>
  <Override PartName="/ppt/media/image20.jpeg" ContentType="image/jpeg"/>
  <Override PartName="/ppt/media/image19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camera.wav" ContentType="audio/x-wav"/>
  <Override PartName="/ppt/media/image6.png" ContentType="image/png"/>
  <Override PartName="/ppt/media/image18.png" ContentType="image/png"/>
  <Override PartName="/ppt/media/image7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2A51-9292-440E-BB96-42AD87A7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6D85-ED0F-4729-BEEF-8BB7BC9EA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EDBD-AAB0-4E1C-9173-656C657A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9AD-216E-47A1-8A6D-7B39EF84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1ED49-E19C-4227-ADC0-A5BE9522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037E-E156-4D38-920E-1338B8EC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E2AD-EA7E-4B2A-8E75-98E49DCE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19DB-6191-4589-9C6D-7DB07A14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3C4E-4F8F-4399-A00E-8DBB98F5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489D-1CED-482F-8E98-AE19A20A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B7B3-F67F-4870-9E66-FF548CFB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C1D1-5A8F-4532-865F-6AEB1CDB2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368B-3A1A-4468-865F-82762950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9F395-A597-4F4F-BC7B-78315903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FB5D-14E0-4694-970F-31F2F255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A275-9B6F-4B13-ACD0-E91BDB0D9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E8BF-F2B8-4607-A8B0-FC48481D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89AF1-84D9-4AE7-8248-8F652DC97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9CAF0-477D-4BF8-BFA7-6275DB65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EC481-FFBB-47B4-AD9D-545DDCA63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01BD6-4E51-4F8E-9103-649F97B6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D896E-7DB0-43BD-A481-E6E6A978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B468-49A6-4014-8F16-1FA1E18C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35DCE-6F7C-4A7D-A151-7EC47EA0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2273A-7C13-447F-A50F-E7996D80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3474E-E3ED-4C9C-AFA0-5BA02CC1F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0886B-D82E-4843-9F7D-95888C00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5C21C-9AEF-4152-9ACC-65ECD7BE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5A5F7-F6BF-4240-B6B4-D0D62FBE3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FD352-ABAC-4468-8A77-4BBF2FEA5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D320E-1C96-408A-B8A0-B2FFC74B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A4D74-2577-49AA-8890-7BC16090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83707-7776-4D73-9A32-5407D980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444A-D604-4DFC-8C66-95085E06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D1E83-14DF-4A2B-8EAD-EA411DF4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2FA792-D090-4011-8AFA-070F0832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86D33-8A18-4EAF-A3EA-3BC53C66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64AC3-0916-4BA2-A6B5-2F549DDB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0C2BF-A5B4-42A6-8BA9-1425A86E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80F1B-4C45-4282-BE4F-CC5606EC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BB1AC-B512-4360-971A-6BD8ACFB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CB4B1-C2AB-4C69-A57C-8224C618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09374-B9B5-4BBE-9F3F-58D4C169E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9E04-94B1-4015-8702-67112BCF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4B3B-E727-4909-8DEB-71D9E404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F40-1568-4E4D-A0E5-B5586F15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6E38-2BA3-48C9-A139-FF8322F0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207D-C346-4699-831C-9D3B0BAD6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6521-961F-4F6C-BE0F-A906E5F29B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85DA-A0BE-42DF-BBC2-52DE260A8F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C442-2283-4F6A-8C5A-14E2DC3DFA4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63634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EB36-81A5-4F01-BE9F-F0E7E6CA9C6D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17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7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8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8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63634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6934320" y="61722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63634"/>
                </a:solidFill>
                <a:latin typeface="Times New Roman"/>
              </a:rPr>
              <a:t>石庄高级中学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8120" y="380880"/>
            <a:ext cx="4190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welcome</a:t>
            </a:r>
            <a:endParaRPr b="0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97303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00"/>
            </a:gs>
            <a:gs pos="100000">
              <a:srgbClr val="ccdd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3" name=""/>
          <p:cNvGraphicFramePr/>
          <p:nvPr/>
        </p:nvGraphicFramePr>
        <p:xfrm>
          <a:off x="1295280" y="1447920"/>
          <a:ext cx="259092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447920"/>
                    <a:ext cx="259092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638680" y="1523880"/>
            <a:ext cx="2210040" cy="26672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78600" y="4800600"/>
            <a:ext cx="812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Justin Foster, a fifteen-year-old boy,was missing two days ago in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Dover, New Hampshire. Maybe he was taken away by aliens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28600" y="0"/>
            <a:ext cx="4191120" cy="30492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4572000" y="0"/>
            <a:ext cx="4191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cc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9" name=""/>
          <p:cNvGrpSpPr/>
          <p:nvPr/>
        </p:nvGrpSpPr>
        <p:grpSpPr>
          <a:xfrm>
            <a:off x="395280" y="620280"/>
            <a:ext cx="8480160" cy="5943960"/>
            <a:chOff x="395280" y="620280"/>
            <a:chExt cx="8480160" cy="5943960"/>
          </a:xfrm>
        </p:grpSpPr>
        <p:sp>
          <p:nvSpPr>
            <p:cNvPr id="290" name=""/>
            <p:cNvSpPr/>
            <p:nvPr/>
          </p:nvSpPr>
          <p:spPr>
            <a:xfrm flipV="1">
              <a:off x="395280" y="2068200"/>
              <a:ext cx="4496040" cy="4495680"/>
            </a:xfrm>
            <a:prstGeom prst="triangle">
              <a:avLst>
                <a:gd name="adj" fmla="val 50000"/>
              </a:avLst>
            </a:prstGeom>
            <a:solidFill>
              <a:srgbClr val="0066ff"/>
            </a:solidFill>
            <a:ln w="381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543320" y="2220840"/>
              <a:ext cx="19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he first part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696320" y="3135240"/>
              <a:ext cx="201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he rest parts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743720" y="2525760"/>
              <a:ext cx="83808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905280" y="4049640"/>
              <a:ext cx="1143000" cy="0"/>
            </a:xfrm>
            <a:prstGeom prst="line">
              <a:avLst/>
            </a:prstGeom>
            <a:ln w="936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05120" y="2297160"/>
              <a:ext cx="289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main topic and the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most important facts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32440" y="3786120"/>
              <a:ext cx="38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66"/>
                  </a:solidFill>
                  <a:latin typeface="Times New Roman"/>
                </a:rPr>
                <a:t>new but less important facts</a:t>
              </a:r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57520" y="3059280"/>
              <a:ext cx="3504960" cy="0"/>
            </a:xfrm>
            <a:prstGeom prst="line">
              <a:avLst/>
            </a:prstGeom>
            <a:ln w="28440">
              <a:solidFill>
                <a:srgbClr val="4636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63634"/>
                </a:solidFill>
                <a:latin typeface="Times New Roman"/>
              </a:endParaRPr>
            </a:p>
          </p:txBody>
        </p:sp>
        <p:sp>
          <p:nvSpPr>
            <p:cNvPr id="298" name="PlaceHolder 1"/>
            <p:cNvSpPr>
              <a:spLocks noGrp="1"/>
            </p:cNvSpPr>
            <p:nvPr>
              <p:ph type="title"/>
            </p:nvPr>
          </p:nvSpPr>
          <p:spPr>
            <a:xfrm>
              <a:off x="547920" y="620280"/>
              <a:ext cx="777240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ctr">
              <a:no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  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A typical news story is written in an inverted pyramid</a:t>
              </a: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       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format.</a:t>
              </a: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(</a:t>
              </a:r>
              <a:r>
                <a:rPr b="1" lang="zh-CN" sz="1600" spc="-1" strike="noStrike">
                  <a:solidFill>
                    <a:srgbClr val="0066ff"/>
                  </a:solidFill>
                  <a:latin typeface="Times New Roman"/>
                </a:rPr>
                <a:t>倒金字塔</a:t>
              </a:r>
              <a:r>
                <a:rPr b="0" lang="zh-CN" sz="2400" spc="-1" strike="noStrike">
                  <a:solidFill>
                    <a:srgbClr val="3333ff"/>
                  </a:solidFill>
                  <a:latin typeface="Times New Roman"/>
                </a:rPr>
                <a:t>)</a:t>
              </a:r>
              <a:endParaRPr b="0" i="1" lang="en-US" sz="2400" spc="-1" strike="noStrike">
                <a:solidFill>
                  <a:srgbClr val="795241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-228960" y="-152280"/>
            <a:ext cx="9372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Read the news story and finish the following exercises.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900000" y="3068640"/>
          <a:ext cx="6858000" cy="3376440"/>
        </p:xfrm>
        <a:graphic>
          <a:graphicData uri="http://schemas.openxmlformats.org/drawingml/2006/table">
            <a:tbl>
              <a:tblPr/>
              <a:tblGrid>
                <a:gridCol w="2163600"/>
                <a:gridCol w="4694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ain Points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ing details</a:t>
                      </a:r>
                      <a:endParaRPr b="0" lang="en-US" sz="18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41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Justin Foster went missing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. Foster thought he was spending the night with a friend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. Foster was surprised ______________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 ________at the family lunch the next day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police found that Justin returned home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’s friends said _______after the game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nesses said ______ at 10:45p.m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______at about 11p.m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boy was taken away by aliens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saw _______flying outside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_____and then the UFO disappeared.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vis Wood thought Justin __________</a:t>
                      </a:r>
                      <a:endParaRPr b="0" lang="en-US" sz="16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1" name=""/>
          <p:cNvSpPr/>
          <p:nvPr/>
        </p:nvSpPr>
        <p:spPr>
          <a:xfrm>
            <a:off x="1066680" y="685800"/>
            <a:ext cx="6400800" cy="34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Why did Mrs. Foster go to bed early?  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. What was Mr. Foster doing that night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What did Mrs. Foster do when Justin didn’t  show up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.What sports does Justin play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. Does Justin have any brothers or sisters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.Who else has been taken away by the aliens?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9325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Why did Mrs. Foster go to bed early?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he went to bed early because of a headach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What was Mr. Foster doing that night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Mr. Foster was working that nigh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What did Mrs. Foster do when Justin didn’t show up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he became worried and told her husband to call the police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What sports does Justin play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Justin plays baseball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Does Justin have any brothers or sisters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Yes, he has a sister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Who else has been taken by the aliens?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Mavis Wood was taken  by the aliens too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304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191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826920" y="404640"/>
          <a:ext cx="8066160" cy="6147000"/>
        </p:xfrm>
        <a:graphic>
          <a:graphicData uri="http://schemas.openxmlformats.org/drawingml/2006/table">
            <a:tbl>
              <a:tblPr/>
              <a:tblGrid>
                <a:gridCol w="2276640"/>
                <a:gridCol w="5789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Main Poin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pporting detail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17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Justin Foster went missing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s. Foster thought he was spending the night with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 friend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r. Foster was surprised___________________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___________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 Foster _____________  at the family lunch the next day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The police found that Justin returned home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ustin’s friends said ______________   after the                               game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tnesses said_________________________       at 10:45p.m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 ________________at about 11p.m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Justin was taken away by aliens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saw __________________ flying outside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lly heard _________    and then the UFO disappeared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vis Wood thought Justin ________________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_______________.</a:t>
                      </a:r>
                      <a:endParaRPr b="0" lang="en-US" sz="2000" spc="-1" strike="noStrike">
                        <a:solidFill>
                          <a:srgbClr val="463634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5874120" y="148284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he didn’t tell anyon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271680" y="1893960"/>
            <a:ext cx="294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at he was staying out lat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20320" y="228600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idn’t show up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40600" y="299412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Justin went hom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33720" y="3643200"/>
            <a:ext cx="331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ey saw Justin walking  hom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567320" y="4343400"/>
            <a:ext cx="20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Justin return home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3520" y="472428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 large spaceship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93160" y="5105520"/>
            <a:ext cx="145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Justin shout</a:t>
            </a: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155280" y="568152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was taken awa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275280" y="60706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by the aliens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do when your son didn’t show up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were you doing that nigh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hear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the aliens look like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you think may happen to Justin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614240" y="44067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463634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867280" y="189000"/>
            <a:ext cx="1800360" cy="187164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5791320" y="24382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3"/>
          <a:stretch/>
        </p:blipFill>
        <p:spPr>
          <a:xfrm>
            <a:off x="1219320" y="2057400"/>
            <a:ext cx="2133360" cy="205740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4"/>
          <a:stretch/>
        </p:blipFill>
        <p:spPr>
          <a:xfrm>
            <a:off x="5867280" y="4572000"/>
            <a:ext cx="1729080" cy="1593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678320" y="4267080"/>
            <a:ext cx="175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hn Smi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VO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67280" y="19810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. Fos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91320" y="4191120"/>
            <a:ext cx="178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rs. Foster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0000" y="60930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ell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9827000">
            <a:off x="3657600" y="2438280"/>
            <a:ext cx="976320" cy="138240"/>
          </a:xfrm>
          <a:prstGeom prst="rightArrow">
            <a:avLst>
              <a:gd name="adj1" fmla="val 50000"/>
              <a:gd name="adj2" fmla="val 176563"/>
            </a:avLst>
          </a:prstGeom>
          <a:solidFill>
            <a:srgbClr val="ff3399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2053800">
            <a:off x="3580920" y="3504960"/>
            <a:ext cx="1057320" cy="145800"/>
          </a:xfrm>
          <a:prstGeom prst="rightArrow">
            <a:avLst>
              <a:gd name="adj1" fmla="val 50000"/>
              <a:gd name="adj2" fmla="val 181296"/>
            </a:avLst>
          </a:prstGeom>
          <a:solidFill>
            <a:srgbClr val="ff3399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21598800">
            <a:off x="3657600" y="2971440"/>
            <a:ext cx="976320" cy="138240"/>
          </a:xfrm>
          <a:prstGeom prst="rightArrow">
            <a:avLst>
              <a:gd name="adj1" fmla="val 50000"/>
              <a:gd name="adj2" fmla="val 176563"/>
            </a:avLst>
          </a:prstGeom>
          <a:solidFill>
            <a:srgbClr val="ff3399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9" name="Cloud"/>
          <p:cNvSpPr/>
          <p:nvPr/>
        </p:nvSpPr>
        <p:spPr>
          <a:xfrm>
            <a:off x="2362320" y="0"/>
            <a:ext cx="2743200" cy="18381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When? Where? Who ? What? How?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  <a:ea typeface="Times New Roman"/>
              </a:rPr>
              <a:t>• • •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3310400">
            <a:off x="3188880" y="1611000"/>
            <a:ext cx="111240" cy="5173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do when your son didn’t show up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were you doing that nigh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id you hear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the aliens look like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What do you think may happen to Justin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614240" y="440676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463634"/>
                </a:solidFill>
                <a:latin typeface="Times New Roman"/>
              </a:rPr>
              <a:t>…</a:t>
            </a:r>
            <a:endParaRPr b="0" lang="en-US" sz="6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ca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ff"/>
                </a:solidFill>
                <a:latin typeface="Times New Roman"/>
              </a:rPr>
              <a:t>Homework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2120" y="3200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lease give an ending to the story.Was Justin really taken away by aliens or were there any other reasons?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4572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4191120" cy="4572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152280" y="6477120"/>
            <a:ext cx="4191120" cy="3808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4495680" y="6477120"/>
            <a:ext cx="4191120" cy="3808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62120" y="2124000"/>
            <a:ext cx="72579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inish part F and do some speaking practice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according to the sampl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3581280" y="609480"/>
            <a:ext cx="4114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ank 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1295280" y="836640"/>
            <a:ext cx="643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Tales of the unexplained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70106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828800" y="3048120"/>
            <a:ext cx="4952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371520"/>
            <a:ext cx="14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FO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19800" y="380880"/>
            <a:ext cx="297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ien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867280" y="1752480"/>
            <a:ext cx="2919600" cy="35816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152280" y="1066680"/>
            <a:ext cx="5181840" cy="434340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Do you believe in UFOs and aliens? Why or why no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If you saw a UFO and an alien some day, what would you do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What other unexplained things do you know</a:t>
            </a:r>
            <a:r>
              <a:rPr b="0" lang="en-US" sz="32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3333ff"/>
                </a:solidFill>
                <a:latin typeface="Comic Sans MS"/>
              </a:rPr>
              <a:t>about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36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Comic Sans MS"/>
              </a:rPr>
              <a:t>Discussion</a:t>
            </a:r>
            <a:br>
              <a:rPr sz="4400"/>
            </a:br>
            <a:endParaRPr b="0" lang="en-US" sz="4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219320" y="3124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eti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050840" y="3220920"/>
            <a:ext cx="184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8960" y="403848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yramid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15360" y="6248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neheng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029200" y="3048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h Ness Mons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28600" y="228600"/>
            <a:ext cx="8381880" cy="5905440"/>
            <a:chOff x="228600" y="228600"/>
            <a:chExt cx="8381880" cy="5905440"/>
          </a:xfrm>
        </p:grpSpPr>
        <p:grpSp>
          <p:nvGrpSpPr>
            <p:cNvPr id="253" name=""/>
            <p:cNvGrpSpPr/>
            <p:nvPr/>
          </p:nvGrpSpPr>
          <p:grpSpPr>
            <a:xfrm>
              <a:off x="228600" y="228600"/>
              <a:ext cx="8381880" cy="5905440"/>
              <a:chOff x="228600" y="228600"/>
              <a:chExt cx="8381880" cy="5905440"/>
            </a:xfrm>
          </p:grpSpPr>
          <p:pic>
            <p:nvPicPr>
              <p:cNvPr id="2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3581280"/>
                <a:ext cx="3886200" cy="25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5680" y="3581280"/>
                <a:ext cx="4114800" cy="25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9720" y="228600"/>
                <a:ext cx="4114800" cy="2819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57" name="" descr=""/>
            <p:cNvPicPr/>
            <p:nvPr/>
          </p:nvPicPr>
          <p:blipFill>
            <a:blip r:embed="rId4"/>
            <a:stretch/>
          </p:blipFill>
          <p:spPr>
            <a:xfrm>
              <a:off x="228600" y="228600"/>
              <a:ext cx="380988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>
            <a:off x="1294560" y="624852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transition advTm="3000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228600" y="228600"/>
            <a:ext cx="8381880" cy="5905440"/>
            <a:chOff x="228600" y="228600"/>
            <a:chExt cx="8381880" cy="5905440"/>
          </a:xfrm>
        </p:grpSpPr>
        <p:grpSp>
          <p:nvGrpSpPr>
            <p:cNvPr id="260" name=""/>
            <p:cNvGrpSpPr/>
            <p:nvPr/>
          </p:nvGrpSpPr>
          <p:grpSpPr>
            <a:xfrm>
              <a:off x="228600" y="228600"/>
              <a:ext cx="8381880" cy="5905440"/>
              <a:chOff x="228600" y="228600"/>
              <a:chExt cx="8381880" cy="5905440"/>
            </a:xfrm>
          </p:grpSpPr>
          <p:pic>
            <p:nvPicPr>
              <p:cNvPr id="26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3581280"/>
                <a:ext cx="3886200" cy="2514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495680" y="3581280"/>
                <a:ext cx="4114800" cy="2552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419720" y="228600"/>
                <a:ext cx="4114800" cy="2819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4" name="" descr=""/>
            <p:cNvPicPr/>
            <p:nvPr/>
          </p:nvPicPr>
          <p:blipFill>
            <a:blip r:embed="rId4"/>
            <a:stretch/>
          </p:blipFill>
          <p:spPr>
            <a:xfrm>
              <a:off x="228600" y="228600"/>
              <a:ext cx="380988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"/>
          <p:cNvSpPr/>
          <p:nvPr/>
        </p:nvSpPr>
        <p:spPr>
          <a:xfrm>
            <a:off x="1219320" y="3124080"/>
            <a:ext cx="23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eti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29200" y="3048120"/>
            <a:ext cx="31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h Ness Mons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94560" y="6248520"/>
            <a:ext cx="178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15360" y="6248520"/>
            <a:ext cx="168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neheng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e4d7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053440" y="1125360"/>
            <a:ext cx="55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oy missing, police puzzled</a:t>
            </a: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32920" y="2590920"/>
            <a:ext cx="75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oy is missing, and the police are puzzled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20" y="3860640"/>
            <a:ext cx="85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The title of a news story is usually incomplete</a:t>
            </a: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57200" y="0"/>
            <a:ext cx="3840120" cy="3049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495680" y="0"/>
            <a:ext cx="3840120" cy="30492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304920" y="6629400"/>
            <a:ext cx="4190760" cy="2286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4"/>
          <a:stretch/>
        </p:blipFill>
        <p:spPr>
          <a:xfrm>
            <a:off x="4648320" y="6629400"/>
            <a:ext cx="4221000" cy="2286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267080" y="1828800"/>
            <a:ext cx="304920" cy="824040"/>
          </a:xfrm>
          <a:prstGeom prst="downArrow">
            <a:avLst>
              <a:gd name="adj1" fmla="val 50000"/>
              <a:gd name="adj2" fmla="val 67562"/>
            </a:avLst>
          </a:prstGeom>
          <a:solidFill>
            <a:srgbClr val="ff0066"/>
          </a:solidFill>
          <a:ln w="12600">
            <a:solidFill>
              <a:srgbClr val="4636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d2e0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Read the news story quickly and answer the questions.</a:t>
            </a:r>
            <a:endParaRPr b="0" i="1" lang="en-US" sz="2800" spc="-1" strike="noStrike">
              <a:solidFill>
                <a:srgbClr val="795241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3049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191120" cy="304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609480" y="1905120"/>
            <a:ext cx="7010640" cy="29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is missing?  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and where is he missing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the police know what happened to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in?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4648320" y="6553080"/>
            <a:ext cx="4190760" cy="3049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228600" y="6553080"/>
            <a:ext cx="41911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2T12:01:39Z</dcterms:created>
  <dc:creator>软件仓库</dc:creator>
  <dc:description/>
  <dc:language>en-US</dc:language>
  <cp:lastModifiedBy>USER</cp:lastModifiedBy>
  <dcterms:modified xsi:type="dcterms:W3CDTF">2005-11-06T15:53:01Z</dcterms:modified>
  <cp:revision>110</cp:revision>
  <dc:subject/>
  <dc:title>PowerPoint 演示文稿</dc:title>
</cp:coreProperties>
</file>