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5.gif" ContentType="image/gif"/>
  <Override PartName="/ppt/media/chimes.wav" ContentType="audio/x-wav"/>
  <Override PartName="/ppt/media/image16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.jpeg" ContentType="image/jpeg"/>
  <Override PartName="/ppt/media/image26.gif" ContentType="image/gif"/>
  <Override PartName="/ppt/media/image20.jpeg" ContentType="image/jpeg"/>
  <Override PartName="/ppt/media/image24.gif" ContentType="image/gif"/>
  <Override PartName="/ppt/media/image21.jpeg" ContentType="image/jpeg"/>
  <Override PartName="/ppt/media/image23.gif" ContentType="image/gif"/>
  <Override PartName="/ppt/media/explode.wav" ContentType="audio/x-wav"/>
  <Override PartName="/ppt/media/image18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27.gif" ContentType="image/gif"/>
  <Override PartName="/ppt/media/image22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4AD5-EB67-464F-8C23-10D49D3C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0836-1EEB-492F-B880-849A23A6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971-C269-4C4A-8529-BC0C636E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2EC-510E-49BF-A0FC-CC0AD2A67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4879E-D617-4CC8-BCF4-AC3BB466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62BE-EEA3-4625-A723-7247BBD0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679CE-775E-48F9-BAF0-672A8709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4C7F-087E-4048-A4B9-43950F18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9152-31A5-4D2D-8D29-213DB012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6EEBB-0E12-45FC-A18E-6BF07370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A84A-AD6E-4739-99A8-BA9AF24C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3D2-08C8-4FCC-A5F0-96FDFFD8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98C9-2DA4-4D5F-9CC3-B4B2DFBB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021A1-1D35-4690-AB27-31D65B83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1093-DC21-49E8-9153-D67BA6A4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F014-844A-412D-9B3C-01C1C4A06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CBB2B-2909-4B69-A66C-317D2CF9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8876D-CC4F-4016-BAB2-568AAB87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47952-EE60-49D4-AD5F-836EDCDC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40E8D-E898-4200-A140-DEFE2CA8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3E89B-DF27-4FE6-9FFF-FC9D051A2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D1B1A-5327-4787-8A10-C2E27392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F7F-9A76-477A-9D09-5AD6BE8C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5E198-A0A7-4F6C-AE97-5CBBC953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19415-CB37-4AE5-9310-7C13040B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D4FDB-5126-4F23-A7F8-EB540E04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47A31-D1A7-4A40-BFA9-0C7B4F05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84B19-C0A7-4B65-8733-3FE6264EC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27626-5218-45C7-BFB3-016A0848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89CD-833B-4E71-A308-70F1FE8C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E479E-DEDF-433B-9BEA-9CC1DA5E4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C50E6-51E1-4C9B-882F-39D411ED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91BD3-E8EB-4440-9EC8-807A4CF0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D892-AE93-42DD-BC76-E2C1ED32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E98C3-0562-436E-BED2-CEF9EC0DE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36352-E455-49A5-B8D9-AA393016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97410-0AF1-40FC-8E33-8E971AA9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F1297-5F4B-4435-AD85-568B1625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E0E7-9EE3-43F4-B5F9-4FAEC221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10086-01F4-4905-807E-87B50F033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7F903-3C94-487F-A81F-C66EFF7C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3A121-F4A4-4E61-B26E-BFD43BE2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554DB-2D05-45EB-B142-5113B9A7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8AECF-CD36-4636-8FAC-F37B83469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F729-92B6-43EE-AFC2-D6552287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AAC75-5CD6-4EF1-A827-259E09D5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EA10B-A5A0-4188-98B8-F9F83AD6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897A8-CADB-423F-BD03-C7490A71A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40C19-D43D-4409-A562-E59288D3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54EF3-E636-4DE5-9530-1F1C9C72A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254C8-34A1-4740-9507-E5B56222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8EC8D-0C2E-4ED6-8922-5E54A046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51D17-4811-49B6-A1F0-7F11815A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A817B-1040-468B-9EAF-AD828DCB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ABDD5-4055-48E7-B916-8CB8A778B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29B-0A8E-40ED-A412-247C3329C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48A17-39AE-4B44-B463-00F438DB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14F8A-37A4-4191-B2A1-C7D173E7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821FE-B014-4E6B-8833-3A31C176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3DA95-1529-4885-9B19-6D7B5B59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DBED0-1D3A-4ABE-8203-6F1B1D8F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3B3F3-45F1-4C08-BF74-AE2CB7EB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2FFAE-84E9-49D5-B6F7-365B1B9C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813642-4FBF-4D27-88D1-A813C28CE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9FF57-579F-40D9-BD9D-529CC815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D945-1BF8-4CB2-BBCD-40A668F8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B7AC-C084-4FAB-9ADA-71772CDF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A233F-00CB-4FFB-A179-2327D348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055F8-625B-4CB0-A842-D46B0443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B9904-BA20-43E7-BD7D-88F1537C5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521-AF71-49B1-AABF-5D1F7A42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4A37-E209-4376-8357-D0133C7B0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3C0AD-16B4-4EAD-B2F9-A2FCE7A9CDA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3BE8-BBC3-4980-BA92-EB5FAA18DB4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9E9E-9CAF-40B1-9068-E4E1B0FE36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265A-6040-4E65-9144-790A912BC4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130-7A50-4F3E-92C2-480D78AB6A8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B515-109F-423C-B5A6-6E5FD665796F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79280" y="620640"/>
            <a:ext cx="896472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Welcome to the class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826920" y="429228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执教者：</a:t>
            </a: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如皋市第一中学  周海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6600" spc="-1" strike="noStrike">
                <a:solidFill>
                  <a:srgbClr val="0066ff"/>
                </a:solidFill>
                <a:latin typeface="Arial"/>
              </a:rPr>
              <a:t>Tell about a strange dream even a nightmare.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Discussion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2358720"/>
            <a:ext cx="63374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Suppose you were taken away by the aliens, what would you do ?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6156360" y="2205000"/>
            <a:ext cx="2736720" cy="39607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468360" y="692280"/>
            <a:ext cx="2103480" cy="222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Is mystery equal to superstition(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迷信</a:t>
            </a:r>
            <a:r>
              <a:rPr b="1" lang="zh-CN" sz="5400" spc="-1" strike="noStrike">
                <a:solidFill>
                  <a:srgbClr val="000099"/>
                </a:solidFill>
                <a:latin typeface="Arial"/>
              </a:rPr>
              <a:t>)?</a:t>
            </a:r>
            <a:endParaRPr b="0" lang="en-US" sz="5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3657600" cy="41036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cc"/>
                </a:solidFill>
                <a:latin typeface="Arial"/>
              </a:rPr>
              <a:t>★</a:t>
            </a:r>
            <a:r>
              <a:rPr b="1" lang="en-US" sz="4000" spc="-1" strike="noStrike">
                <a:solidFill>
                  <a:srgbClr val="000099"/>
                </a:solidFill>
                <a:latin typeface="Basemic Times"/>
              </a:rPr>
              <a:t>take scientific attitudes towards mysteries 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A great succes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105520" y="1773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velopment of science and technology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set up  great ideals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Basemic Times"/>
              </a:rPr>
              <a:t>理想）</a:t>
            </a:r>
            <a:r>
              <a:rPr b="1" lang="zh-CN" sz="4400" spc="-1" strike="noStrike">
                <a:solidFill>
                  <a:srgbClr val="000000"/>
                </a:solidFill>
                <a:latin typeface="Basemic Times"/>
              </a:rPr>
              <a:t>and work hard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75272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179280" y="1699920"/>
            <a:ext cx="4105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deals are like the stars — It seems that we never reach them, but like mariners ,we chart our course by th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理想犹如天上的星—     我们似乎不能到达，但像水手一样，我们的航程可凭它指引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33360"/>
            <a:ext cx="4206960" cy="53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Arial"/>
              </a:rPr>
              <a:t>Homework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2565000"/>
            <a:ext cx="853272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Write a strange dream of a mysterious sto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Search for some information about Shenzhou </a:t>
            </a:r>
            <a:r>
              <a:rPr b="1" lang="en-US" sz="2800" spc="-1" strike="noStrike">
                <a:solidFill>
                  <a:srgbClr val="006600"/>
                </a:solidFill>
                <a:latin typeface="BatangChe"/>
              </a:rPr>
              <a:t>Ⅵ</a:t>
            </a:r>
            <a:r>
              <a:rPr b="1" lang="en-US" sz="4000" spc="-1" strike="noStrike">
                <a:solidFill>
                  <a:srgbClr val="006600"/>
                </a:solidFill>
                <a:latin typeface="BatangChe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BatangChe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819520" y="1599840"/>
            <a:ext cx="3504960" cy="685800"/>
          </a:xfrm>
          <a:prstGeom prst="rect">
            <a:avLst/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隶书"/>
              </a:rPr>
              <a:t>感谢您的光临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2590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楷体_GB2312"/>
              </a:rPr>
              <a:t>请留下宝贵建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761760" cy="72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5832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2484360" y="981000"/>
            <a:ext cx="2303640" cy="2737080"/>
          </a:xfrm>
          <a:prstGeom prst="rect">
            <a:avLst/>
          </a:prstGeom>
        </p:spPr>
        <p:txBody>
          <a:bodyPr wrap="none" lIns="90000" rIns="90000" tIns="46800" bIns="46800" anchor="ctr">
            <a:prstTxWarp prst="textCascadeUp">
              <a:avLst>
                <a:gd name="adj" fmla="val 433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MS Gothic"/>
              </a:rPr>
              <a:t>Good bye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MS Gothic"/>
              <a:ea typeface="MS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Arial"/>
              </a:rPr>
              <a:t>Unexplained mysteries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0920" y="2852640"/>
            <a:ext cx="3887640" cy="3673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5148360" y="1557360"/>
            <a:ext cx="3671640" cy="32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</a:rPr>
              <a:t>Boy missing, police puzzled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2226960" cy="3095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643280" y="1341360"/>
            <a:ext cx="4105440" cy="287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 boy is missing; the police are puzzled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sten to Para1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zz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43280" y="1483920"/>
            <a:ext cx="41911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wo days ag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 Dover, New Hampshi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ghtings of puzzling lights &amp; reports of alien visit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177336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76720" y="249228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407664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66"/>
                </a:solidFill>
                <a:latin typeface="Arial"/>
              </a:rPr>
              <a:t>Reading strategy</a:t>
            </a: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5075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title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                                             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ff0066"/>
                </a:solidFill>
                <a:latin typeface="Arial"/>
              </a:rPr>
              <a:t>main ide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</a:rPr>
              <a:t>paragraph one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27640" y="2852640"/>
            <a:ext cx="360360" cy="2665440"/>
          </a:xfrm>
          <a:custGeom>
            <a:avLst/>
            <a:gdLst>
              <a:gd name="textAreaLeft" fmla="*/ 0 w 360360"/>
              <a:gd name="textAreaRight" fmla="*/ 129960 w 360360"/>
              <a:gd name="textAreaTop" fmla="*/ 69480 h 2665440"/>
              <a:gd name="textAreaBottom" fmla="*/ 259596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ad the rest part for mai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Justin Foster went missing.</a:t>
            </a: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 2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police found that Justin returned home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Para3-4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The boy was taken away by aliens.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66"/>
                </a:solidFill>
                <a:latin typeface="Arial"/>
              </a:rPr>
              <a:t>(Para4-5)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7" name=""/>
          <p:cNvGraphicFramePr/>
          <p:nvPr/>
        </p:nvGraphicFramePr>
        <p:xfrm>
          <a:off x="0" y="0"/>
          <a:ext cx="9144000" cy="689292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in foster went missin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s</a:t>
                      </a:r>
                      <a:r>
                        <a:rPr b="1" lang="zh-CN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</a:t>
                      </a: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oster thought </a:t>
                      </a:r>
                      <a:r>
                        <a:rPr b="1" lang="zh-CN" sz="2400" spc="-1" strike="noStrike" u="sng">
                          <a:solidFill>
                            <a:srgbClr val="fc04a3"/>
                          </a:solidFill>
                          <a:uFillTx/>
                          <a:latin typeface="Arial"/>
                        </a:rPr>
                        <a:t>he was spending the night with a friend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r Foster was surpris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3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police found that Justin returned home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Justin’s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friends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Witnesses said</a:t>
                      </a:r>
                      <a:r>
                        <a:rPr b="1" lang="en-US" sz="28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"/>
          <p:cNvSpPr/>
          <p:nvPr/>
        </p:nvSpPr>
        <p:spPr>
          <a:xfrm>
            <a:off x="2909520" y="1557360"/>
            <a:ext cx="64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66ffff"/>
                </a:solidFill>
                <a:latin typeface="Arial"/>
              </a:rPr>
              <a:t>                      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his s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c04a3"/>
                </a:solidFill>
                <a:latin typeface="Arial"/>
              </a:rPr>
              <a:t>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didn’t tell anyone that he was staying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61520" y="2565360"/>
            <a:ext cx="443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ffff"/>
                </a:solidFill>
                <a:latin typeface="Arial"/>
              </a:rPr>
              <a:t>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didn’t show up at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amily lunch the next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196440" y="3933720"/>
            <a:ext cx="581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Justin we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ome after playing baseball with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53680" y="4941720"/>
            <a:ext cx="58942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ffff"/>
                </a:solidFill>
                <a:latin typeface="Arial"/>
              </a:rPr>
              <a:t>                            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that they saw Justi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walking towards his home at 10.45 p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727160" y="5962680"/>
            <a:ext cx="4419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ff"/>
                </a:solidFill>
                <a:latin typeface="Arial"/>
              </a:rPr>
              <a:t>     </a:t>
            </a: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him put on his favouri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c04a3"/>
                </a:solidFill>
                <a:uFillTx/>
                <a:latin typeface="Arial"/>
              </a:rPr>
              <a:t>CD after he went to his roo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78160" y="595008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Kelly he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60360" y="256536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Arial"/>
              </a:rPr>
              <a:t>Justin Fo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" name=""/>
          <p:cNvGraphicFramePr/>
          <p:nvPr/>
        </p:nvGraphicFramePr>
        <p:xfrm>
          <a:off x="0" y="0"/>
          <a:ext cx="9144000" cy="3429000"/>
        </p:xfrm>
        <a:graphic>
          <a:graphicData uri="http://schemas.openxmlformats.org/drawingml/2006/table">
            <a:tbl>
              <a:tblPr/>
              <a:tblGrid>
                <a:gridCol w="3132000"/>
                <a:gridCol w="6012000"/>
              </a:tblGrid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in poin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upporting detail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boy was taken away by alien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</a:t>
                      </a:r>
                      <a:r>
                        <a:rPr b="1" lang="en-US" sz="32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saw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Kelly hear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ffff"/>
                          </a:solidFill>
                          <a:latin typeface="Arial"/>
                        </a:rPr>
                        <a:t>Mavis Wood sai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3339720" y="765000"/>
            <a:ext cx="4188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a large spacesh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flying out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32360" y="1628640"/>
            <a:ext cx="207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Justin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067920" y="2060640"/>
            <a:ext cx="60786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4a3"/>
                </a:solidFill>
                <a:latin typeface="Arial"/>
              </a:rPr>
              <a:t>                                 </a:t>
            </a: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that the aliens too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Her away so that they could do scientif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4a3"/>
                </a:solidFill>
                <a:uFillTx/>
                <a:latin typeface="Arial"/>
              </a:rPr>
              <a:t>research on h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3443400"/>
            <a:ext cx="914400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4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4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e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lice - Kelly ( seeing &amp; hearing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or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ctive (Sam Peterson) ( possibilitie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urnalist ( report the news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9T07:31:08Z</dcterms:created>
  <dc:creator>MC SYSTEM</dc:creator>
  <dc:description/>
  <dc:language>en-US</dc:language>
  <cp:lastModifiedBy>高一英语组</cp:lastModifiedBy>
  <dcterms:modified xsi:type="dcterms:W3CDTF">2005-11-06T02:26:18Z</dcterms:modified>
  <cp:revision>20</cp:revision>
  <dc:subject/>
  <dc:title>Welcome to the class </dc:title>
</cp:coreProperties>
</file>