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乌鸦和狐狸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6674-94C6-4760-B5CF-462DBFC2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A98-EA11-4F02-9B41-D26697DB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51AC-A10F-4F63-8DD5-67BA1C4C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289-85D6-45A8-A338-6B72D572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46C-39DF-4321-B190-788771E9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BCE-ADED-411C-A9E8-8068C387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64E-7430-4D4B-A6B0-0DAD76C2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5C7-28C4-4E92-B15A-B1920C4A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9B4-0B81-4FE4-AB90-BA430D17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1C8-D2A3-4F10-9E71-02F4F6EA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5A9-9F2B-48D6-9E94-2CB8CAEC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62F-6C06-4DD5-B8C3-3BEAE656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D534-531E-4E34-880A-29672DE15A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2133720"/>
            <a:ext cx="4419720" cy="1752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狐狸和乌鸦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6279120" y="62485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九义教材小学语文第三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02920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狐狸与乌鸦" descr=""/>
          <p:cNvPicPr/>
          <p:nvPr/>
        </p:nvPicPr>
        <p:blipFill>
          <a:blip r:embed="rId1"/>
          <a:stretch/>
        </p:blipFill>
        <p:spPr>
          <a:xfrm>
            <a:off x="2286000" y="76320"/>
            <a:ext cx="446868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食物" descr=""/>
          <p:cNvPicPr/>
          <p:nvPr/>
        </p:nvPicPr>
        <p:blipFill>
          <a:blip r:embed="rId2"/>
          <a:stretch/>
        </p:blipFill>
        <p:spPr>
          <a:xfrm>
            <a:off x="4816440" y="3809880"/>
            <a:ext cx="822240" cy="533520"/>
          </a:xfrm>
          <a:prstGeom prst="rect">
            <a:avLst/>
          </a:prstGeom>
          <a:ln w="0">
            <a:noFill/>
          </a:ln>
        </p:spPr>
      </p:pic>
      <p:pic>
        <p:nvPicPr>
          <p:cNvPr id="46" name="狐狸与乌鸦" descr=""/>
          <p:cNvPicPr/>
          <p:nvPr/>
        </p:nvPicPr>
        <p:blipFill>
          <a:blip r:embed="rId3"/>
          <a:srcRect l="0" t="0" r="0" b="77779"/>
          <a:stretch/>
        </p:blipFill>
        <p:spPr>
          <a:xfrm>
            <a:off x="2286000" y="0"/>
            <a:ext cx="446868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食物" descr=""/>
          <p:cNvPicPr/>
          <p:nvPr/>
        </p:nvPicPr>
        <p:blipFill>
          <a:blip r:embed="rId4"/>
          <a:stretch/>
        </p:blipFill>
        <p:spPr>
          <a:xfrm>
            <a:off x="4800600" y="1066680"/>
            <a:ext cx="822240" cy="53352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0" y="0"/>
            <a:ext cx="228600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0" y="131436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0" y="255276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0" y="379080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endshow"/>
          </p:cNvPr>
          <p:cNvSpPr/>
          <p:nvPr/>
        </p:nvSpPr>
        <p:spPr>
          <a:xfrm>
            <a:off x="6095880" y="6248520"/>
            <a:ext cx="609840" cy="609480"/>
          </a:xfrm>
          <a:custGeom>
            <a:avLst/>
            <a:gdLst>
              <a:gd name="textAreaLeft" fmla="*/ 95040 w 609840"/>
              <a:gd name="textAreaRight" fmla="*/ 533880 w 60984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502920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9" action="ppaction://hlinksldjump"/>
          </p:cNvPr>
          <p:cNvSpPr/>
          <p:nvPr/>
        </p:nvSpPr>
        <p:spPr>
          <a:xfrm>
            <a:off x="6858000" y="0"/>
            <a:ext cx="228600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0" action="ppaction://hlinksldjump"/>
          </p:cNvPr>
          <p:cNvSpPr/>
          <p:nvPr/>
        </p:nvSpPr>
        <p:spPr>
          <a:xfrm>
            <a:off x="6858000" y="131436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1" action="ppaction://hlinksldjump"/>
          </p:cNvPr>
          <p:cNvSpPr/>
          <p:nvPr/>
        </p:nvSpPr>
        <p:spPr>
          <a:xfrm>
            <a:off x="6858000" y="255276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379080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246852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狐狸想了想，就笑着对乌鸦说：“您好，亲爱的乌鸦！”乌鸦不做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371600" y="4343400"/>
            <a:ext cx="1066320" cy="93240"/>
            <a:chOff x="1371600" y="4343400"/>
            <a:chExt cx="1066320" cy="93240"/>
          </a:xfrm>
        </p:grpSpPr>
        <p:sp>
          <p:nvSpPr>
            <p:cNvPr id="60" name=""/>
            <p:cNvSpPr/>
            <p:nvPr/>
          </p:nvSpPr>
          <p:spPr>
            <a:xfrm>
              <a:off x="1371600" y="4362120"/>
              <a:ext cx="53316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04760" y="4343400"/>
              <a:ext cx="53316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657600" y="3716280"/>
            <a:ext cx="1196640" cy="93240"/>
            <a:chOff x="3657600" y="3716280"/>
            <a:chExt cx="1196640" cy="93240"/>
          </a:xfrm>
        </p:grpSpPr>
        <p:sp>
          <p:nvSpPr>
            <p:cNvPr id="63" name=""/>
            <p:cNvSpPr/>
            <p:nvPr/>
          </p:nvSpPr>
          <p:spPr>
            <a:xfrm>
              <a:off x="3657600" y="3735000"/>
              <a:ext cx="59832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55920" y="3716280"/>
              <a:ext cx="59832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768920" y="3716280"/>
            <a:ext cx="1196640" cy="93240"/>
            <a:chOff x="4768920" y="3716280"/>
            <a:chExt cx="1196640" cy="93240"/>
          </a:xfrm>
        </p:grpSpPr>
        <p:sp>
          <p:nvSpPr>
            <p:cNvPr id="66" name=""/>
            <p:cNvSpPr/>
            <p:nvPr/>
          </p:nvSpPr>
          <p:spPr>
            <a:xfrm>
              <a:off x="4768920" y="3735000"/>
              <a:ext cx="59832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67240" y="3716280"/>
              <a:ext cx="59832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867280" y="3716280"/>
            <a:ext cx="1371600" cy="93240"/>
            <a:chOff x="5867280" y="3716280"/>
            <a:chExt cx="1371600" cy="93240"/>
          </a:xfrm>
        </p:grpSpPr>
        <p:sp>
          <p:nvSpPr>
            <p:cNvPr id="69" name=""/>
            <p:cNvSpPr/>
            <p:nvPr/>
          </p:nvSpPr>
          <p:spPr>
            <a:xfrm>
              <a:off x="5867280" y="37350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53080" y="37162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895480" y="4419720"/>
            <a:ext cx="23623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66680" y="24685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狐狸又说：“亲爱的乌鸦，您的孩子好吗？”乌鸦看了狐狸一眼，还是不做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257800" y="3048120"/>
            <a:ext cx="1752480" cy="93240"/>
            <a:chOff x="5257800" y="3048120"/>
            <a:chExt cx="1752480" cy="93240"/>
          </a:xfrm>
        </p:grpSpPr>
        <p:sp>
          <p:nvSpPr>
            <p:cNvPr id="76" name=""/>
            <p:cNvSpPr/>
            <p:nvPr/>
          </p:nvSpPr>
          <p:spPr>
            <a:xfrm>
              <a:off x="5257800" y="3066840"/>
              <a:ext cx="87624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34040" y="3048120"/>
              <a:ext cx="87624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295280" y="3733920"/>
            <a:ext cx="3885840" cy="75600"/>
            <a:chOff x="1295280" y="3733920"/>
            <a:chExt cx="3885840" cy="75600"/>
          </a:xfrm>
        </p:grpSpPr>
        <p:grpSp>
          <p:nvGrpSpPr>
            <p:cNvPr id="79" name=""/>
            <p:cNvGrpSpPr/>
            <p:nvPr/>
          </p:nvGrpSpPr>
          <p:grpSpPr>
            <a:xfrm>
              <a:off x="1295280" y="3733920"/>
              <a:ext cx="1298880" cy="75600"/>
              <a:chOff x="1295280" y="3733920"/>
              <a:chExt cx="1298880" cy="75600"/>
            </a:xfrm>
          </p:grpSpPr>
          <p:sp>
            <p:nvSpPr>
              <p:cNvPr id="80" name=""/>
              <p:cNvSpPr/>
              <p:nvPr/>
            </p:nvSpPr>
            <p:spPr>
              <a:xfrm>
                <a:off x="1295280" y="3749040"/>
                <a:ext cx="64944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944720" y="3733920"/>
                <a:ext cx="64944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452680" y="3733920"/>
              <a:ext cx="1298880" cy="75600"/>
              <a:chOff x="2452680" y="3733920"/>
              <a:chExt cx="1298880" cy="75600"/>
            </a:xfrm>
          </p:grpSpPr>
          <p:sp>
            <p:nvSpPr>
              <p:cNvPr id="83" name=""/>
              <p:cNvSpPr/>
              <p:nvPr/>
            </p:nvSpPr>
            <p:spPr>
              <a:xfrm>
                <a:off x="2452680" y="3749040"/>
                <a:ext cx="64944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102120" y="3733920"/>
                <a:ext cx="64944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692880" y="3733920"/>
              <a:ext cx="1488240" cy="75600"/>
              <a:chOff x="3692880" y="3733920"/>
              <a:chExt cx="1488240" cy="75600"/>
            </a:xfrm>
          </p:grpSpPr>
          <p:sp>
            <p:nvSpPr>
              <p:cNvPr id="86" name=""/>
              <p:cNvSpPr/>
              <p:nvPr/>
            </p:nvSpPr>
            <p:spPr>
              <a:xfrm>
                <a:off x="3692880" y="3749040"/>
                <a:ext cx="74412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437000" y="3733920"/>
                <a:ext cx="74412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"/>
          <p:cNvSpPr/>
          <p:nvPr/>
        </p:nvSpPr>
        <p:spPr>
          <a:xfrm>
            <a:off x="6324480" y="3733920"/>
            <a:ext cx="762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4343400"/>
            <a:ext cx="57913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1401840"/>
            <a:ext cx="655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狐狸又说：“亲爱的乌鸦，您的羽毛真漂亮，麻雀比起你来，可就差多了。你的嗓子真好，谁都爱听您唱歌。您唱几句吧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447920" y="2666880"/>
            <a:ext cx="1196640" cy="93960"/>
            <a:chOff x="1447920" y="2666880"/>
            <a:chExt cx="1196640" cy="93960"/>
          </a:xfrm>
        </p:grpSpPr>
        <p:sp>
          <p:nvSpPr>
            <p:cNvPr id="94" name=""/>
            <p:cNvSpPr/>
            <p:nvPr/>
          </p:nvSpPr>
          <p:spPr>
            <a:xfrm>
              <a:off x="1447920" y="2685960"/>
              <a:ext cx="59832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46240" y="2666880"/>
              <a:ext cx="59832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558880" y="2666880"/>
            <a:ext cx="1196640" cy="93960"/>
            <a:chOff x="2558880" y="2666880"/>
            <a:chExt cx="1196640" cy="93960"/>
          </a:xfrm>
        </p:grpSpPr>
        <p:sp>
          <p:nvSpPr>
            <p:cNvPr id="97" name=""/>
            <p:cNvSpPr/>
            <p:nvPr/>
          </p:nvSpPr>
          <p:spPr>
            <a:xfrm>
              <a:off x="2558880" y="2685960"/>
              <a:ext cx="59832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57200" y="2666880"/>
              <a:ext cx="59832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657600" y="2666880"/>
            <a:ext cx="1371600" cy="93960"/>
            <a:chOff x="3657600" y="2666880"/>
            <a:chExt cx="1371600" cy="93960"/>
          </a:xfrm>
        </p:grpSpPr>
        <p:sp>
          <p:nvSpPr>
            <p:cNvPr id="100" name=""/>
            <p:cNvSpPr/>
            <p:nvPr/>
          </p:nvSpPr>
          <p:spPr>
            <a:xfrm>
              <a:off x="3657600" y="2685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43400" y="2666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876920" y="2666880"/>
            <a:ext cx="1371600" cy="93960"/>
            <a:chOff x="4876920" y="2666880"/>
            <a:chExt cx="1371600" cy="93960"/>
          </a:xfrm>
        </p:grpSpPr>
        <p:sp>
          <p:nvSpPr>
            <p:cNvPr id="103" name=""/>
            <p:cNvSpPr/>
            <p:nvPr/>
          </p:nvSpPr>
          <p:spPr>
            <a:xfrm>
              <a:off x="4876920" y="2685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62720" y="2666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095880" y="2666880"/>
            <a:ext cx="1371600" cy="93960"/>
            <a:chOff x="6095880" y="2666880"/>
            <a:chExt cx="1371600" cy="93960"/>
          </a:xfrm>
        </p:grpSpPr>
        <p:sp>
          <p:nvSpPr>
            <p:cNvPr id="106" name=""/>
            <p:cNvSpPr/>
            <p:nvPr/>
          </p:nvSpPr>
          <p:spPr>
            <a:xfrm>
              <a:off x="6095880" y="2685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81680" y="2666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486400" y="1981080"/>
            <a:ext cx="1828800" cy="93960"/>
            <a:chOff x="5486400" y="1981080"/>
            <a:chExt cx="1828800" cy="93960"/>
          </a:xfrm>
        </p:grpSpPr>
        <p:sp>
          <p:nvSpPr>
            <p:cNvPr id="109" name=""/>
            <p:cNvSpPr/>
            <p:nvPr/>
          </p:nvSpPr>
          <p:spPr>
            <a:xfrm>
              <a:off x="5486400" y="2000160"/>
              <a:ext cx="9144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00800" y="1981080"/>
              <a:ext cx="9144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447920" y="3259080"/>
            <a:ext cx="1371600" cy="93240"/>
            <a:chOff x="1447920" y="3259080"/>
            <a:chExt cx="1371600" cy="93240"/>
          </a:xfrm>
        </p:grpSpPr>
        <p:sp>
          <p:nvSpPr>
            <p:cNvPr id="112" name=""/>
            <p:cNvSpPr/>
            <p:nvPr/>
          </p:nvSpPr>
          <p:spPr>
            <a:xfrm>
              <a:off x="144792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372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743200" y="3259080"/>
            <a:ext cx="1371600" cy="93240"/>
            <a:chOff x="2743200" y="3259080"/>
            <a:chExt cx="1371600" cy="93240"/>
          </a:xfrm>
        </p:grpSpPr>
        <p:sp>
          <p:nvSpPr>
            <p:cNvPr id="115" name=""/>
            <p:cNvSpPr/>
            <p:nvPr/>
          </p:nvSpPr>
          <p:spPr>
            <a:xfrm>
              <a:off x="274320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900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962520" y="3259080"/>
            <a:ext cx="1371600" cy="93240"/>
            <a:chOff x="3962520" y="3259080"/>
            <a:chExt cx="1371600" cy="93240"/>
          </a:xfrm>
        </p:grpSpPr>
        <p:sp>
          <p:nvSpPr>
            <p:cNvPr id="118" name=""/>
            <p:cNvSpPr/>
            <p:nvPr/>
          </p:nvSpPr>
          <p:spPr>
            <a:xfrm>
              <a:off x="396252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832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81480" y="3259080"/>
            <a:ext cx="1371600" cy="93240"/>
            <a:chOff x="5181480" y="3259080"/>
            <a:chExt cx="1371600" cy="93240"/>
          </a:xfrm>
        </p:grpSpPr>
        <p:sp>
          <p:nvSpPr>
            <p:cNvPr id="121" name=""/>
            <p:cNvSpPr/>
            <p:nvPr/>
          </p:nvSpPr>
          <p:spPr>
            <a:xfrm>
              <a:off x="518148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6728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172200" y="3259080"/>
            <a:ext cx="1371600" cy="93240"/>
            <a:chOff x="6172200" y="3259080"/>
            <a:chExt cx="1371600" cy="93240"/>
          </a:xfrm>
        </p:grpSpPr>
        <p:sp>
          <p:nvSpPr>
            <p:cNvPr id="124" name=""/>
            <p:cNvSpPr/>
            <p:nvPr/>
          </p:nvSpPr>
          <p:spPr>
            <a:xfrm>
              <a:off x="617220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371600" y="3809880"/>
            <a:ext cx="1371600" cy="93960"/>
            <a:chOff x="1371600" y="3809880"/>
            <a:chExt cx="1371600" cy="93960"/>
          </a:xfrm>
        </p:grpSpPr>
        <p:sp>
          <p:nvSpPr>
            <p:cNvPr id="127" name=""/>
            <p:cNvSpPr/>
            <p:nvPr/>
          </p:nvSpPr>
          <p:spPr>
            <a:xfrm>
              <a:off x="137160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740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666880" y="3809880"/>
            <a:ext cx="1371600" cy="93960"/>
            <a:chOff x="2666880" y="3809880"/>
            <a:chExt cx="1371600" cy="93960"/>
          </a:xfrm>
        </p:grpSpPr>
        <p:sp>
          <p:nvSpPr>
            <p:cNvPr id="130" name=""/>
            <p:cNvSpPr/>
            <p:nvPr/>
          </p:nvSpPr>
          <p:spPr>
            <a:xfrm>
              <a:off x="266688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886200" y="3809880"/>
            <a:ext cx="1371600" cy="93960"/>
            <a:chOff x="3886200" y="3809880"/>
            <a:chExt cx="1371600" cy="93960"/>
          </a:xfrm>
        </p:grpSpPr>
        <p:sp>
          <p:nvSpPr>
            <p:cNvPr id="133" name=""/>
            <p:cNvSpPr/>
            <p:nvPr/>
          </p:nvSpPr>
          <p:spPr>
            <a:xfrm>
              <a:off x="388620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105520" y="3809880"/>
            <a:ext cx="1371600" cy="93960"/>
            <a:chOff x="5105520" y="3809880"/>
            <a:chExt cx="1371600" cy="93960"/>
          </a:xfrm>
        </p:grpSpPr>
        <p:sp>
          <p:nvSpPr>
            <p:cNvPr id="136" name=""/>
            <p:cNvSpPr/>
            <p:nvPr/>
          </p:nvSpPr>
          <p:spPr>
            <a:xfrm>
              <a:off x="510552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9132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095880" y="3809880"/>
            <a:ext cx="1371600" cy="93960"/>
            <a:chOff x="6095880" y="3809880"/>
            <a:chExt cx="1371600" cy="93960"/>
          </a:xfrm>
        </p:grpSpPr>
        <p:sp>
          <p:nvSpPr>
            <p:cNvPr id="139" name=""/>
            <p:cNvSpPr/>
            <p:nvPr/>
          </p:nvSpPr>
          <p:spPr>
            <a:xfrm>
              <a:off x="609588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8168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371600" y="4478400"/>
            <a:ext cx="1371600" cy="93240"/>
            <a:chOff x="1371600" y="4478400"/>
            <a:chExt cx="1371600" cy="93240"/>
          </a:xfrm>
        </p:grpSpPr>
        <p:sp>
          <p:nvSpPr>
            <p:cNvPr id="142" name=""/>
            <p:cNvSpPr/>
            <p:nvPr/>
          </p:nvSpPr>
          <p:spPr>
            <a:xfrm>
              <a:off x="1371600" y="449712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57400" y="44784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666880" y="4478400"/>
            <a:ext cx="1371600" cy="93240"/>
            <a:chOff x="2666880" y="4478400"/>
            <a:chExt cx="1371600" cy="93240"/>
          </a:xfrm>
        </p:grpSpPr>
        <p:sp>
          <p:nvSpPr>
            <p:cNvPr id="145" name=""/>
            <p:cNvSpPr/>
            <p:nvPr/>
          </p:nvSpPr>
          <p:spPr>
            <a:xfrm>
              <a:off x="2666880" y="449712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52680" y="44784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886200" y="4478400"/>
            <a:ext cx="1371600" cy="93240"/>
            <a:chOff x="3886200" y="4478400"/>
            <a:chExt cx="1371600" cy="93240"/>
          </a:xfrm>
        </p:grpSpPr>
        <p:sp>
          <p:nvSpPr>
            <p:cNvPr id="148" name=""/>
            <p:cNvSpPr/>
            <p:nvPr/>
          </p:nvSpPr>
          <p:spPr>
            <a:xfrm>
              <a:off x="3886200" y="449712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0" y="44784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95280" y="24685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乌鸦听了狐狸的话得意极了，就唱起歌来。哇……他刚一张嘴，肉就掉下来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3124080"/>
            <a:ext cx="49532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3733920"/>
            <a:ext cx="4114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380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狐狸想了想，就笑着对乌鸦说：“您好，亲爱的乌鸦！”乌鸦不做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9230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狐狸又说：“亲爱的乌鸦，您的孩子好吗？”乌鸦看了狐狸一眼，还是不做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1417680"/>
            <a:ext cx="65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狐狸又说：“亲爱的乌鸦，您的羽毛真漂亮，麻雀比起你来，可就差多了。你的嗓子真好，谁都爱听您唱歌。您唱几句吧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33987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乌鸦听了狐狸的话得意极了，就唱起歌来。哇……他刚一张嘴，肉就掉下来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05:47:01Z</dcterms:created>
  <dc:creator>ydj</dc:creator>
  <dc:description/>
  <dc:language>en-US</dc:language>
  <cp:lastModifiedBy>ydj</cp:lastModifiedBy>
  <dcterms:modified xsi:type="dcterms:W3CDTF">1999-07-25T10:20:04Z</dcterms:modified>
  <cp:revision>9</cp:revision>
  <dc:subject/>
  <dc:title>没有幻灯片标题</dc:title>
</cp:coreProperties>
</file>