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乌鸦和狐狸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AAC-C7F5-4C9F-A0A2-DE806B24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46F-98CF-49D0-9E31-C709C71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C12-7D0B-438F-AB4C-CE4E2296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1B9-40E4-4B9D-AD34-03994AFB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7CA-A56E-400C-B934-7E2A325F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84E-A6F1-4F13-93D4-A415D539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D17-8D16-4FF7-8E45-DEC0501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E88-575D-465B-BB68-93745B9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D34-9820-427D-8BC3-905FC9D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B52-23DD-49EF-993E-243103B6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DA5-B7AC-4B74-8C9A-5575942C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E67-B5A7-4CBA-B80C-8C26F254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E19F-A128-4523-AB2B-768FFF0FB0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2133720"/>
            <a:ext cx="441972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狐狸和乌鸦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6279120" y="6248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九义教材小学语文第三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狐狸与乌鸦" descr=""/>
          <p:cNvPicPr/>
          <p:nvPr/>
        </p:nvPicPr>
        <p:blipFill>
          <a:blip r:embed="rId1"/>
          <a:stretch/>
        </p:blipFill>
        <p:spPr>
          <a:xfrm>
            <a:off x="2286000" y="76320"/>
            <a:ext cx="446868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食物" descr=""/>
          <p:cNvPicPr/>
          <p:nvPr/>
        </p:nvPicPr>
        <p:blipFill>
          <a:blip r:embed="rId2"/>
          <a:stretch/>
        </p:blipFill>
        <p:spPr>
          <a:xfrm>
            <a:off x="4816440" y="3809880"/>
            <a:ext cx="822240" cy="533520"/>
          </a:xfrm>
          <a:prstGeom prst="rect">
            <a:avLst/>
          </a:prstGeom>
          <a:ln w="0">
            <a:noFill/>
          </a:ln>
        </p:spPr>
      </p:pic>
      <p:pic>
        <p:nvPicPr>
          <p:cNvPr id="46" name="狐狸与乌鸦" descr=""/>
          <p:cNvPicPr/>
          <p:nvPr/>
        </p:nvPicPr>
        <p:blipFill>
          <a:blip r:embed="rId3"/>
          <a:srcRect l="0" t="0" r="0" b="77779"/>
          <a:stretch/>
        </p:blipFill>
        <p:spPr>
          <a:xfrm>
            <a:off x="2286000" y="0"/>
            <a:ext cx="44686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食物" descr=""/>
          <p:cNvPicPr/>
          <p:nvPr/>
        </p:nvPicPr>
        <p:blipFill>
          <a:blip r:embed="rId4"/>
          <a:stretch/>
        </p:blipFill>
        <p:spPr>
          <a:xfrm>
            <a:off x="4800600" y="1066680"/>
            <a:ext cx="822240" cy="5335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endshow"/>
          </p:cNvPr>
          <p:cNvSpPr/>
          <p:nvPr/>
        </p:nvSpPr>
        <p:spPr>
          <a:xfrm>
            <a:off x="6095880" y="6248520"/>
            <a:ext cx="609840" cy="609480"/>
          </a:xfrm>
          <a:custGeom>
            <a:avLst/>
            <a:gdLst>
              <a:gd name="textAreaLeft" fmla="*/ 95040 w 609840"/>
              <a:gd name="textAreaRight" fmla="*/ 533880 w 6098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50292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9" action="ppaction://hlinksldjump"/>
          </p:cNvPr>
          <p:cNvSpPr/>
          <p:nvPr/>
        </p:nvSpPr>
        <p:spPr>
          <a:xfrm>
            <a:off x="6858000" y="0"/>
            <a:ext cx="228600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6858000" y="13143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6858000" y="255276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790800"/>
            <a:ext cx="22860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7819" dir="2700000" blurRad="0" rotWithShape="0">
              <a:srgbClr val="1e1e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24685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1600" y="4343400"/>
            <a:ext cx="1066320" cy="93240"/>
            <a:chOff x="1371600" y="4343400"/>
            <a:chExt cx="1066320" cy="93240"/>
          </a:xfrm>
        </p:grpSpPr>
        <p:sp>
          <p:nvSpPr>
            <p:cNvPr id="60" name=""/>
            <p:cNvSpPr/>
            <p:nvPr/>
          </p:nvSpPr>
          <p:spPr>
            <a:xfrm>
              <a:off x="1371600" y="436212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4343400"/>
              <a:ext cx="53316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657600" y="3716280"/>
            <a:ext cx="1196640" cy="93240"/>
            <a:chOff x="3657600" y="3716280"/>
            <a:chExt cx="1196640" cy="93240"/>
          </a:xfrm>
        </p:grpSpPr>
        <p:sp>
          <p:nvSpPr>
            <p:cNvPr id="63" name=""/>
            <p:cNvSpPr/>
            <p:nvPr/>
          </p:nvSpPr>
          <p:spPr>
            <a:xfrm>
              <a:off x="365760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5592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768920" y="3716280"/>
            <a:ext cx="1196640" cy="93240"/>
            <a:chOff x="4768920" y="3716280"/>
            <a:chExt cx="1196640" cy="93240"/>
          </a:xfrm>
        </p:grpSpPr>
        <p:sp>
          <p:nvSpPr>
            <p:cNvPr id="66" name=""/>
            <p:cNvSpPr/>
            <p:nvPr/>
          </p:nvSpPr>
          <p:spPr>
            <a:xfrm>
              <a:off x="4768920" y="373500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67240" y="3716280"/>
              <a:ext cx="59832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867280" y="3716280"/>
            <a:ext cx="1371600" cy="93240"/>
            <a:chOff x="5867280" y="3716280"/>
            <a:chExt cx="1371600" cy="93240"/>
          </a:xfrm>
        </p:grpSpPr>
        <p:sp>
          <p:nvSpPr>
            <p:cNvPr id="69" name=""/>
            <p:cNvSpPr/>
            <p:nvPr/>
          </p:nvSpPr>
          <p:spPr>
            <a:xfrm>
              <a:off x="5867280" y="37350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7162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2895480" y="4419720"/>
            <a:ext cx="2362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66680" y="24685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257800" y="3048120"/>
            <a:ext cx="1752480" cy="93240"/>
            <a:chOff x="5257800" y="3048120"/>
            <a:chExt cx="1752480" cy="93240"/>
          </a:xfrm>
        </p:grpSpPr>
        <p:sp>
          <p:nvSpPr>
            <p:cNvPr id="76" name=""/>
            <p:cNvSpPr/>
            <p:nvPr/>
          </p:nvSpPr>
          <p:spPr>
            <a:xfrm>
              <a:off x="5257800" y="306684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34040" y="3048120"/>
              <a:ext cx="87624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295280" y="3733920"/>
            <a:ext cx="3885840" cy="75600"/>
            <a:chOff x="1295280" y="3733920"/>
            <a:chExt cx="3885840" cy="75600"/>
          </a:xfrm>
        </p:grpSpPr>
        <p:grpSp>
          <p:nvGrpSpPr>
            <p:cNvPr id="79" name=""/>
            <p:cNvGrpSpPr/>
            <p:nvPr/>
          </p:nvGrpSpPr>
          <p:grpSpPr>
            <a:xfrm>
              <a:off x="1295280" y="3733920"/>
              <a:ext cx="1298880" cy="75600"/>
              <a:chOff x="1295280" y="3733920"/>
              <a:chExt cx="1298880" cy="75600"/>
            </a:xfrm>
          </p:grpSpPr>
          <p:sp>
            <p:nvSpPr>
              <p:cNvPr id="80" name=""/>
              <p:cNvSpPr/>
              <p:nvPr/>
            </p:nvSpPr>
            <p:spPr>
              <a:xfrm>
                <a:off x="12952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447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52680" y="3733920"/>
              <a:ext cx="1298880" cy="75600"/>
              <a:chOff x="2452680" y="3733920"/>
              <a:chExt cx="1298880" cy="75600"/>
            </a:xfrm>
          </p:grpSpPr>
          <p:sp>
            <p:nvSpPr>
              <p:cNvPr id="83" name=""/>
              <p:cNvSpPr/>
              <p:nvPr/>
            </p:nvSpPr>
            <p:spPr>
              <a:xfrm>
                <a:off x="2452680" y="374904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02120" y="3733920"/>
                <a:ext cx="64944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692880" y="3733920"/>
              <a:ext cx="1488240" cy="75600"/>
              <a:chOff x="3692880" y="3733920"/>
              <a:chExt cx="1488240" cy="75600"/>
            </a:xfrm>
          </p:grpSpPr>
          <p:sp>
            <p:nvSpPr>
              <p:cNvPr id="86" name=""/>
              <p:cNvSpPr/>
              <p:nvPr/>
            </p:nvSpPr>
            <p:spPr>
              <a:xfrm>
                <a:off x="3692880" y="374904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437000" y="3733920"/>
                <a:ext cx="744120" cy="60480"/>
              </a:xfrm>
              <a:custGeom>
                <a:avLst/>
                <a:gdLst/>
                <a:ahLst/>
                <a:rect l="l" t="t" r="r" b="b"/>
                <a:pathLst>
                  <a:path w="1008" h="99">
                    <a:moveTo>
                      <a:pt x="0" y="72"/>
                    </a:moveTo>
                    <a:cubicBezTo>
                      <a:pt x="39" y="59"/>
                      <a:pt x="69" y="37"/>
                      <a:pt x="108" y="24"/>
                    </a:cubicBezTo>
                    <a:cubicBezTo>
                      <a:pt x="201" y="34"/>
                      <a:pt x="228" y="24"/>
                      <a:pt x="288" y="84"/>
                    </a:cubicBezTo>
                    <a:cubicBezTo>
                      <a:pt x="333" y="69"/>
                      <a:pt x="357" y="38"/>
                      <a:pt x="396" y="12"/>
                    </a:cubicBezTo>
                    <a:cubicBezTo>
                      <a:pt x="473" y="22"/>
                      <a:pt x="515" y="10"/>
                      <a:pt x="540" y="84"/>
                    </a:cubicBezTo>
                    <a:cubicBezTo>
                      <a:pt x="590" y="67"/>
                      <a:pt x="591" y="42"/>
                      <a:pt x="636" y="12"/>
                    </a:cubicBezTo>
                    <a:cubicBezTo>
                      <a:pt x="720" y="21"/>
                      <a:pt x="760" y="7"/>
                      <a:pt x="804" y="72"/>
                    </a:cubicBezTo>
                    <a:cubicBezTo>
                      <a:pt x="923" y="32"/>
                      <a:pt x="741" y="99"/>
                      <a:pt x="876" y="24"/>
                    </a:cubicBezTo>
                    <a:cubicBezTo>
                      <a:pt x="898" y="12"/>
                      <a:pt x="948" y="0"/>
                      <a:pt x="948" y="0"/>
                    </a:cubicBezTo>
                    <a:cubicBezTo>
                      <a:pt x="1001" y="13"/>
                      <a:pt x="984" y="0"/>
                      <a:pt x="1008" y="24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"/>
          <p:cNvSpPr/>
          <p:nvPr/>
        </p:nvSpPr>
        <p:spPr>
          <a:xfrm>
            <a:off x="6324480" y="373392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4343400"/>
            <a:ext cx="57913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95280" y="140184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47920" y="2666880"/>
            <a:ext cx="1196640" cy="93960"/>
            <a:chOff x="1447920" y="2666880"/>
            <a:chExt cx="1196640" cy="93960"/>
          </a:xfrm>
        </p:grpSpPr>
        <p:sp>
          <p:nvSpPr>
            <p:cNvPr id="94" name=""/>
            <p:cNvSpPr/>
            <p:nvPr/>
          </p:nvSpPr>
          <p:spPr>
            <a:xfrm>
              <a:off x="144792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4624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58880" y="2666880"/>
            <a:ext cx="1196640" cy="93960"/>
            <a:chOff x="2558880" y="2666880"/>
            <a:chExt cx="1196640" cy="93960"/>
          </a:xfrm>
        </p:grpSpPr>
        <p:sp>
          <p:nvSpPr>
            <p:cNvPr id="97" name=""/>
            <p:cNvSpPr/>
            <p:nvPr/>
          </p:nvSpPr>
          <p:spPr>
            <a:xfrm>
              <a:off x="2558880" y="268596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7200" y="2666880"/>
              <a:ext cx="59832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657600" y="2666880"/>
            <a:ext cx="1371600" cy="93960"/>
            <a:chOff x="3657600" y="2666880"/>
            <a:chExt cx="1371600" cy="93960"/>
          </a:xfrm>
        </p:grpSpPr>
        <p:sp>
          <p:nvSpPr>
            <p:cNvPr id="100" name=""/>
            <p:cNvSpPr/>
            <p:nvPr/>
          </p:nvSpPr>
          <p:spPr>
            <a:xfrm>
              <a:off x="365760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4340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76920" y="2666880"/>
            <a:ext cx="1371600" cy="93960"/>
            <a:chOff x="4876920" y="2666880"/>
            <a:chExt cx="1371600" cy="93960"/>
          </a:xfrm>
        </p:grpSpPr>
        <p:sp>
          <p:nvSpPr>
            <p:cNvPr id="103" name=""/>
            <p:cNvSpPr/>
            <p:nvPr/>
          </p:nvSpPr>
          <p:spPr>
            <a:xfrm>
              <a:off x="487692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095880" y="2666880"/>
            <a:ext cx="1371600" cy="93960"/>
            <a:chOff x="6095880" y="2666880"/>
            <a:chExt cx="1371600" cy="93960"/>
          </a:xfrm>
        </p:grpSpPr>
        <p:sp>
          <p:nvSpPr>
            <p:cNvPr id="106" name=""/>
            <p:cNvSpPr/>
            <p:nvPr/>
          </p:nvSpPr>
          <p:spPr>
            <a:xfrm>
              <a:off x="6095880" y="2685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2666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486400" y="1981080"/>
            <a:ext cx="1828800" cy="93960"/>
            <a:chOff x="5486400" y="1981080"/>
            <a:chExt cx="1828800" cy="93960"/>
          </a:xfrm>
        </p:grpSpPr>
        <p:sp>
          <p:nvSpPr>
            <p:cNvPr id="109" name=""/>
            <p:cNvSpPr/>
            <p:nvPr/>
          </p:nvSpPr>
          <p:spPr>
            <a:xfrm>
              <a:off x="5486400" y="200016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1981080"/>
              <a:ext cx="9144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447920" y="3259080"/>
            <a:ext cx="1371600" cy="93240"/>
            <a:chOff x="1447920" y="3259080"/>
            <a:chExt cx="1371600" cy="93240"/>
          </a:xfrm>
        </p:grpSpPr>
        <p:sp>
          <p:nvSpPr>
            <p:cNvPr id="112" name=""/>
            <p:cNvSpPr/>
            <p:nvPr/>
          </p:nvSpPr>
          <p:spPr>
            <a:xfrm>
              <a:off x="14479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337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743200" y="3259080"/>
            <a:ext cx="1371600" cy="93240"/>
            <a:chOff x="2743200" y="3259080"/>
            <a:chExt cx="1371600" cy="93240"/>
          </a:xfrm>
        </p:grpSpPr>
        <p:sp>
          <p:nvSpPr>
            <p:cNvPr id="115" name=""/>
            <p:cNvSpPr/>
            <p:nvPr/>
          </p:nvSpPr>
          <p:spPr>
            <a:xfrm>
              <a:off x="2743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29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962520" y="3259080"/>
            <a:ext cx="1371600" cy="93240"/>
            <a:chOff x="3962520" y="3259080"/>
            <a:chExt cx="1371600" cy="93240"/>
          </a:xfrm>
        </p:grpSpPr>
        <p:sp>
          <p:nvSpPr>
            <p:cNvPr id="118" name=""/>
            <p:cNvSpPr/>
            <p:nvPr/>
          </p:nvSpPr>
          <p:spPr>
            <a:xfrm>
              <a:off x="396252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832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81480" y="3259080"/>
            <a:ext cx="1371600" cy="93240"/>
            <a:chOff x="5181480" y="3259080"/>
            <a:chExt cx="1371600" cy="93240"/>
          </a:xfrm>
        </p:grpSpPr>
        <p:sp>
          <p:nvSpPr>
            <p:cNvPr id="121" name=""/>
            <p:cNvSpPr/>
            <p:nvPr/>
          </p:nvSpPr>
          <p:spPr>
            <a:xfrm>
              <a:off x="518148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6728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3259080"/>
            <a:ext cx="1371600" cy="93240"/>
            <a:chOff x="6172200" y="3259080"/>
            <a:chExt cx="1371600" cy="93240"/>
          </a:xfrm>
        </p:grpSpPr>
        <p:sp>
          <p:nvSpPr>
            <p:cNvPr id="124" name=""/>
            <p:cNvSpPr/>
            <p:nvPr/>
          </p:nvSpPr>
          <p:spPr>
            <a:xfrm>
              <a:off x="6172200" y="32778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325908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71600" y="3809880"/>
            <a:ext cx="1371600" cy="93960"/>
            <a:chOff x="1371600" y="3809880"/>
            <a:chExt cx="1371600" cy="93960"/>
          </a:xfrm>
        </p:grpSpPr>
        <p:sp>
          <p:nvSpPr>
            <p:cNvPr id="127" name=""/>
            <p:cNvSpPr/>
            <p:nvPr/>
          </p:nvSpPr>
          <p:spPr>
            <a:xfrm>
              <a:off x="13716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574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666880" y="3809880"/>
            <a:ext cx="1371600" cy="93960"/>
            <a:chOff x="2666880" y="3809880"/>
            <a:chExt cx="1371600" cy="93960"/>
          </a:xfrm>
        </p:grpSpPr>
        <p:sp>
          <p:nvSpPr>
            <p:cNvPr id="130" name=""/>
            <p:cNvSpPr/>
            <p:nvPr/>
          </p:nvSpPr>
          <p:spPr>
            <a:xfrm>
              <a:off x="2666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886200" y="3809880"/>
            <a:ext cx="1371600" cy="93960"/>
            <a:chOff x="3886200" y="3809880"/>
            <a:chExt cx="1371600" cy="93960"/>
          </a:xfrm>
        </p:grpSpPr>
        <p:sp>
          <p:nvSpPr>
            <p:cNvPr id="133" name=""/>
            <p:cNvSpPr/>
            <p:nvPr/>
          </p:nvSpPr>
          <p:spPr>
            <a:xfrm>
              <a:off x="388620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05520" y="3809880"/>
            <a:ext cx="1371600" cy="93960"/>
            <a:chOff x="5105520" y="3809880"/>
            <a:chExt cx="1371600" cy="93960"/>
          </a:xfrm>
        </p:grpSpPr>
        <p:sp>
          <p:nvSpPr>
            <p:cNvPr id="136" name=""/>
            <p:cNvSpPr/>
            <p:nvPr/>
          </p:nvSpPr>
          <p:spPr>
            <a:xfrm>
              <a:off x="510552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5880" y="3809880"/>
            <a:ext cx="1371600" cy="93960"/>
            <a:chOff x="6095880" y="3809880"/>
            <a:chExt cx="1371600" cy="93960"/>
          </a:xfrm>
        </p:grpSpPr>
        <p:sp>
          <p:nvSpPr>
            <p:cNvPr id="139" name=""/>
            <p:cNvSpPr/>
            <p:nvPr/>
          </p:nvSpPr>
          <p:spPr>
            <a:xfrm>
              <a:off x="6095880" y="382896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81680" y="3809880"/>
              <a:ext cx="685800" cy="7488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371600" y="4478400"/>
            <a:ext cx="1371600" cy="93240"/>
            <a:chOff x="1371600" y="4478400"/>
            <a:chExt cx="1371600" cy="93240"/>
          </a:xfrm>
        </p:grpSpPr>
        <p:sp>
          <p:nvSpPr>
            <p:cNvPr id="142" name=""/>
            <p:cNvSpPr/>
            <p:nvPr/>
          </p:nvSpPr>
          <p:spPr>
            <a:xfrm>
              <a:off x="13716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6880" y="4478400"/>
            <a:ext cx="1371600" cy="93240"/>
            <a:chOff x="2666880" y="4478400"/>
            <a:chExt cx="1371600" cy="93240"/>
          </a:xfrm>
        </p:grpSpPr>
        <p:sp>
          <p:nvSpPr>
            <p:cNvPr id="145" name=""/>
            <p:cNvSpPr/>
            <p:nvPr/>
          </p:nvSpPr>
          <p:spPr>
            <a:xfrm>
              <a:off x="266688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886200" y="4478400"/>
            <a:ext cx="1371600" cy="93240"/>
            <a:chOff x="3886200" y="4478400"/>
            <a:chExt cx="1371600" cy="93240"/>
          </a:xfrm>
        </p:grpSpPr>
        <p:sp>
          <p:nvSpPr>
            <p:cNvPr id="148" name=""/>
            <p:cNvSpPr/>
            <p:nvPr/>
          </p:nvSpPr>
          <p:spPr>
            <a:xfrm>
              <a:off x="3886200" y="449712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4478400"/>
              <a:ext cx="685800" cy="74520"/>
            </a:xfrm>
            <a:custGeom>
              <a:avLst/>
              <a:gdLst/>
              <a:ahLst/>
              <a:rect l="l" t="t" r="r" b="b"/>
              <a:pathLst>
                <a:path w="1008" h="99">
                  <a:moveTo>
                    <a:pt x="0" y="72"/>
                  </a:moveTo>
                  <a:cubicBezTo>
                    <a:pt x="39" y="59"/>
                    <a:pt x="69" y="37"/>
                    <a:pt x="108" y="24"/>
                  </a:cubicBezTo>
                  <a:cubicBezTo>
                    <a:pt x="201" y="34"/>
                    <a:pt x="228" y="24"/>
                    <a:pt x="288" y="84"/>
                  </a:cubicBezTo>
                  <a:cubicBezTo>
                    <a:pt x="333" y="69"/>
                    <a:pt x="357" y="38"/>
                    <a:pt x="396" y="12"/>
                  </a:cubicBezTo>
                  <a:cubicBezTo>
                    <a:pt x="473" y="22"/>
                    <a:pt x="515" y="10"/>
                    <a:pt x="540" y="84"/>
                  </a:cubicBezTo>
                  <a:cubicBezTo>
                    <a:pt x="590" y="67"/>
                    <a:pt x="591" y="42"/>
                    <a:pt x="636" y="12"/>
                  </a:cubicBezTo>
                  <a:cubicBezTo>
                    <a:pt x="720" y="21"/>
                    <a:pt x="760" y="7"/>
                    <a:pt x="804" y="72"/>
                  </a:cubicBezTo>
                  <a:cubicBezTo>
                    <a:pt x="923" y="32"/>
                    <a:pt x="741" y="99"/>
                    <a:pt x="876" y="24"/>
                  </a:cubicBezTo>
                  <a:cubicBezTo>
                    <a:pt x="898" y="12"/>
                    <a:pt x="948" y="0"/>
                    <a:pt x="948" y="0"/>
                  </a:cubicBezTo>
                  <a:cubicBezTo>
                    <a:pt x="1001" y="13"/>
                    <a:pt x="984" y="0"/>
                    <a:pt x="1008" y="24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95280" y="2468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124080"/>
            <a:ext cx="49532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73392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想了想，就笑着对乌鸦说：“您好，亲爱的乌鸦！”乌鸦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923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孩子好吗？”乌鸦看了狐狸一眼，还是不做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1417680"/>
            <a:ext cx="65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狐狸又说：“亲爱的乌鸦，您的羽毛真漂亮，麻雀比起你来，可就差多了。你的嗓子真好，谁都爱听您唱歌。您唱几句吧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398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乌鸦听了狐狸的话得意极了，就唱起歌来。哇……他刚一张嘴，肉就掉下来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66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05:47:01Z</dcterms:created>
  <dc:creator>ydj</dc:creator>
  <dc:description/>
  <dc:language>en-US</dc:language>
  <cp:lastModifiedBy>ydj</cp:lastModifiedBy>
  <dcterms:modified xsi:type="dcterms:W3CDTF">1999-07-25T10:20:04Z</dcterms:modified>
  <cp:revision>9</cp:revision>
  <dc:subject/>
  <dc:title>没有幻灯片标题</dc:title>
</cp:coreProperties>
</file>