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4.png" ContentType="image/png"/>
  <Override PartName="/ppt/media/image13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7C02-B7BB-4CA0-A116-0AE496C79D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句之间停顿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B01-1BA9-4A4E-831A-AA383F51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DC6A-F9AB-42A0-8412-3D950512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219-625C-4DF6-92C9-A5BA7426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60C-1760-403D-9740-FBDACF72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2F8-F61D-4A6A-A639-C68CB706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E25-70EB-405B-8C57-ED28EE7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647-5659-40E1-9EE4-EC34C325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880-547B-4735-91D7-6DBB636D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3FA-770A-4884-BE2C-CE4C75A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6FB-E6AB-4D5E-85DA-12519880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B26-D86F-4522-BA72-DE7F0C2B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97A-71BF-4FA8-AA7F-DD4496C2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153-D50B-45B5-900A-D87742E9D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年级  高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U2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BRITAIN AND IRELAND (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星期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5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40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讲课教师   </a:t>
            </a:r>
            <a:r>
              <a:rPr b="1" lang="zh-CN" sz="4000" spc="-1" strike="noStrike">
                <a:solidFill>
                  <a:srgbClr val="ffff66"/>
                </a:solidFill>
                <a:latin typeface="宋体"/>
              </a:rPr>
              <a:t>赖丽燕  人民大学附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9840" y="121428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38680" y="265896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5320" y="41068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514600"/>
            <a:ext cx="58672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is ______ the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Cardiff is ______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Lond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306680" y="235440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74880" y="433548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3520" y="1143000"/>
            <a:ext cx="59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      on        off     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22096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 Cardiff is ______ the south    coast of Wa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re are many islands   ______ the northwest coast of Scotlan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4222t008" descr=""/>
          <p:cNvPicPr/>
          <p:nvPr/>
        </p:nvPicPr>
        <p:blipFill>
          <a:blip r:embed="rId1"/>
          <a:srcRect l="0" t="0" r="0" b="4906"/>
          <a:stretch/>
        </p:blipFill>
        <p:spPr>
          <a:xfrm>
            <a:off x="1676520" y="990720"/>
            <a:ext cx="5943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20360" y="1676520"/>
            <a:ext cx="52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ch island is large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itain or Ire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122868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73640" y="3581280"/>
            <a:ext cx="51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larger of the tw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lands is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5680" y="1143000"/>
            <a:ext cx="4041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do the lett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K” stand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400800" y="1066680"/>
          <a:ext cx="149400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066680"/>
                    <a:ext cx="149400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278880" y="3048120"/>
            <a:ext cx="485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 letters “UK” st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for:The United Kingd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f Great Britain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orthern Ireland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tbjx0201ZW_0029_1" descr=""/>
          <p:cNvPicPr/>
          <p:nvPr/>
        </p:nvPicPr>
        <p:blipFill>
          <a:blip r:embed="rId3"/>
          <a:srcRect l="4736" t="2955" r="5419" b="5598"/>
          <a:stretch/>
        </p:blipFill>
        <p:spPr>
          <a:xfrm>
            <a:off x="1676520" y="2895480"/>
            <a:ext cx="1447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5920" y="1073160"/>
            <a:ext cx="469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“UK”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p of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07480" y="2895480"/>
            <a:ext cx="455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“UK” is ma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p of Scotland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les, England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orthern Ire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15128" b="0"/>
          <a:stretch/>
        </p:blipFill>
        <p:spPr>
          <a:xfrm>
            <a:off x="1371600" y="2743200"/>
            <a:ext cx="2057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56440" y="1447920"/>
            <a:ext cx="4935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the capital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867280" y="3505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2520" y="3657600"/>
            <a:ext cx="343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Edinbur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50160" y="1371600"/>
            <a:ext cx="5973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Scotland famous f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2362320"/>
            <a:ext cx="1494000" cy="15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906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222t017" descr=""/>
          <p:cNvPicPr/>
          <p:nvPr/>
        </p:nvPicPr>
        <p:blipFill>
          <a:blip r:embed="rId2"/>
          <a:srcRect l="0" t="0" r="0" b="7689"/>
          <a:stretch/>
        </p:blipFill>
        <p:spPr>
          <a:xfrm>
            <a:off x="838080" y="4419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2438280"/>
            <a:ext cx="52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cotland is famous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0" y="1295280"/>
            <a:ext cx="396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capit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f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1493640" cy="1576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9060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4222t012" descr=""/>
          <p:cNvPicPr/>
          <p:nvPr/>
        </p:nvPicPr>
        <p:blipFill>
          <a:blip r:embed="rId2"/>
          <a:stretch/>
        </p:blipFill>
        <p:spPr>
          <a:xfrm>
            <a:off x="3505320" y="29718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373400" y="4124160"/>
            <a:ext cx="183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rdif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47360" y="838080"/>
            <a:ext cx="4153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there many co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nes in Wa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488280" y="1143000"/>
          <a:ext cx="10839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8280" y="1143000"/>
                    <a:ext cx="10839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" name="4222t010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400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125880" y="1676520"/>
            <a:ext cx="2812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Unit 2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3200400"/>
            <a:ext cx="723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RITAIN AND IREL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1523880"/>
            <a:ext cx="655308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ere used to be a lot of co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nes in the south, but many of them have been closed, or are about to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95280" y="990720"/>
            <a:ext cx="495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g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8280" y="114300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906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71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4222t004" descr=""/>
          <p:cNvPicPr/>
          <p:nvPr/>
        </p:nvPicPr>
        <p:blipFill>
          <a:blip r:embed="rId2"/>
          <a:srcRect l="0" t="0" r="0" b="5355"/>
          <a:stretch/>
        </p:blipFill>
        <p:spPr>
          <a:xfrm>
            <a:off x="1447920" y="2362320"/>
            <a:ext cx="3400200" cy="3200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259600" y="3733920"/>
            <a:ext cx="309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London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121932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population of Lond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1523880"/>
            <a:ext cx="1084320" cy="1143000"/>
          </a:xfrm>
          <a:prstGeom prst="rect">
            <a:avLst/>
          </a:prstGeom>
          <a:ln w="0">
            <a:noFill/>
          </a:ln>
        </p:spPr>
      </p:pic>
      <p:pic>
        <p:nvPicPr>
          <p:cNvPr id="136" name="4222t001" descr=""/>
          <p:cNvPicPr/>
          <p:nvPr/>
        </p:nvPicPr>
        <p:blipFill>
          <a:blip r:embed="rId2"/>
          <a:srcRect l="13597" t="0" r="16149" b="-3098"/>
          <a:stretch/>
        </p:blipFill>
        <p:spPr>
          <a:xfrm>
            <a:off x="1447920" y="3048120"/>
            <a:ext cx="236196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3200400"/>
            <a:ext cx="38862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t has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seven mill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0200" y="1523880"/>
            <a:ext cx="6512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’s the capita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thern Irela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1299960" cy="1371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20240" y="3505320"/>
            <a:ext cx="281268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Times New Roman"/>
              </a:rPr>
              <a:t>Belfast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3440" y="1676520"/>
            <a:ext cx="47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The larg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island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is Bri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6920" y="3581280"/>
            <a:ext cx="441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 taller of the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ys is To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2438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ch is better of the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ooks, this one or that on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10666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bet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book or that boo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3809880"/>
            <a:ext cx="647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ich is the bette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wo boo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is one or 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36800" y="82404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84520" y="4176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1040" y="235116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828800" y="1219320"/>
            <a:ext cx="5791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is _______ country,   Canada  or Australi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a larg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a larger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 the la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423540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WHATNOW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154944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8800" y="1066680"/>
            <a:ext cx="579132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the manager had to choose between the two, he would say John was _____ choic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good        B. the be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better      D. the bet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75040" y="41911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55000" y="990720"/>
            <a:ext cx="5627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letters “UK”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United Kingdom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at Britain and North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reland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0120" y="4600440"/>
            <a:ext cx="546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tands for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ited States of Americ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4120" y="467676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SA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66680" y="3321000"/>
            <a:ext cx="61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ARS” stands for severe ac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respiratory syndr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974600" y="1371600"/>
            <a:ext cx="493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UK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made up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ur countr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6280" y="3124080"/>
            <a:ext cx="5002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r class is made 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f 29 boys and 20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ir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ower_of_london_and_the_city" descr=""/>
          <p:cNvPicPr/>
          <p:nvPr/>
        </p:nvPicPr>
        <p:blipFill>
          <a:blip r:embed="rId1"/>
          <a:stretch/>
        </p:blipFill>
        <p:spPr>
          <a:xfrm>
            <a:off x="1600200" y="3352680"/>
            <a:ext cx="31240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tower_bridge_in_london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3124080" cy="1519200"/>
          </a:xfrm>
          <a:prstGeom prst="rect">
            <a:avLst/>
          </a:prstGeom>
          <a:ln w="0">
            <a:noFill/>
          </a:ln>
        </p:spPr>
      </p:pic>
      <p:pic>
        <p:nvPicPr>
          <p:cNvPr id="54" name="big_ben_at_sunset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27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3880" y="114300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otland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s beautiful countrysi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4360" y="4267080"/>
            <a:ext cx="57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for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Great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w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2240" y="2666880"/>
            <a:ext cx="518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rance is famous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perfum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7000" y="3371760"/>
            <a:ext cx="519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hina is famous as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ountry with a l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isto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5400" y="1600200"/>
            <a:ext cx="483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instein is famous 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nventor.  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8380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re used to b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lot of coal mines in the south, but many of them have been closed, 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re about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e clo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2360" y="3124080"/>
            <a:ext cx="516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re used to be a 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ere, </a:t>
            </a:r>
            <a:r>
              <a:rPr b="1" i="1" lang="en-US" sz="4000" spc="-1" strike="noStrike">
                <a:solidFill>
                  <a:srgbClr val="ff99ff"/>
                </a:solidFill>
                <a:latin typeface="Times New Roman"/>
              </a:rPr>
              <a:t>but now it’s g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4880" y="4343400"/>
            <a:ext cx="466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you came in, 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as about to lea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1295280"/>
            <a:ext cx="5586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ndon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as a pop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7 m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7960" y="2763720"/>
            <a:ext cx="523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ina has a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1.3 bill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4222t013" descr=""/>
          <p:cNvPicPr/>
          <p:nvPr/>
        </p:nvPicPr>
        <p:blipFill>
          <a:blip r:embed="rId1"/>
          <a:srcRect l="0" t="0" r="0" b="9930"/>
          <a:stretch/>
        </p:blipFill>
        <p:spPr>
          <a:xfrm>
            <a:off x="1066680" y="4267080"/>
            <a:ext cx="7315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022-2-2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2606760" cy="3505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114300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733920" y="1066680"/>
            <a:ext cx="46479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-1-1" descr=""/>
          <p:cNvPicPr/>
          <p:nvPr/>
        </p:nvPicPr>
        <p:blipFill>
          <a:blip r:embed="rId1"/>
          <a:srcRect l="6464" t="0" r="0" b="0"/>
          <a:stretch/>
        </p:blipFill>
        <p:spPr>
          <a:xfrm>
            <a:off x="1295280" y="1295280"/>
            <a:ext cx="2206800" cy="4267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42560" y="1295280"/>
            <a:ext cx="42055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ritain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ea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Ire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09800" y="2286000"/>
            <a:ext cx="40928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ales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Eng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65160" y="3429000"/>
            <a:ext cx="41310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gland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outheast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71280" y="4648320"/>
            <a:ext cx="38901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don lie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ver Th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754380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7543800" y="2971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543800" y="44197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543800" y="5181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022-2-2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2719440" cy="36576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219320" y="1295280"/>
            <a:ext cx="6781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st Irish people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very Sunday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church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____ people's liv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8040" y="990720"/>
            <a:ext cx="28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6960" y="2814480"/>
            <a:ext cx="4101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 important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1066680"/>
            <a:ext cx="632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rish ________________ music and poems. In towns and villages people ______ together in the evening to sing and play musi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40640" y="1219320"/>
            <a:ext cx="32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very fon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3440" y="28954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581280" y="990720"/>
            <a:ext cx="4648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y also ____ ________  to read their own poems to each 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022-1-1" descr=""/>
          <p:cNvPicPr/>
          <p:nvPr/>
        </p:nvPicPr>
        <p:blipFill>
          <a:blip r:embed="rId1"/>
          <a:stretch/>
        </p:blipFill>
        <p:spPr>
          <a:xfrm>
            <a:off x="1298520" y="1600200"/>
            <a:ext cx="2359080" cy="37339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657600" y="1295280"/>
            <a:ext cx="42829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e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35920" y="3730680"/>
            <a:ext cx="523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ydney _______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s Opera House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60480" y="3733920"/>
            <a:ext cx="29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s famous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3520" y="3279600"/>
            <a:ext cx="549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  ____________ leav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it began to r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67960" y="320364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ere abou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0" y="3290760"/>
            <a:ext cx="52250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eign language stu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_____________ in Kar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arx's lif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9160" y="3962520"/>
            <a:ext cx="289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layed a 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51160" y="3508200"/>
            <a:ext cx="58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e is such a nice girl tha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 of us ___________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31160" y="4114800"/>
            <a:ext cx="24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re fond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370520" y="3203640"/>
            <a:ext cx="594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is room is too big. 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hould ________ it ______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1120" y="38098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2400" y="3733920"/>
            <a:ext cx="10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371600" y="33526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  ________   pla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asketball every day w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hey were at college.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1840" y="32796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s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914400"/>
            <a:ext cx="68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vide…into, be about to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y a part in, be fond of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e famous for, us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990720"/>
            <a:ext cx="63244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F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be made up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单元四课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divide…into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分组练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play a part in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听说重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 be fond of 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英语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39625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EFC is our English text-book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It stands for  “Senior English for China”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to the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371600"/>
            <a:ext cx="6477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ngkong is to the south of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640" y="3809880"/>
            <a:ext cx="49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iwan is east of Fuji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1280" y="4572000"/>
            <a:ext cx="5071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st of Fujian is Taiw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3880" y="236232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ach unit of the book is made up of four lesson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06960" y="1752480"/>
            <a:ext cx="630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FC is our English text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ook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It stands for  “Seni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glish for China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11520" y="1828800"/>
            <a:ext cx="6237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When we have our Englis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lasses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usual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divides us into small gro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d asks us to pract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peaking and listening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676520" y="1295280"/>
            <a:ext cx="57909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ur teacher says speaking and listening plays an important part in lear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 foreign language. Mos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f us are very fond of learning English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S is made up _____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.The US is made up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f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fty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______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left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indow there is a map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 everyone h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ft the meeting room, he turned ____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meeting w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ver and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veryone had lef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eting room, 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rned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 off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 the ligh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  very beautiful , ____ l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2000" y="1371600"/>
            <a:ext cx="40442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41560" y="3745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2000" y="3429000"/>
            <a:ext cx="40442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uangdong lies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south of Hu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countryside there 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ry beautiful,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with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ots   of mountains and riv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______the Changjiang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hanghai lies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the Changjian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 _____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en the building was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fire, many peop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ere trapped in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_____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ainland 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大陆）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d Taiwan Island are separat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by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s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 ____ 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tland is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 to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north of England; it’s part of Brit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 .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____how 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3320" y="1523880"/>
            <a:ext cx="365832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eijing lies i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rth of Chin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080" y="3657600"/>
            <a:ext cx="38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ina is in the 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f As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9.  In one of his book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fessor Wang gave u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me advice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on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 improve Engl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onunci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____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 center 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first elepha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rrived </a:t>
            </a:r>
            <a:r>
              <a:rPr b="1" lang="zh-CN" sz="44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at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researc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nter in 195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1.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____ a safer plac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</a:rPr>
              <a:t>11.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After the stro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earthquake happene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he people had to mov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to  </a:t>
            </a: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 a safer 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94920" y="1189080"/>
            <a:ext cx="303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S00554_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1905120" cy="1717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30440" y="28195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1. P 32, Ex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6160" y="3809880"/>
            <a:ext cx="621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. to preview the next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66800" y="1600200"/>
            <a:ext cx="38138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uhan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angtze Riv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5240" y="31352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66440" y="342900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nghai lies on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uangpu Ri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66680" y="3048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pan is on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33680" y="2666880"/>
            <a:ext cx="87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8640" y="47242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st of China lies Jap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9000" y="3886200"/>
            <a:ext cx="49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9000" y="1371600"/>
            <a:ext cx="613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lie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2320" y="2209680"/>
            <a:ext cx="58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pan is to the east of Chi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65400" y="44197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36800" y="335268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75240" y="1447920"/>
            <a:ext cx="84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0948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09:15:37Z</dcterms:modified>
  <cp:revision>699</cp:revision>
  <dc:subject/>
  <dc:title>PowerPoint Presentation</dc:title>
</cp:coreProperties>
</file>