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F0C-A993-4CCD-9EFF-9178FE8B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E71-4D87-4A35-9D09-53852FBB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533-9842-4711-8B64-CDA34F0E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965-E74B-4059-A396-C7F52689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DCC-D9E3-47D1-8FE5-FC3F34ED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3A49-C17D-4CF8-922F-94314A0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D971-6001-4BC2-A7CC-5BF66AE1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7F9E-EEF9-46FC-8B11-013C50EA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4F7D-6B74-432F-BC1A-E9CB3EF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90DE-1A62-40F8-A274-E5F5099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C1C9-3640-408B-82AC-3E86173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540-A1F8-4F30-A3D0-AB5E7A06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95E7-B76A-4CE5-B6B1-B9EFDE1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FC86-6967-40A4-B8FD-AAA5E1AC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A8F-CA2F-45A2-83B3-63F6F393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CA3F-1D54-4F58-8C4D-7DC3D2BE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5DB-54D3-4A06-9808-0E872176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1A5-D5B9-4E19-9083-5B49808A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991-7461-4D02-B0EA-5EB727A1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D47-BEF8-410A-8373-A137EEBC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460-EAE5-4E89-BA53-A9B72349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72D-26EC-4D01-9AF1-A7B0ECCF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2C4-7A35-4185-A585-0900A150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E74-9CAF-45FA-B110-00B8F09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C2BD-AC54-4B08-9180-0DADFDD136C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F419-E091-44F2-B549-1F5CFC8997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nternet%20Explorer%20墙纸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33"/>
                </a:solidFill>
                <a:latin typeface="Times New Roman"/>
                <a:ea typeface="华文行楷"/>
              </a:rPr>
              <a:t>定语从句</a:t>
            </a:r>
            <a:r>
              <a:rPr b="0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专题讲座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5943600"/>
            <a:ext cx="67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XZ Middle School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9144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She has two brothers,who are both do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Saturday they reached Shanghai,where a meeting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o be h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在整个主句作为其先行词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指代上面或下面说的一件事，其区别如下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意义上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(=and this/t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可以译为“这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那”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(=in accordance with what)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译为“正如、象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which(=as)is clear from his manner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e is a teacher,as(=which)can be seen from his manne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student forgot to bring his dictionary,as is often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 case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（此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代。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25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2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b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,whic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在非限制性定语从句中的位置和作用来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s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从句可置于主句之前，亦可置于主句之后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般置于主句之后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poem is written by Scott,as almost everybody know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This poem,which almost everybody knows,is written by Scot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ceans cover more than 70 percent of the earth,as we have see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r:As is well-known to us all ,oceans cover more  than 70 percent of the earth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但不可译为：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 is well-know to us all,oceans cover more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n 70 percent of the ear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适当的关系代词或关系副词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Yesterday I met doctor Wang _____told me the good news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his son's passing the exa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The two pupils______ you taught three yeas ago have be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eachers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He began to work in Beijing in the year______ New China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founded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I don't know the reason______ she did n't agree to our pla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This is a soldier________ died in the war of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28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o,t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o / that / wh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5066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429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ho/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6.He told everything    ________he had seen in the traffic accident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7.This was the best model of the TV set_________ the fa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produced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last year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8.They have visited the Museum of Chinese Hist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　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___________Premier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z h o u ‘ s life and deeds are being shown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9.Alice,_______dress is all red, looks very pretty.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0.The first thing ________I am going to do this evening is to write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　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report about the experi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609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313000"/>
            <a:ext cx="9524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           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学习定语从句的关键是如何选择关联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关联词在句中作状语就应使用关系副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.(where, when ,wh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否则使用关系代词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(who ,whom, whose,which, th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二、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由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who,whom,whose</a:t>
            </a:r>
            <a:r>
              <a:rPr b="1" lang="zh-CN" sz="28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主语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宾语，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用作定语，同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s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还可以指物，相当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of 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doctor who sav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baby's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is the student whom the teacher praised at the meeting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45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           在复句中修饰名词或代词的从句叫做定语从句。需要学习和掌握的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定语从句有以下三种：由关系代词或关系副词引导的定语从句。由介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+which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的定语从句。非限制性定语从句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 know the girl whose mother died a year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ave you seen the notebook whose cover is bla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三、由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which</a:t>
            </a:r>
            <a:r>
              <a:rPr b="0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：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which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或谓语动词的宾 语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1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store which opens all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en which my brother bought for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House in which Lu X un once lived?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(or Is this the house which Lu X un once lived i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which you are looking f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Notes: which,who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介词的宾语时，介词一般可置                                                                                                                                                                                                                                                    关系代词之前或放在从句原来的位置。但在含有介词的动词固定短语中介词只能放在原来的位置上，而不能放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ic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之前，如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则不能改为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gazine for which you are loo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He lives in a room whose window opens to the sou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294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四由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that</a:t>
            </a:r>
            <a:r>
              <a:rPr b="1" lang="zh-CN" sz="3200" spc="-1" strike="noStrike">
                <a:solidFill>
                  <a:srgbClr val="ff0033"/>
                </a:solidFill>
                <a:latin typeface="Arial"/>
                <a:ea typeface="华文新魏"/>
              </a:rPr>
              <a:t>引导的定语从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指人或物，代替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o,whom,which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定语从句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在从句中作主语、宾语，但不能放在介词后作介词宾语：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photo(that/which)I took in Beijing last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man(that/who)lives next do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is the professor that you talked about yesterday?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(abou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不能放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前面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68580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但下列情况只能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序数词或最高级形容词修饰先行词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is is one of the best novels that I have ever 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e first English song that I learned was ABC so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All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much,everything,nothing,something,anyth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作先行词时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that.(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但先行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everybody,every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时应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,on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指人时也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verything that we saw at the exhibition greatly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nterested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s there anything that belongs to you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ll that we need is mor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thing that the parents do does n't influence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eir child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an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no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nl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ver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等修饰时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is the only way that we can find at pres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twelfth letter that she has received from hi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very museum that we visited for the firs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4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可以用来引导限制性定语从句，当它在从句中作介宾时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介词应后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38280"/>
            <a:ext cx="91440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is is the good student that the teachers talked about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just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5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先行词既指人又指物的并列名词时，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.</a:t>
            </a: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411880"/>
            <a:ext cx="457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My mother and her old friends talked of the things  and persons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 they remembered in the scho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非限制性定语从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限制性定语从句对先行词起限制作用，而非限制性定语从句是对概 念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清楚的先行词加以追加阐述或补充说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76720"/>
            <a:ext cx="997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 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非限制性定语从句一般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ich/who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而不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t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或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新魏"/>
              </a:rPr>
              <a:t>what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引导，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作宾语的关系代词不能省略，从句与主句用逗号分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E.g.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Yesterday I saw your brother,who told me the good new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of your mother's recovery from her illn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   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新魏"/>
              </a:rPr>
              <a:t>I went to see their new house,which I liked very mu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8:21:01Z</dcterms:created>
  <dc:creator>swh</dc:creator>
  <dc:description/>
  <dc:language>en-US</dc:language>
  <cp:lastModifiedBy>we</cp:lastModifiedBy>
  <dcterms:modified xsi:type="dcterms:W3CDTF">2002-06-22T23:15:22Z</dcterms:modified>
  <cp:revision>11</cp:revision>
  <dc:subject/>
  <dc:title>PowerPoint 演示文稿</dc:title>
</cp:coreProperties>
</file>