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E260-A456-421B-8118-74F538CD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9E9A-2C59-4FA0-9D86-B52F7345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4648-2B59-414D-B840-0BECD8B6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79F5-C75D-421A-A7E1-63B0CB2B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9ECB-E531-4A99-AF61-9C4F02BA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72ED-CC79-4C7E-8245-2D0E3C40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805E-23EA-452F-9F28-18E7FED7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174B-57A5-4DE5-A9D5-17531204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5F7D-AB0E-4C58-B3A9-0230302A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07CF-A495-4E2E-880E-311A9FEA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750A-7560-4E65-B68F-16A6AEBA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920D-D181-4D7E-B292-CE6590F8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269F-A274-473B-9590-BF721D79A7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52280"/>
            <a:ext cx="8001000" cy="51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的用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基本的用法是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人称代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主要代表刚提到的东西以避免重复。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Look at that car. It’s going much too fast.  Eg2: Where is the car key? ---- I put it in your draw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可以代表抽象的东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ll my fault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可以指动物或未知性别的婴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hat a beautiful baby--- is it a boy? Eg2: How about the baby? ---- I’ll take care of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可代表一个彼此都知其何所指的东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here does it hurt?  Eg2: If he doesn’t come, I can’t help it.  Eg3: You have saved my life. I shall never forget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228600"/>
            <a:ext cx="996012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于由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a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引导的主语从句，有下面几种类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atural that they should have different view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 shame that you’re s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happened that she wasn’t in that day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never occurred to me that perhaps she was lying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的被动语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said/believed/thought/expected/reported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known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said that there has been an earthquake in India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04920"/>
            <a:ext cx="845820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形式宾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代表不定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She found it difficult to convince h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He felt it his duty to take care of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引导的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took it for granted (that) you would be coming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间或代表连接代（副）词引导的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He hasn’t made it clear when he is coming back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They haven’t made it known where the meeting is to take pl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152280"/>
            <a:ext cx="891540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起始的句型归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ot clear to me why he behaved like th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 puzzle how life beg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doesn’t matter much where we l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makes no difference whether we go by train or by boat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的被动语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ot decided who will edit it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549360"/>
            <a:ext cx="8209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 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No, it couldn’t be that they were interested in h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点时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whe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was Christmas Eve when I got the news of his being killed in a car cra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段时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sinc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/has been three week since I last heard from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is time to do/ that…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谓语用过去时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time for us to give the house a thorough cl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is time that we gave the house a thorough cl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6600" y="765000"/>
            <a:ext cx="85305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 be + the first/second time that…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谓语动词用完成时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the first time in history that two Nobel Prizes have b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warded to the same per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takes sb. Time to 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took Mary 20 minutes to choose a suitable dress fo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par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96400" y="496800"/>
            <a:ext cx="80096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There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起始的句型归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 live/stand/lie/exis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stands a big tree at the entrance to the te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re lay a ditch two metres wide ah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) There come/go/appear/occur/follow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描述某事的发生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某个动作的开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will follow a break of 10 minutes and then we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go on with the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94720" y="568440"/>
            <a:ext cx="8145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) There being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独立主格结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being nothing left in the fridge, we had to do s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hopping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) …there to 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常见于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end, mean, consider, h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a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词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No one would expect there to be a war in his coun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 don’t want there to be another accident like th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404640"/>
            <a:ext cx="81770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) There is no need to 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is no need to wait for the bus since we can take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 our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名词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use, good, harm, sense, poi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 is no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in doin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is no point in arguing with him. He won’t liste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n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) There appear/seem/is likely/is certain to b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seems to be something wrong with the electric f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re is likely to be more people at the speech co0nt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an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228600"/>
            <a:ext cx="784872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于强调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强调部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who(whom)/tha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他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用来对句子的某一成分加以强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Eg: Nancy saw your sister in Tokyo last week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Nancy</a:t>
            </a:r>
            <a:r>
              <a:rPr b="1" lang="zh-CN" sz="2400" spc="-1" strike="noStrike" u="sng">
                <a:solidFill>
                  <a:srgbClr val="00cc99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o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aw your sister in Tokyo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your sist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om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ancy saw in Tokyo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in Tokyo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Nancy saw your sister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last week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at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ancy saw your sister in Toky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0"/>
            <a:ext cx="76964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些否定句也可以改成这种强调结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I didn’t hear from her until last su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n’t until last summer that I heard from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I didn’t do all this for myself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n’t for myself that I did all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问句也可变成这种结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Who called him “comrade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ho was it that called him “comrade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How did you forget to lock the d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ow was it that you forgot to lock the d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7621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8288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505320"/>
            <a:ext cx="76320" cy="609480"/>
          </a:xfrm>
          <a:custGeom>
            <a:avLst/>
            <a:gdLst>
              <a:gd name="textAreaLeft" fmla="*/ 48960 w 76320"/>
              <a:gd name="textAreaRight" fmla="*/ 7632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5720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189000"/>
            <a:ext cx="8229600" cy="60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非人称代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代替指示代词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表示“是谁（在某处或做某事）”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“Who’s that?” “It’s me.” Eg2: It’s your mother on the phone.  Eg3: “Why, it’s you!” she cri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可以用来泛指某件事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sn’t it awfu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doesn’t mat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时并不指具体东西，而指天气、时间、环境、距离等，称为非人称代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raining. Eg2: It’s Tuesday today.  Eg3: It’s quiet here. Eg4: It’s two miles to the bea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685800"/>
            <a:ext cx="754380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Ex: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把下列句子改为强调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om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broke the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indow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s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nigh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e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want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mone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Pet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saw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his frien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n the park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yesterda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4. I didn’t have an opportunity  of seeing her again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several years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5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does everyone think I’m narrow-min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6. I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dn’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receive my letter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until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yesterda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7. Did 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ck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call the meeting last wee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8. Did it happen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n 1980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83520" y="352440"/>
            <a:ext cx="97988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替代词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one, ones, that, those, it, this,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one, ones, that, t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替换单数可数名词或不可数名词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替换单数的可数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 vase on the left is more beautiful than the one on the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coffee produced in Brazil is more famous than that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ex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用于替换表示事物的名词， 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替换表示人和表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的名词皆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His younger sister is taller than the eld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need tha plastic bags, not the paper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16960" y="352440"/>
            <a:ext cx="8562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computers in our school are connected to the Internet w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ose in their school aren’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football players on our team seem to be more energetic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ose on your t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/ tho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有定冠词的名词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有不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冠词的名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 style of the building is similar to that of a te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CD player made in Japan costs more than one made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ong K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5600" y="1052640"/>
            <a:ext cx="8043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/ tho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般不带前置定语，但必须有后置定语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可。当替换词的后置定语用所有格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短语或当替换词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有格修饰时，不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 of/those o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like the vase better than the one / that in another sh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windows of your flat are cleaner than those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grandparent’s job is easier than that of a pa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8920" y="496800"/>
            <a:ext cx="86954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) it, this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和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可以替代前文已提到的事或情况，细微差别在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如其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者那么强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So she decided to paint the door pink. It upset the neighb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o she decided to paint the house pink. That really upset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eighbours, as you can imagi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前面提到的事物不止一件时，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常指最先提到的事物，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is/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指最后提到的事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6960" y="476280"/>
            <a:ext cx="89024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e keep the ice cream machine in the spare room. It is mai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used by the children.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mach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e keep the ice cream machine in the spare room. This/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s mainly used by the children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spare ro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出现在它所指代的事物之前；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指上文所提到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Listen to this! We will have three days of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“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penny saved is a penny earned.” Who said t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79320" y="568440"/>
            <a:ext cx="84834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) I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以指特定的前面提到过的事物，即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它替换的是同一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前无修饰语；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与前提事物有共同之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但并不完全一样的事物，因此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前或之后一定有修饰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来加以区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bought a dictionary three years ago and I am still using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bought a dictionary three years ago but I am going to b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new one s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609480"/>
            <a:ext cx="9144000" cy="497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形式主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有下面几种类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’s better to be ear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 was his duty to take care of the orphan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介词短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’s beyond me to say why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物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 makes me sick to think about it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名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’s no good standing here in the cold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 +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形容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’s helpless trying to convince her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其他结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 doesn’t matter waiting a few more days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6T08:49:25Z</dcterms:created>
  <dc:creator>weiyu</dc:creator>
  <dc:description/>
  <dc:language>en-US</dc:language>
  <cp:lastModifiedBy>wxd</cp:lastModifiedBy>
  <dcterms:modified xsi:type="dcterms:W3CDTF">2003-06-28T10:11:20Z</dcterms:modified>
  <cp:revision>23</cp:revision>
  <dc:subject/>
  <dc:title>PowerPoint 演示文稿</dc:title>
</cp:coreProperties>
</file>