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3.jpeg" ContentType="image/jpe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740-E20B-405F-A18E-644F02A7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A9C-F43E-475C-878E-657323B2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A63-C58B-4D38-AC25-BFFB6ABA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761-A4D2-44A4-A8F2-6B673061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3A43-C567-4118-B6CF-56BC0886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8017-D1A5-4795-B4BB-E0336C58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E540-FE18-447F-928C-042C4EC2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9393-85EA-4B43-8A58-9968AE5F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B41E-5115-411B-A66D-394E9FCF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F82D-EB7D-4488-AA87-E55F539D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90F1-2BD8-4455-B382-37294F13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96E-8830-49CE-8793-4431212F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57FF-50B4-4D00-A0DE-B83B1EDE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2653-8FF8-4C7E-AE34-D661BF79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B670-3D27-42ED-8A20-37037B01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77D5-4B46-4494-95E1-E28901E0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77AD-15FC-4C53-A036-36C3D2A0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DE6-EEF3-485A-8E36-6B6BF007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B34-52C5-441D-9AF5-CFD76403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1D4-9706-469C-B871-5D215C92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D41-1C2A-4845-9432-B234F540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BF8-0F10-4F7B-A085-8021477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8A9-ADBE-497F-9323-126937C7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41E-F26A-4D2C-A759-B469CDDA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839F-E1E3-4789-835F-41E4A2480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81FD-137D-4130-8899-2AD0102569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%20want.MPG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685800"/>
            <a:ext cx="586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omic Sans MS"/>
              </a:rPr>
              <a:t>Unit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omic Sans MS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8862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LON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NTARC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43400" y="5029200"/>
            <a:ext cx="194796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52680" y="4495680"/>
            <a:ext cx="914400" cy="9144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4495680"/>
            <a:ext cx="1067040" cy="91440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-131760"/>
            <a:ext cx="8381880" cy="70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Scanning:True or False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(    )The author made her Antarctica expedition in December,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(    ) The weather in Antarctica was changeable, which added difficulty to he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(    ) She fell into a deep hole and fell down onto the bottom, a few hundred f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(    ) Climbing along the ropes to the sled, she quickly returned to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(    ) Although she was hurt, she still decided to continue her j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685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5867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00400" y="822240"/>
            <a:ext cx="14479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295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n November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0384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ut luckily she hung on the ropes which were tied to the s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56386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t took her a long time to climb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6338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657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5257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640080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6329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808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Find out some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33520"/>
            <a:ext cx="76960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5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199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hird 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we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day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morning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l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5335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veled alone at the North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143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gan her jour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82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ruggled through stormy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438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yed in her 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3048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lebrated her 6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birth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36576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ell into a hole and climbed  out fi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49528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d a bad accident with the sled and hurt her 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6324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ave up and went back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90720" y="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urther reading: answer the following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3352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How did Helen Thayer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How did she celebrate her 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rth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walked ,skied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led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al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2860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aw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ed a frozen cake with a candle,san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the top of her voice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53341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/>
          </p:cNvPr>
          <p:cNvSpPr/>
          <p:nvPr/>
        </p:nvSpPr>
        <p:spPr>
          <a:xfrm>
            <a:off x="1523880" y="342900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5257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y self-rescuing. Thanks to all the training she had had. She was in good health and her equipment worked well.She had strong w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7339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     How did she struggle out of the ho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did she succ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129528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struggled to her knees and tried every means to put the tent up and dragged her sleeping bag into the tent and lay down out of the cold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28600"/>
            <a:ext cx="7878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How did she prevent herself from being frozen to death after the accid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124080"/>
            <a:ext cx="81532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Some people think Thayer’s trip was a failure. Do you think so ? When she made the final decision , which things did she take into consider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 Do you think she went t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only to celebrate 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rth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were her real purpo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66680" y="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ill in the blan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91440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wanted to _______  my birthday in a special way. After making the necessary__________, I started the journey of _______ on Nov.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,1997. The weather in Antarctica was ________. Sometimes the wind was too_______ for us to pace any inch;sometimes terrible snow storms came _______  and I had to use my tent as  a _______. Besides, I once fell into a hole and fortunately _____  myself out. The worst was that I had a bad_______ with the sled, which forced me to _____ up my j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838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eleb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1676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ep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2209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3809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dde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sc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5486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59436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0"/>
            <a:ext cx="23623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10098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Comic Sans MS"/>
              </a:rPr>
              <a:t>What kind of woman is Helen Thayer?    What can you learn from 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077320" y="5181480"/>
            <a:ext cx="1066680" cy="1676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90720" y="21337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ve, strong, responsible, confident, optimistic, strong will, never give up, give in to difficulty, like challeng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3429000"/>
            <a:ext cx="3429000" cy="15238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3886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800600"/>
            <a:ext cx="710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roup work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 an interview to Helen Thayer. One acts as Helen Thayer. The other three act as  reporters or journa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676520" y="41911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800600"/>
            <a:ext cx="8076960" cy="174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 WORK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e down some sentences to describe Helen Th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95280" y="5257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Helen Th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179280"/>
            <a:ext cx="4267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She is a cross country ski racer and climber. She walked and skied alone to the North Pole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88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at the age of 50 and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2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she returned to the North Pole again.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5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, she wrote a book about her journey to the pole named </a:t>
            </a:r>
            <a:r>
              <a:rPr b="1" i="1" lang="en-US" sz="2800" spc="-1" strike="noStrike">
                <a:solidFill>
                  <a:srgbClr val="6600cc"/>
                </a:solidFill>
                <a:latin typeface="Comic Sans MS"/>
              </a:rPr>
              <a:t>POLAR DREAM.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7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, Helen spent her 60</a:t>
            </a:r>
            <a:r>
              <a:rPr b="1" lang="en-US" sz="2800" spc="-1" strike="noStrike" baseline="30000">
                <a:solidFill>
                  <a:srgbClr val="6600cc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birthday traveling alone in </a:t>
            </a: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Antar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362320" y="762120"/>
          <a:ext cx="56386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762120"/>
                    <a:ext cx="56386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00200" y="5638680"/>
            <a:ext cx="63244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ntarctic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the South Po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762120"/>
            <a:ext cx="5715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ctic( the North Po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7920" y="42670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engu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olar  b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7621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(only on the   North Po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510552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(only in Antarct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5791320"/>
            <a:ext cx="8839080" cy="10688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cy wind ,sunshine 24h 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orm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90 degrees below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trem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3120" y="4572000"/>
            <a:ext cx="6112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6213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5867280"/>
            <a:ext cx="89154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little human activities because of the extreme clim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2120" y="6019920"/>
            <a:ext cx="7391160" cy="579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2120" y="6019920"/>
            <a:ext cx="79246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nger is jus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round the co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9404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068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Skimming (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lone in Antarctica</a:t>
            </a: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990720"/>
            <a:ext cx="7696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main idea of this t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What dangers did she meet with while travelling in Antarc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5238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len traveled alone in Antarctica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ccessfully overcame the difficulty s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800600"/>
            <a:ext cx="8229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o strong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lling into a ho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 bad accident with the sled and hurt her leg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07:28:57Z</dcterms:created>
  <dc:creator>njsz_personal</dc:creator>
  <dc:description/>
  <dc:language>en-US</dc:language>
  <cp:lastModifiedBy>zy</cp:lastModifiedBy>
  <dcterms:modified xsi:type="dcterms:W3CDTF">2005-03-27T13:00:39Z</dcterms:modified>
  <cp:revision>13</cp:revision>
  <dc:subject/>
  <dc:title>PowerPoint 演示文稿</dc:title>
</cp:coreProperties>
</file>