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BCC2-41B0-4CF2-8C0B-073EDE00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B6D-8AE0-4095-AE41-63BC47FB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330-00B7-480E-8DC0-FCBF4F48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DFEA-EE59-4112-A780-E3F378AC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497-6F62-4558-A08C-76B19055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DE1A-20B2-43BA-9F7A-2998117E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A02-6B67-4E03-97BE-691BCF77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697B-B456-412E-9F05-EE398DEE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36D-9356-48DD-8B75-89213CE5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6DC-A5ED-41D6-A513-3E8F7201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430-69DA-4700-8B40-AF40AF0E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E3F-2635-4C66-AA24-12F16602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B3BE-B348-4979-8F7B-9AFF868762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simple%20present&amp;present%20continuous.ppt#Slide 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59640" y="1916280"/>
            <a:ext cx="414324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"/>
              </a:rPr>
              <a:t>一般现在时和现在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一般过去时和过去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现在完成时和现在完成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过去完成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过去将来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7164360" y="5229360"/>
            <a:ext cx="792360" cy="682560"/>
          </a:xfrm>
          <a:custGeom>
            <a:avLst/>
            <a:gdLst>
              <a:gd name="textAreaLeft" fmla="*/ 43920 w 792360"/>
              <a:gd name="textAreaRight" fmla="*/ 748440 w 792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5073" h="21600">
                <a:moveTo>
                  <a:pt x="0" y="0"/>
                </a:moveTo>
                <a:lnTo>
                  <a:pt x="25073" y="0"/>
                </a:lnTo>
                <a:lnTo>
                  <a:pt x="25073" y="21600"/>
                </a:lnTo>
                <a:lnTo>
                  <a:pt x="0" y="21600"/>
                </a:lnTo>
                <a:close/>
              </a:path>
              <a:path fill="lightenLess" w="25073" h="21600">
                <a:moveTo>
                  <a:pt x="0" y="0"/>
                </a:moveTo>
                <a:lnTo>
                  <a:pt x="25073" y="0"/>
                </a:lnTo>
                <a:lnTo>
                  <a:pt x="23673" y="1400"/>
                </a:lnTo>
                <a:lnTo>
                  <a:pt x="1400" y="1400"/>
                </a:lnTo>
                <a:close/>
              </a:path>
              <a:path fill="darken" w="25073" h="21600">
                <a:moveTo>
                  <a:pt x="25073" y="0"/>
                </a:moveTo>
                <a:lnTo>
                  <a:pt x="25073" y="21600"/>
                </a:lnTo>
                <a:lnTo>
                  <a:pt x="23673" y="20200"/>
                </a:lnTo>
                <a:lnTo>
                  <a:pt x="23673" y="1400"/>
                </a:lnTo>
                <a:close/>
              </a:path>
              <a:path fill="darkenLess" w="25073" h="21600">
                <a:moveTo>
                  <a:pt x="25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73" y="20200"/>
                </a:lnTo>
                <a:close/>
              </a:path>
              <a:path fill="lighten" w="25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73" h="21600">
                <a:moveTo>
                  <a:pt x="16035" y="10800"/>
                </a:moveTo>
                <a:lnTo>
                  <a:pt x="5530" y="17806"/>
                </a:lnTo>
                <a:lnTo>
                  <a:pt x="5530" y="3794"/>
                </a:lnTo>
                <a:close/>
              </a:path>
              <a:path fill="darken" w="25073" h="21600">
                <a:moveTo>
                  <a:pt x="17881" y="3794"/>
                </a:moveTo>
                <a:lnTo>
                  <a:pt x="17881" y="17806"/>
                </a:lnTo>
                <a:lnTo>
                  <a:pt x="19543" y="17806"/>
                </a:lnTo>
                <a:lnTo>
                  <a:pt x="1954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3:50:37Z</dcterms:created>
  <dc:creator>李徐琴</dc:creator>
  <dc:description/>
  <dc:language>en-US</dc:language>
  <cp:lastModifiedBy>Legend User</cp:lastModifiedBy>
  <dcterms:modified xsi:type="dcterms:W3CDTF">2002-11-24T10:07:14Z</dcterms:modified>
  <cp:revision>3</cp:revision>
  <dc:subject/>
  <dc:title>幻灯片 1</dc:title>
</cp:coreProperties>
</file>