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AA9-9F35-4C43-A3F1-837B3BE5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EE8-2ACE-46A6-8E82-9117F617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699-CF4C-4598-9430-430165A5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191-A340-448D-BC28-30EF6F90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14E-B8BB-4834-AB65-0C78AF2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431-2883-4A80-A7DC-DE34767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54-D1EC-4797-870F-59715AE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7B2-67DC-4CE5-A39B-90A4A241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34A-C983-47B9-B505-05CCAAC8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4B9-D952-4B1C-9DFD-CF389C9F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4E0-63D3-40C8-A515-C610617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E9D-0965-48D5-B6D4-7FB0DE7A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F78-4E59-4E8A-A0C7-7CA718594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Many people who saw th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ilm were </a:t>
            </a:r>
            <a:r>
              <a:rPr b="1" i="1" lang="zh-CN" sz="2400" spc="-1" strike="noStrike">
                <a:solidFill>
                  <a:srgbClr val="fc3000"/>
                </a:solidFill>
                <a:latin typeface="Times New Roman"/>
              </a:rPr>
              <a:t>afrai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to swim in the se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rai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用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sb/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to do sth/of 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doing sth  /  be afraid +tha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m afra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1911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1. He seldom stands on the river bank because he is afraid that he might fall into th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2. I’m afraid I can’t agree with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21:12Z</dcterms:created>
  <dc:creator>user</dc:creator>
  <dc:description/>
  <dc:language>en-US</dc:language>
  <cp:lastModifiedBy>user</cp:lastModifiedBy>
  <dcterms:modified xsi:type="dcterms:W3CDTF">2003-09-18T02:21:28Z</dcterms:modified>
  <cp:revision>1</cp:revision>
  <dc:subject/>
  <dc:title>PowerPoint 演示文稿</dc:title>
</cp:coreProperties>
</file>