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967-95A5-4664-B80D-7C83C88C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213-EA4A-45DE-9C8C-7C96C91A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7F6-5E7B-4402-84E5-923040C5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2376-D1A8-411C-9898-8E4D2177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4EB-EFA3-4ECA-9E34-6F3FB533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ED1-75FA-4DC2-9D23-137C3C44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ACD-9FF7-400D-873D-2979135A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AAC-AB8C-4EEA-9A20-E6C655C7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B3A1-A56E-42AC-81E3-115828C3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20F-F5B1-41A6-BAFE-D8224608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D7D-F401-4940-8344-D4279787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E7A4-A814-4E67-A050-0D1AD999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084F-94B8-41F6-91A6-47F620E9BF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899172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After that it still took seven years </a:t>
            </a:r>
            <a:r>
              <a:rPr b="1" lang="zh-CN" sz="2400" spc="-1" strike="noStrike">
                <a:solidFill>
                  <a:srgbClr val="fc3000"/>
                </a:solidFill>
                <a:latin typeface="Times New Roman"/>
              </a:rPr>
              <a:t>befo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hey finally go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fore….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等…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不多久）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宁愿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不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 was not long before they got married.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276720"/>
            <a:ext cx="754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会议还没结束，他就离开了会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809880"/>
            <a:ext cx="7619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 left before the meeting end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93704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We hadn’t wait long before the bus c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4419720"/>
            <a:ext cx="762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没等多久，汽车就来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54864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宁愿饿死，也就不行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943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 will die of hunger before he will d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2:38:34Z</dcterms:created>
  <dc:creator>user</dc:creator>
  <dc:description/>
  <dc:language>en-US</dc:language>
  <cp:lastModifiedBy>user</cp:lastModifiedBy>
  <dcterms:modified xsi:type="dcterms:W3CDTF">2003-09-18T02:44:14Z</dcterms:modified>
  <cp:revision>4</cp:revision>
  <dc:subject/>
  <dc:title>PowerPoint 演示文稿</dc:title>
</cp:coreProperties>
</file>