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B2EE-805B-4C2B-A1F8-F892033B8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2415-2B82-43DD-A806-C92C7573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BF50-82F9-4FD8-BE40-235DB1BBD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F30B-5F3E-4729-AD97-C8B8F81FE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A3DF-C4A6-4BE8-862A-256C53EC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A4E7-7057-438A-97D9-BC9E3557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6880-2141-4810-B539-17F7A3A0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64EB-8C0A-4BA2-9DFB-26095ECF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67F6-3DCE-4DAA-A0FF-FDFA776A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E353-C635-444E-B410-BF149240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0C00-D2F0-4163-A650-2565C04A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3CB3-91AB-4921-8F17-B2065A0E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6F74-D06A-4F50-BBE3-08D2CBDAF5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320" y="228600"/>
            <a:ext cx="8915400" cy="30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699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anguage Poi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6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She wants them to let her appear </a:t>
            </a:r>
            <a:r>
              <a:rPr b="1" lang="zh-CN" sz="2800" spc="-1" strike="noStrike">
                <a:solidFill>
                  <a:srgbClr val="fc3000"/>
                </a:solidFill>
                <a:latin typeface="Times New Roman"/>
              </a:rPr>
              <a:t>liv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on the air, hoping that Huike will see 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6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Liv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实况直播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6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football game was broadcast l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6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ore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42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3000"/>
                </a:solidFill>
                <a:latin typeface="Times New Roman"/>
              </a:rPr>
              <a:t>The Oscar ceremony is the biggest, most extravagant live event on televis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470844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c3000"/>
                </a:solidFill>
                <a:latin typeface="Times New Roman"/>
              </a:rPr>
              <a:t>奥斯卡颁奖典礼是最大、最铺张的电视实况转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02:54:24Z</dcterms:created>
  <dc:creator>user</dc:creator>
  <dc:description/>
  <dc:language>en-US</dc:language>
  <cp:lastModifiedBy>user</cp:lastModifiedBy>
  <dcterms:modified xsi:type="dcterms:W3CDTF">2003-09-18T02:54:42Z</dcterms:modified>
  <cp:revision>1</cp:revision>
  <dc:subject/>
  <dc:title>PowerPoint 演示文稿</dc:title>
</cp:coreProperties>
</file>