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5B0-FE50-425C-83A3-AE6C43EF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0EB-B583-4408-845C-C8E45130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174-9C0A-4D3E-8BF1-5B68A22E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BDC-70BD-4E3D-8795-07A3236E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81B8-FF06-4CA4-A9AB-43257CDA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F3C7-2B21-44C5-ABE8-BA01D7ED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FE54-669E-454B-90E1-59564FA6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7B00-18AD-45AD-AFF9-33F1EDB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54C6-CF23-40C2-AEA5-51BCE80A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E3B9-6397-4AD9-BDF7-069E8C68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A801-9703-4D85-BF7E-27BA8A8E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E13-F74B-41E5-B52A-6340D387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A668-BE67-41D1-9317-34C02016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324F-15F6-41B1-AF0B-A82CA7DD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DD1D-D20A-48B2-A80F-24D9E3BF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144A-56E0-4FC9-A555-BAC6731E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12E9-C410-4320-A7FF-59A6A033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BE5-6954-49FB-ABB1-6B1A169A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488-732D-415B-83AC-31561A1B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521-FD52-4ED2-AABC-864ACA4D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EEF-64B3-43DE-B3F9-005CB61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6B0-0818-4A3A-97DD-02B0F07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BE9-B6FA-402C-A053-5E5B7784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941-7D20-40BA-8ACF-C22D520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DE5-D03A-4705-925C-BEDB829014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E876-4532-4575-BD5B-DAB7EF3F3ED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7560" y="4648320"/>
            <a:ext cx="32896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限制性定语从句起补充说明的作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省去后不影响主句的意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逗号与主句分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并列的分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7200" y="685800"/>
            <a:ext cx="67111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非限制性定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is note was left by Joh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s here a moment a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这条子是约翰留的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他刚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来过这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35200" y="1447920"/>
            <a:ext cx="673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地点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went to the Stat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st of the fil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ere made at that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9280" y="1143000"/>
            <a:ext cx="78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句中作定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ther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ll for many years,had to d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treets to earn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415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92640" y="1143000"/>
            <a:ext cx="7241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介词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/whom/w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the office,I never se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have time until 5:30 p.m.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by 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ime many peop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ve gon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320" y="533520"/>
            <a:ext cx="66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 introduced me to 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ommates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oth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from Califor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4440" y="2971800"/>
            <a:ext cx="7002360" cy="34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f,many of,most of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e of,two of, half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h of,neither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h of,all of,several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f, little of, a number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9440" y="1676520"/>
            <a:ext cx="710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eachers discussed J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of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problems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or study hab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65240" y="1544760"/>
            <a:ext cx="664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正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Last night I took a taxi,and which took m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048120"/>
            <a:ext cx="914400" cy="5331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819520"/>
            <a:ext cx="25146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 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1752480"/>
            <a:ext cx="746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expressed the hope which Mr. and Mrs. smith would come to visit China the nex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1828800"/>
            <a:ext cx="15397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50440" y="1295280"/>
            <a:ext cx="692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Tom's mother kept te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im that he should 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rder,but ___didn't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he  B.which  C.she  D.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191120"/>
            <a:ext cx="9144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0160" y="838080"/>
            <a:ext cx="7311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 shall never forget tho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ars  ___ I lived in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untry with the farm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has a great effect 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hat,which   B.when,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ich,that   D.when,w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257800"/>
            <a:ext cx="33526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880" y="990720"/>
            <a:ext cx="659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st of ___hadn't b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leaned 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410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81400" y="609480"/>
            <a:ext cx="5529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比较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ose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nt to go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lease sign their nam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想去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请在这里签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26320" y="4343400"/>
            <a:ext cx="43228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限制性定语从句起限定作用，是主句不可缺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先行词间无逗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前置定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3840" y="685800"/>
            <a:ext cx="649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.There are twenty-fi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upils in the class,___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the United St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ree of 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some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ll of them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five of 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343400"/>
            <a:ext cx="40384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533520"/>
            <a:ext cx="7057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 students climbed 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ll,___ they could get 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nderful vi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its top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on the top of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ose top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on the top of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876920"/>
            <a:ext cx="37335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3840" y="1371600"/>
            <a:ext cx="705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. The weather turned ou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 B.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444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ages___ are missing,i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of which    B.for 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o that        D.to 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114800"/>
            <a:ext cx="26672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24360" y="1143000"/>
            <a:ext cx="792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Beijing,___,is a beauti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is the capital of Ch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which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is the capital of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that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52680"/>
            <a:ext cx="74678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0160" y="838080"/>
            <a:ext cx="7462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9.He made another wond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iscovery ,___ of gre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mport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ich I think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which I think 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ich I think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 think which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9880"/>
            <a:ext cx="441972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8600" y="1371600"/>
            <a:ext cx="7293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0.She heard a terrible noi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 brought her heart i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u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   B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is            D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680" y="1523880"/>
            <a:ext cx="766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1.Carol said the work woul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e done by October,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ersonally I doubt very m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B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en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51814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106668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2.The weather turned 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B.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38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07320" y="1270080"/>
            <a:ext cx="726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mo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of ___hadn't been clean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6386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4400" y="990720"/>
            <a:ext cx="622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oo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t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62600" y="4572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只有那些知道前面有洪水的旅客们才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4000" y="54864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旅客们知道前面有洪水，因而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27160" y="507960"/>
            <a:ext cx="781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4.___ is mentioned ab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number of the stud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enior high school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creas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         B.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 D.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76920"/>
            <a:ext cx="7696080" cy="173988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导非限制性定语从句，位于句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定语从句中作主语，代表整个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所表达的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4600" y="380880"/>
            <a:ext cx="7226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5.___ is known to all,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ill be an ___ and pow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ountry in 20 or 30 years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a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Thi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39621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762120"/>
            <a:ext cx="6345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几种情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此时不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BBC World Servi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roadcasts all kind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rogram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month to mon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2120"/>
            <a:ext cx="7086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lock struck thirte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de everyone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5480" y="2514600"/>
            <a:ext cx="710064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修饰整个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代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lock struck thirteen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又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30720" y="4419720"/>
            <a:ext cx="6986880" cy="155628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levator is out of ord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oo b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6200" y="1752480"/>
            <a:ext cx="693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 said that the man 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thief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urned ou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tr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1295280"/>
            <a:ext cx="6616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rlie Chaplin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di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1977,was one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orld’s greatest actor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371600"/>
            <a:ext cx="719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宾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doctor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he nur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s talking to, is leaving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frica next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22200" y="144792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时间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e went to the States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912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he was noti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y an important film dire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7:34:46Z</dcterms:created>
  <dc:creator>Legend User</dc:creator>
  <dc:description/>
  <dc:language>en-US</dc:language>
  <cp:lastModifiedBy>Legend User</cp:lastModifiedBy>
  <dcterms:modified xsi:type="dcterms:W3CDTF">2002-09-29T01:59:18Z</dcterms:modified>
  <cp:revision>19</cp:revision>
  <dc:subject/>
  <dc:title>PowerPoint 演示文稿</dc:title>
</cp:coreProperties>
</file>