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8E0-BA06-4DE2-8E5A-0E27F31F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F76-B9B7-459E-B17C-1CA7F9DD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061-43F4-420E-A75A-07031C85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941-F491-46BC-80C7-7CE53F3A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734D-B5C8-4823-9EE1-3A8F8D9B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6CD2-248A-4477-83CE-FE2A8105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7848-AAA3-44EA-B153-A9753F63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8BEB-ECA6-44F4-BCCA-5E35C8E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2039-19BA-477C-A300-7E8105A4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3F7-7CEF-4EED-9CBA-F79B9B14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1C28-AEEE-400D-9B9C-F426AD3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187-B386-4B71-98D2-7299EC6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B019-23DF-4E4F-841B-D412E4ED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EA4-49CF-4EFC-B678-9119305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D4FE-E2FF-4D59-8511-70A700D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D859-1229-4045-A6C8-D00AA890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87BF-9D7E-4890-81AE-9827D578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3DD-B826-42CA-8A1B-7365F83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D06-1AC7-424C-85C2-0F452079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FD4-5058-48CD-BB75-E49763EE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CFE-AB76-4311-8361-8BD1E9C3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F8F-BFE8-4F5A-BFE8-A21553BD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9C2-065B-466D-B029-BE9BFC01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CC2-C322-4942-ABCA-B24E6C7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F90D-B42E-4A9B-86D7-EE1E28E4468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851C-0724-4554-BF61-7A8D7CA7683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286000"/>
            <a:ext cx="5791320" cy="155628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+ which\whom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5373720"/>
            <a:ext cx="280836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12952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3680" y="4992840"/>
            <a:ext cx="3838320" cy="70344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中缺少什么成分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267080"/>
            <a:ext cx="27432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91120" y="5410080"/>
            <a:ext cx="2466360" cy="76428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确定句子类型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181480"/>
            <a:ext cx="40384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191120"/>
            <a:ext cx="25146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0640" y="1523880"/>
            <a:ext cx="678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old Olympic Game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moder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games came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began aroun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year 776BC in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676520"/>
            <a:ext cx="725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Some of the games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young men compete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re: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running,jumping 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restl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90512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country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first Olympic Gam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ere held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is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240" y="1676520"/>
            <a:ext cx="654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 Barcelona the Chines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got 16 gold medal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which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12 were won b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om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0440" y="914400"/>
            <a:ext cx="6340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ink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.This is the room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35440" y="1776240"/>
            <a:ext cx="7149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4.The comrad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came knows French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girl 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you'r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ooking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in the classroom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3429000"/>
            <a:ext cx="304920" cy="609480"/>
          </a:xfrm>
          <a:custGeom>
            <a:avLst/>
            <a:gdLst>
              <a:gd name="textAreaLeft" fmla="*/ 0 w 304920"/>
              <a:gd name="textAreaRight" fmla="*/ 305280 w 304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60480" y="1066680"/>
            <a:ext cx="6459840" cy="131292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或介词短语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)+which/whom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in fron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3200" y="228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类型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93200" y="2514600"/>
            <a:ext cx="5145840" cy="314136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.a few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os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ny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om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on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93920" y="5867280"/>
            <a:ext cx="4103640" cy="70344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3.NOUN+of 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496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03848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2:36:14Z</dcterms:created>
  <dc:creator>Legend User</dc:creator>
  <dc:description/>
  <dc:language>en-US</dc:language>
  <cp:lastModifiedBy>赵晨盼</cp:lastModifiedBy>
  <dcterms:modified xsi:type="dcterms:W3CDTF">2002-10-13T10:32:04Z</dcterms:modified>
  <cp:revision>5</cp:revision>
  <dc:subject/>
  <dc:title>PowerPoint 演示文稿</dc:title>
</cp:coreProperties>
</file>