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EAF6-2756-425E-B64A-2781F0B4A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6A5C-75F8-4BC4-9F4C-B292987A2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3928-EB64-418A-A715-A019E203A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0BCC-98AA-4BD8-A6A5-EA5F04D7A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3433F-37D1-4C20-9355-A8EAC6A71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6E4BD-AFCC-4744-8B12-B282384D8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79581-6185-4851-AC8A-333E7B2A8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8742F-F113-465E-A699-EBFE85C5E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D124D-9DA8-456E-914D-B9F49621A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79780-C9F1-4C98-A598-EF31DE77F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FD4EC-0B4E-4AD8-9309-5DF02667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82A0-1234-4AA7-A41C-F01797AF5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B33C3-E14B-4CD7-BAE9-A7D8F88D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5D893-0495-4D90-BDEB-9BA6F6B1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65325-0B33-494C-8823-6ECB548CA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59C2A-39AB-4889-9156-8621E5BEC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0AFBE-DA88-4578-9C78-1DFC72CB3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2CA1-C645-4287-A11D-734BC2BB9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080A-448F-464B-9B53-B10E0496E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1663-27BF-4C4F-9694-3CB3396EF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B453-2F6F-4D77-B6CB-3A24393D5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DBEA-8FB1-4595-B13F-605F1184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F12D-D610-43EF-B1B7-3EBFC64B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BA6B-21E3-40ED-B1A6-127B86F5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1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9F132-3040-4FD1-8BB0-8CEC74048107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48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98400" y="6154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36680" y="6154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65680" y="6154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70DA0-0533-424C-A5D6-1A75A35A6758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09480" y="3324240"/>
            <a:ext cx="8001000" cy="374760"/>
            <a:chOff x="609480" y="3324240"/>
            <a:chExt cx="8001000" cy="374760"/>
          </a:xfrm>
        </p:grpSpPr>
        <p:sp>
          <p:nvSpPr>
            <p:cNvPr id="58" name=""/>
            <p:cNvSpPr/>
            <p:nvPr/>
          </p:nvSpPr>
          <p:spPr>
            <a:xfrm>
              <a:off x="609480" y="3470400"/>
              <a:ext cx="800100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15960" y="3324240"/>
              <a:ext cx="7843680" cy="27792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13500000"/>
            </a:gradFill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2440" y="339408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2440" y="347040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22440" y="354636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440" y="337968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2440" y="345600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22440" y="353232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627920" y="838080"/>
            <a:ext cx="5956200" cy="1434600"/>
          </a:xfrm>
          <a:prstGeom prst="rect">
            <a:avLst/>
          </a:prstGeom>
          <a:noFill/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aeaea"/>
                </a:solidFill>
                <a:latin typeface="Times New Roman"/>
              </a:rPr>
              <a:t>where &amp;when </a:t>
            </a:r>
            <a:r>
              <a:rPr b="0" lang="zh-CN" sz="4400" spc="-1" strike="noStrike">
                <a:solidFill>
                  <a:srgbClr val="eaeaea"/>
                </a:solidFill>
                <a:latin typeface="Times New Roman"/>
              </a:rPr>
              <a:t>在定语从句中作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aeaea"/>
                </a:solidFill>
                <a:latin typeface="Times New Roman"/>
              </a:rPr>
              <a:t>地点状语和时间状语的用法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0560" y="2743200"/>
            <a:ext cx="694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The building </a:t>
            </a: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where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 lives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i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very old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10080" y="4648320"/>
            <a:ext cx="1964880" cy="119124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Where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在定语从句中修饰一个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地点名词，作地点状语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817920" y="1727280"/>
            <a:ext cx="78206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8.Mother was worried because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little Alice was ill,especially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__father was away in France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A.when                   B.that 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C.during            D.if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4724280"/>
            <a:ext cx="198108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5800" y="2590920"/>
            <a:ext cx="716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Put the umbrella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re it was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61320" y="3757680"/>
            <a:ext cx="825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Put the books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re you took them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24360" y="1219320"/>
            <a:ext cx="1704600" cy="7034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aeaea"/>
                </a:solidFill>
                <a:latin typeface="Times New Roman"/>
              </a:rPr>
              <a:t>定语从句？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7600" y="1981080"/>
            <a:ext cx="8071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Put the book____it is when you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have finished reading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A.which         B.where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C.in which     D.at the place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43400" y="4191120"/>
            <a:ext cx="198108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39560" y="1498680"/>
            <a:ext cx="846216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When you read the book,you'd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better make a mark ___ you have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any questions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A.at which                B.at where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C.the place where     D.where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943600" y="5181480"/>
            <a:ext cx="198108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19320" y="1447920"/>
            <a:ext cx="6873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aeaea"/>
                </a:solidFill>
                <a:latin typeface="Times New Roman"/>
              </a:rPr>
              <a:t>I’ll never forget the day </a:t>
            </a:r>
            <a:r>
              <a:rPr b="0" lang="zh-CN" sz="4400" spc="-1" strike="noStrike">
                <a:solidFill>
                  <a:srgbClr val="ff0033"/>
                </a:solidFill>
                <a:latin typeface="Times New Roman"/>
              </a:rPr>
              <a:t>when</a:t>
            </a:r>
            <a:r>
              <a:rPr b="0" lang="zh-CN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I met you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3657600"/>
            <a:ext cx="6492960" cy="6426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When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修饰一个时间名词，作时间状语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3520" y="1295280"/>
            <a:ext cx="82296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1.Can you tell me the name of the factory ___ you visited last week?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A.what               B.where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C./                      D.when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4952880"/>
            <a:ext cx="198144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1066680"/>
            <a:ext cx="79246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2.I can still remember the sitting-room___my mother and I used to sit in the evening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A.what          B.which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C.that            D.where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62520" y="4724280"/>
            <a:ext cx="198108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30760" y="1066680"/>
            <a:ext cx="8206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3.I shall never forget those years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___ I lived in the country with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the farmers ,____has a great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effect on my life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A.that,which       B.when,which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C.which,that       D.when,who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4724280"/>
            <a:ext cx="358128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41000" y="1295280"/>
            <a:ext cx="82429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4.After living in Paris for fifty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years, he returned to the small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town ___ he grew up as a child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A.which          B.where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C.that              D.when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95680" y="4267080"/>
            <a:ext cx="198144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06000" y="1219320"/>
            <a:ext cx="8529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5.She thought I was talking about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her daughter,___in fact,I was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talking about my daughter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A.whom            B.where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C.which            D.while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876920"/>
            <a:ext cx="198108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80880" y="129528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6.It was an exciting moment for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these football fans this year,___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for the first time in years their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team won the World Cup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A.that               B.while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C.which            D.when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19720" y="5715000"/>
            <a:ext cx="198108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69960" y="1574640"/>
            <a:ext cx="761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7.I still remember the days___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we studied together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A.that                B.which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C.where             D.when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76920" y="4572000"/>
            <a:ext cx="198108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8T12:04:58Z</dcterms:created>
  <dc:creator>赵晨盼</dc:creator>
  <dc:description/>
  <dc:language>en-US</dc:language>
  <cp:lastModifiedBy>Legend User</cp:lastModifiedBy>
  <dcterms:modified xsi:type="dcterms:W3CDTF">2002-09-30T10:45:45Z</dcterms:modified>
  <cp:revision>4</cp:revision>
  <dc:subject/>
  <dc:title>PowerPoint 演示文稿</dc:title>
</cp:coreProperties>
</file>