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AD9-82C7-4137-94A6-2B2A0BB9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379-5002-485F-93DB-F0671DC9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59C-77FF-43F7-90B7-D159AE6A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8A9-F808-43A2-A782-7E2EAEEF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C53-2B5F-4BFD-A4A7-08C781E6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E0CF-CFDE-4270-B39B-DAE598B5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298-0204-4523-B0BB-3097DBBA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06C-696C-44B5-BD8D-931BBBBC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43C-DFF0-47CB-A805-256E0CD2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6EB-0437-4F72-A0CA-C8A915B2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0C3-3647-4940-AB18-2C77D090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690-C395-4A02-8941-D8CFBAFE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6242-F2B3-4867-939A-C10791B6E4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4582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. The White family are _____ breakfast in a ho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in Asw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for   B. at     C. on    D.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. Pippa said she didn’t feel____very much tha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walk   B. like to walk   C. walking   D. like w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3.Then anyone____wants to can go for a walk 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swan after the boat tr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who     B. which     C. what     D.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4. I’d prefer ____some shopping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do     B. done     C. to do     D.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5. The sun will burn you ___ you’re not car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unless   B. if     C. and      D.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tick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328320" cy="328680"/>
          </a:xfrm>
          <a:prstGeom prst="rect">
            <a:avLst/>
          </a:prstGeom>
          <a:ln w="0">
            <a:noFill/>
          </a:ln>
        </p:spPr>
      </p:pic>
      <p:pic>
        <p:nvPicPr>
          <p:cNvPr id="43" name="stick" descr=""/>
          <p:cNvPicPr/>
          <p:nvPr/>
        </p:nvPicPr>
        <p:blipFill>
          <a:blip r:embed="rId3"/>
          <a:stretch/>
        </p:blipFill>
        <p:spPr>
          <a:xfrm>
            <a:off x="6477120" y="2362320"/>
            <a:ext cx="328320" cy="328320"/>
          </a:xfrm>
          <a:prstGeom prst="rect">
            <a:avLst/>
          </a:prstGeom>
          <a:ln w="0">
            <a:noFill/>
          </a:ln>
        </p:spPr>
      </p:pic>
      <p:pic>
        <p:nvPicPr>
          <p:cNvPr id="44" name="stick" descr=""/>
          <p:cNvPicPr/>
          <p:nvPr/>
        </p:nvPicPr>
        <p:blipFill>
          <a:blip r:embed="rId4"/>
          <a:stretch/>
        </p:blipFill>
        <p:spPr>
          <a:xfrm>
            <a:off x="914400" y="3657600"/>
            <a:ext cx="328680" cy="328680"/>
          </a:xfrm>
          <a:prstGeom prst="rect">
            <a:avLst/>
          </a:prstGeom>
          <a:ln w="0">
            <a:noFill/>
          </a:ln>
        </p:spPr>
      </p:pic>
      <p:pic>
        <p:nvPicPr>
          <p:cNvPr id="45" name="stick" descr=""/>
          <p:cNvPicPr/>
          <p:nvPr/>
        </p:nvPicPr>
        <p:blipFill>
          <a:blip r:embed="rId5"/>
          <a:stretch/>
        </p:blipFill>
        <p:spPr>
          <a:xfrm>
            <a:off x="3733920" y="4495680"/>
            <a:ext cx="328320" cy="328680"/>
          </a:xfrm>
          <a:prstGeom prst="rect">
            <a:avLst/>
          </a:prstGeom>
          <a:ln w="0">
            <a:noFill/>
          </a:ln>
        </p:spPr>
      </p:pic>
      <p:pic>
        <p:nvPicPr>
          <p:cNvPr id="46" name="stick" descr=""/>
          <p:cNvPicPr/>
          <p:nvPr/>
        </p:nvPicPr>
        <p:blipFill>
          <a:blip r:embed="rId6"/>
          <a:stretch/>
        </p:blipFill>
        <p:spPr>
          <a:xfrm>
            <a:off x="2514600" y="5334120"/>
            <a:ext cx="32868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914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e Rescue of Abu Simb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600200"/>
          <a:ext cx="7391520" cy="4327560"/>
        </p:xfrm>
        <a:graphic>
          <a:graphicData uri="http://schemas.openxmlformats.org/drawingml/2006/table">
            <a:tbl>
              <a:tblPr/>
              <a:tblGrid>
                <a:gridCol w="2895840"/>
                <a:gridCol w="4495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rescued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ider,decide, marked …with,carried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mone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0workers ,200 other 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to vis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ther…or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838080"/>
            <a:ext cx="7315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on holiday/va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break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enty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el like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f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lik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 the edg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/pay a visi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in d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ge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ds and expressions in Unit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95280" y="380880"/>
            <a:ext cx="4572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-mad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lo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r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wate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N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980 meters 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se b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3 meter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/rai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gest plan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c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: think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/on the water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on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marked with:ma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295280"/>
            <a:ext cx="8458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Introduction to Egy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apital city= Ca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pulation=53153000(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 growth=2.7% (1987-199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expectancy= 62 (199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=1000000sq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st=0sq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ral practice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Lesson 90-9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8808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wan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90720" y="1295280"/>
          <a:ext cx="7391160" cy="4030560"/>
        </p:xfrm>
        <a:graphic>
          <a:graphicData uri="http://schemas.openxmlformats.org/drawingml/2006/table">
            <a:tbl>
              <a:tblPr/>
              <a:tblGrid>
                <a:gridCol w="2241360"/>
                <a:gridCol w="5149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sons for building 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od,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e electr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3838 meters l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 at the base-40 at the 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lake: 500k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 by 63 ms, move 53,000 peo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les in dang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666880" y="457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wan D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88078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914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emple of Abu Sim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s carved in the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3000" y="9144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emple of Abu Sim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914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e Rescue of Abu Simb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1600200"/>
          <a:ext cx="7391520" cy="4064040"/>
        </p:xfrm>
        <a:graphic>
          <a:graphicData uri="http://schemas.openxmlformats.org/drawingml/2006/table">
            <a:tbl>
              <a:tblPr/>
              <a:tblGrid>
                <a:gridCol w="2895840"/>
                <a:gridCol w="449568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rescued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mone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to vis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02:42:59Z</dcterms:created>
  <dc:creator>qz</dc:creator>
  <dc:description/>
  <dc:language>en-US</dc:language>
  <cp:lastModifiedBy>蒋黎梅</cp:lastModifiedBy>
  <dcterms:modified xsi:type="dcterms:W3CDTF">2002-08-14T06:05:02Z</dcterms:modified>
  <cp:revision>30</cp:revision>
  <dc:subject/>
  <dc:title>Unit 23</dc:title>
</cp:coreProperties>
</file>