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gif" ContentType="image/gif"/>
  <Override PartName="/ppt/media/image1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9.jpeg" ContentType="image/jpeg"/>
  <Override PartName="/ppt/media/image10.wmf" ContentType="image/x-wm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CE18-A0CC-46B0-922F-431BF480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C78D-AF0B-4F92-B7B3-CCE62A50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7749-8E2D-4BA7-97FC-F6345E63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DC76-BF0C-4B96-910E-98E88DEC7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5390-C67F-4F7C-B951-7D289AF72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6EAC-1A81-4246-B18B-0F925918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9231-FBB4-4572-8C24-8FF2C055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BE15-C1C9-4661-942C-8BE99CA9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8117-F3D5-4CF5-B0ED-9A852C6D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7AF2-A739-4806-B5EC-37158145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D3A8-9F0D-431C-85BF-CC59E107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DA06-F2F1-4918-8247-A0C6305A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1BC6-A420-4570-9DFC-E321342D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DA2A-D65D-42F6-A4C4-453DD96F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5EE4-03D1-4EFB-8E46-82072329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000C-ACBB-49DD-9242-F12CC54F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9907-FD96-4AA0-8AE9-9188D5F55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FB45-0487-47CA-926D-C0E34391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7DE7-868D-437A-AD81-BAA7B1CF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8983-7D22-4856-BF8E-BEFFB048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FCD4-AFA6-4FFB-BB5D-6CA38860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3F2E-2A16-4003-B391-45A476B4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0F76-1156-4057-A6D1-27AC187B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D0E0-E6D6-4F60-88BB-F3DC0331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E49C-A991-4C6B-B2D5-C6FDC68449A6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543A-F31F-47AC-96A4-CBDB260FE9B7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124080" y="685800"/>
            <a:ext cx="2667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Weather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91" name="032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44197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1116360"/>
            <a:ext cx="737856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1905120"/>
            <a:ext cx="6248520" cy="24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Good-bye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7" name="118" descr=""/>
          <p:cNvPicPr/>
          <p:nvPr/>
        </p:nvPicPr>
        <p:blipFill>
          <a:blip r:embed="rId1"/>
          <a:stretch/>
        </p:blipFill>
        <p:spPr>
          <a:xfrm>
            <a:off x="5562720" y="762120"/>
            <a:ext cx="4765680" cy="6264000"/>
          </a:xfrm>
          <a:prstGeom prst="rect">
            <a:avLst/>
          </a:prstGeom>
          <a:ln w="0">
            <a:noFill/>
          </a:ln>
        </p:spPr>
      </p:pic>
      <p:pic>
        <p:nvPicPr>
          <p:cNvPr id="328" name="FD00414_" descr=""/>
          <p:cNvPicPr/>
          <p:nvPr/>
        </p:nvPicPr>
        <p:blipFill>
          <a:blip r:embed="rId2"/>
          <a:stretch/>
        </p:blipFill>
        <p:spPr>
          <a:xfrm>
            <a:off x="0" y="6000840"/>
            <a:ext cx="790560" cy="857160"/>
          </a:xfrm>
          <a:prstGeom prst="rect">
            <a:avLst/>
          </a:prstGeom>
          <a:ln w="0">
            <a:noFill/>
          </a:ln>
        </p:spPr>
      </p:pic>
      <p:pic>
        <p:nvPicPr>
          <p:cNvPr id="329" name="SO00483_" descr=""/>
          <p:cNvPicPr/>
          <p:nvPr/>
        </p:nvPicPr>
        <p:blipFill>
          <a:blip r:embed="rId3"/>
          <a:stretch/>
        </p:blipFill>
        <p:spPr>
          <a:xfrm>
            <a:off x="8153280" y="0"/>
            <a:ext cx="741600" cy="657360"/>
          </a:xfrm>
          <a:prstGeom prst="rect">
            <a:avLst/>
          </a:prstGeom>
          <a:ln w="0">
            <a:noFill/>
          </a:ln>
        </p:spPr>
      </p:pic>
      <p:pic>
        <p:nvPicPr>
          <p:cNvPr id="330" name="FD00306_" descr=""/>
          <p:cNvPicPr/>
          <p:nvPr/>
        </p:nvPicPr>
        <p:blipFill>
          <a:blip r:embed="rId4"/>
          <a:stretch/>
        </p:blipFill>
        <p:spPr>
          <a:xfrm>
            <a:off x="762120" y="4191120"/>
            <a:ext cx="40431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vision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______________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Yes . I’d like to bye two tickets for Shanghai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. ___________________________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Next Friday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Let me see. FlighCA982____________.     There are still tickets for you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____. __________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4" name="TR00116_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849600" cy="1268280"/>
          </a:xfrm>
          <a:prstGeom prst="rect">
            <a:avLst/>
          </a:prstGeom>
          <a:ln w="0">
            <a:noFill/>
          </a:ln>
        </p:spPr>
      </p:pic>
      <p:pic>
        <p:nvPicPr>
          <p:cNvPr id="295" name="BL00526_" descr=""/>
          <p:cNvPicPr/>
          <p:nvPr/>
        </p:nvPicPr>
        <p:blipFill>
          <a:blip r:embed="rId2"/>
          <a:stretch/>
        </p:blipFill>
        <p:spPr>
          <a:xfrm>
            <a:off x="6400800" y="4952880"/>
            <a:ext cx="2743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ew word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lovel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old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ot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sh                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i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by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n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可爱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冷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热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钓鱼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他（ 宾格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再见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晴朗的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 lovely da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44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It’s a lovely day, isn’t it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Yes, it is. Nice and sunny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791320" y="2214360"/>
            <a:ext cx="29764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2" name="NA01064_" descr=""/>
          <p:cNvPicPr/>
          <p:nvPr/>
        </p:nvPicPr>
        <p:blipFill>
          <a:blip r:embed="rId1"/>
          <a:stretch/>
        </p:blipFill>
        <p:spPr>
          <a:xfrm>
            <a:off x="5383080" y="1600200"/>
            <a:ext cx="3760920" cy="4040280"/>
          </a:xfrm>
          <a:prstGeom prst="rect">
            <a:avLst/>
          </a:prstGeom>
          <a:ln w="0">
            <a:noFill/>
          </a:ln>
        </p:spPr>
      </p:pic>
      <p:pic>
        <p:nvPicPr>
          <p:cNvPr id="303" name="039" descr=""/>
          <p:cNvPicPr/>
          <p:nvPr/>
        </p:nvPicPr>
        <p:blipFill>
          <a:blip r:embed="rId2"/>
          <a:stretch/>
        </p:blipFill>
        <p:spPr>
          <a:xfrm>
            <a:off x="3400560" y="2879640"/>
            <a:ext cx="23428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cold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9816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ffff"/>
                </a:solidFill>
                <a:latin typeface="Times New Roman"/>
              </a:rPr>
              <a:t>It’s cold, isn’t it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ffff"/>
                </a:solidFill>
                <a:latin typeface="Times New Roman"/>
              </a:rPr>
              <a:t>Yes , 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240160" y="23619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7" name="SO00305_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3159360" cy="3460680"/>
          </a:xfrm>
          <a:prstGeom prst="rect">
            <a:avLst/>
          </a:prstGeom>
          <a:ln w="0">
            <a:noFill/>
          </a:ln>
        </p:spPr>
      </p:pic>
      <p:pic>
        <p:nvPicPr>
          <p:cNvPr id="308" name="039" descr=""/>
          <p:cNvPicPr/>
          <p:nvPr/>
        </p:nvPicPr>
        <p:blipFill>
          <a:blip r:embed="rId2"/>
          <a:stretch/>
        </p:blipFill>
        <p:spPr>
          <a:xfrm>
            <a:off x="3400560" y="2879640"/>
            <a:ext cx="23428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ho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It’s hot, </a:t>
            </a:r>
            <a:r>
              <a:rPr b="1" i="1" lang="zh-CN" sz="4000" spc="-1" strike="noStrike">
                <a:solidFill>
                  <a:srgbClr val="ff66ff"/>
                </a:solidFill>
                <a:latin typeface="Times New Roman"/>
              </a:rPr>
              <a:t>isn’t it</a:t>
            </a: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Yes, 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PE00542_" descr=""/>
          <p:cNvPicPr/>
          <p:nvPr/>
        </p:nvPicPr>
        <p:blipFill>
          <a:blip r:embed="rId1"/>
          <a:stretch/>
        </p:blipFill>
        <p:spPr>
          <a:xfrm>
            <a:off x="5410080" y="2362320"/>
            <a:ext cx="34131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a little windy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5362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Lovely weather, isn’t it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Yes. But a little windy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5880" y="2209680"/>
            <a:ext cx="26719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6" name="l1523" descr=""/>
          <p:cNvPicPr/>
          <p:nvPr/>
        </p:nvPicPr>
        <p:blipFill>
          <a:blip r:embed="rId1"/>
          <a:stretch/>
        </p:blipFill>
        <p:spPr>
          <a:xfrm>
            <a:off x="6095880" y="2286000"/>
            <a:ext cx="251460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1.  </a:t>
            </a: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a lovely day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  2.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a nice da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4295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 It’s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</a:rPr>
              <a:t>a fine day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, isn’t it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 Yes,it i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Where’s Mr Brown 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Look, he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’s fishing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 Thank you. I’ll join 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him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. Bye 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 Bye-by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34120" y="2214360"/>
            <a:ext cx="34336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0" name="l1522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42900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8380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 _______________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 Yes,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Where’s Mr Brown 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Look,____________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 Thank you. I’ll join 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him</a:t>
            </a: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. Bye 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 Bye-bye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2" name="SO00483_" descr=""/>
          <p:cNvPicPr/>
          <p:nvPr/>
        </p:nvPicPr>
        <p:blipFill>
          <a:blip r:embed="rId1"/>
          <a:stretch/>
        </p:blipFill>
        <p:spPr>
          <a:xfrm>
            <a:off x="7696080" y="533520"/>
            <a:ext cx="1844640" cy="1066680"/>
          </a:xfrm>
          <a:prstGeom prst="rect">
            <a:avLst/>
          </a:prstGeom>
          <a:ln w="0">
            <a:noFill/>
          </a:ln>
        </p:spPr>
      </p:pic>
      <p:pic>
        <p:nvPicPr>
          <p:cNvPr id="323" name="FD00414_" descr=""/>
          <p:cNvPicPr/>
          <p:nvPr/>
        </p:nvPicPr>
        <p:blipFill>
          <a:blip r:embed="rId2"/>
          <a:stretch/>
        </p:blipFill>
        <p:spPr>
          <a:xfrm>
            <a:off x="0" y="6000840"/>
            <a:ext cx="7905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3T13:35:59Z</dcterms:created>
  <dc:creator>jxh</dc:creator>
  <dc:description/>
  <dc:language>en-US</dc:language>
  <cp:lastModifiedBy>jxh</cp:lastModifiedBy>
  <dcterms:modified xsi:type="dcterms:W3CDTF">2001-12-23T15:17:58Z</dcterms:modified>
  <cp:revision>3</cp:revision>
  <dc:subject/>
  <dc:title>PowerPoint 演示文稿</dc:title>
</cp:coreProperties>
</file>