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9B9C-4004-4DA8-8799-CCAE1947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9B84-1BBE-4B88-9242-1917B7AB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898-270A-4697-A8D0-BBD10A05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E53-8804-4103-B1CD-E67EB765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F74C-E35F-4148-874C-3E4AAB46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C6E-71E7-4ACD-AE05-7C8EB2DB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8DA0-00FB-4357-9EED-BFCA2688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6532-9885-4196-B4DC-85B18CCB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88C-1D02-413A-B48A-23F38F0A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5F1-0E36-4835-B191-E82B6BE4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5E89-651F-4139-9847-D218670A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D45-8D90-4846-A369-A8360E51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85A6-281D-4B2B-B572-9A4CE13808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crosoft.com/china/billgates/" TargetMode="External"/><Relationship Id="rId2" Type="http://schemas.openxmlformats.org/officeDocument/2006/relationships/hyperlink" Target="http://it.sohu.com/itpeople/Bill_Gates.html" TargetMode="External"/><Relationship Id="rId3" Type="http://schemas.openxmlformats.org/officeDocument/2006/relationships/hyperlink" Target="http://it.sohu.com/itpeople/Bill_Gates.html" TargetMode="External"/><Relationship Id="rId4" Type="http://schemas.openxmlformats.org/officeDocument/2006/relationships/hyperlink" Target="http://it.sohu.com/itpeople/Bill_Gates.html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microsoft.com/billgates/speedofthought/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43200" y="510516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英语教研组  孙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1447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合肥市第十一中学多媒体公开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8954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990099"/>
                </a:solidFill>
                <a:latin typeface="Times New Roman"/>
                <a:ea typeface="华文琥珀"/>
              </a:rPr>
              <a:t>欢迎各位评委光临指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2438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 Narrow"/>
                <a:ea typeface="华文细黑"/>
              </a:rPr>
              <a:t>Wb Leeson90.Ex3 in the exercise b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90800" y="4143240"/>
            <a:ext cx="40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ff"/>
                </a:solidFill>
                <a:latin typeface="Berlin Sans FB"/>
              </a:rPr>
              <a:t>Good Bye!</a:t>
            </a:r>
            <a:r>
              <a:rPr b="0" lang="en-US" sz="5400" spc="-1" strike="noStrike">
                <a:solidFill>
                  <a:srgbClr val="3333ff"/>
                </a:solidFill>
                <a:latin typeface="Wingdings"/>
                <a:ea typeface="Wingdings"/>
              </a:rPr>
              <a:t>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JEFC  SB  2B 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UNIT 23   A famous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4800" spc="-1" strike="noStrike">
                <a:solidFill>
                  <a:srgbClr val="990099"/>
                </a:solidFill>
                <a:latin typeface="Arial"/>
                <a:ea typeface="MS Mincho"/>
              </a:rPr>
              <a:t>BILL  G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illbio" descr=""/>
          <p:cNvPicPr/>
          <p:nvPr/>
        </p:nvPicPr>
        <p:blipFill>
          <a:blip r:embed="rId1"/>
          <a:stretch/>
        </p:blipFill>
        <p:spPr>
          <a:xfrm>
            <a:off x="3733920" y="2133720"/>
            <a:ext cx="1752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vision:    Ask  and 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’s the name of the book Jim and his father are talking abo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Business @ The Speed of Thou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does Mr Green think of the boo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It’s an interesting boo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is the book abo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It tells us how computer technology can solve business problems in new w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Is the book pop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Yes , it’s very pop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Are you interested in Bill G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Yes (N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y or why n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Because 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1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3048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Pre-read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do you know about Bill G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American  Seattle   clever   computer manager much money  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can you learn from Bill G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Love his work and work h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Do you want to be person like Bill Gates? Why or why n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Yes(No). Because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illg-1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7848720" cy="2133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71800" y="4191120"/>
            <a:ext cx="61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华文细黑"/>
              </a:rPr>
              <a:t>Seattle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  Washington  future  in the future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large  spend  unusual  in the end    work out software  program  Harvard  unversity  devel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BASIC  microcomputer  Microsoft to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Personal    improve   golf  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细黑"/>
                <a:ea typeface="华文细黑"/>
              </a:rPr>
              <a:t>Background:</a:t>
            </a:r>
            <a:r>
              <a:rPr b="0" lang="zh-CN" sz="2000" spc="-1" strike="noStrike">
                <a:solidFill>
                  <a:srgbClr val="808000"/>
                </a:solidFill>
                <a:latin typeface="Times New Roman"/>
              </a:rPr>
              <a:t>   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微软中文主页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搜狐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BILL GATES 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主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955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86000"/>
            <a:ext cx="4038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be 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grow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favourit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In th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ea" descr=""/>
          <p:cNvPicPr/>
          <p:nvPr/>
        </p:nvPicPr>
        <p:blipFill>
          <a:blip r:embed="rId5"/>
          <a:stretch/>
        </p:blipFill>
        <p:spPr>
          <a:xfrm>
            <a:off x="4952880" y="2209680"/>
            <a:ext cx="2286000" cy="164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562720" y="3809880"/>
            <a:ext cx="10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ea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illbio3" descr=""/>
          <p:cNvPicPr/>
          <p:nvPr/>
        </p:nvPicPr>
        <p:blipFill>
          <a:blip r:embed="rId6"/>
          <a:stretch/>
        </p:blipFill>
        <p:spPr>
          <a:xfrm>
            <a:off x="4952880" y="4191120"/>
            <a:ext cx="2362320" cy="175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562720" y="5867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cient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5029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13 years old    play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Be interested in   old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Work out    softwar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Only 17      4,200 doll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OMPUTER" descr=""/>
          <p:cNvPicPr/>
          <p:nvPr/>
        </p:nvPicPr>
        <p:blipFill>
          <a:blip r:embed="rId1"/>
          <a:stretch/>
        </p:blipFill>
        <p:spPr>
          <a:xfrm>
            <a:off x="5791320" y="10666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SOFT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2362320" cy="1752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6600" y="289548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ld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1880" y="5181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4582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Harve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BASIC lau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In  1975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images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1676520" cy="2438280"/>
          </a:xfrm>
          <a:prstGeom prst="rect">
            <a:avLst/>
          </a:prstGeom>
          <a:ln w="0">
            <a:noFill/>
          </a:ln>
        </p:spPr>
      </p:pic>
      <p:pic>
        <p:nvPicPr>
          <p:cNvPr id="74" name="basicfuture002" descr=""/>
          <p:cNvPicPr/>
          <p:nvPr/>
        </p:nvPicPr>
        <p:blipFill>
          <a:blip r:embed="rId2"/>
          <a:stretch/>
        </p:blipFill>
        <p:spPr>
          <a:xfrm>
            <a:off x="6934320" y="914400"/>
            <a:ext cx="167616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05-21billceosummit" descr=""/>
          <p:cNvPicPr/>
          <p:nvPr/>
        </p:nvPicPr>
        <p:blipFill>
          <a:blip r:embed="rId3"/>
          <a:stretch/>
        </p:blipFill>
        <p:spPr>
          <a:xfrm>
            <a:off x="6934320" y="3733920"/>
            <a:ext cx="1676160" cy="2361960"/>
          </a:xfrm>
          <a:prstGeom prst="rect">
            <a:avLst/>
          </a:prstGeom>
          <a:ln w="0">
            <a:noFill/>
          </a:ln>
        </p:spPr>
      </p:pic>
      <p:pic>
        <p:nvPicPr>
          <p:cNvPr id="76" name="billbio2a" descr=""/>
          <p:cNvPicPr/>
          <p:nvPr/>
        </p:nvPicPr>
        <p:blipFill>
          <a:blip r:embed="rId4"/>
          <a:stretch/>
        </p:blipFill>
        <p:spPr>
          <a:xfrm>
            <a:off x="4800600" y="3809880"/>
            <a:ext cx="1676520" cy="2438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029200" y="3276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94040" y="33526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B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61722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is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1480" y="62485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In 1999  wrote a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Business @ the Speed of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1994  marr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enjo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reading golf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Gates" descr=""/>
          <p:cNvPicPr/>
          <p:nvPr/>
        </p:nvPicPr>
        <p:blipFill>
          <a:blip r:embed="rId1"/>
          <a:stretch/>
        </p:blipFill>
        <p:spPr>
          <a:xfrm>
            <a:off x="7010280" y="3124080"/>
            <a:ext cx="1676520" cy="2590920"/>
          </a:xfrm>
          <a:prstGeom prst="rect">
            <a:avLst/>
          </a:prstGeom>
          <a:ln w="0">
            <a:noFill/>
          </a:ln>
        </p:spPr>
      </p:pic>
      <p:pic>
        <p:nvPicPr>
          <p:cNvPr id="87" name="_1046397832_03022801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1752480" cy="2590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1920" y="220968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未来时速主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Name: Bill 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Date of birth: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Favourate  subject at school: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Hobbies: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What Gates did at  17: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73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75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94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99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Additional information: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1600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Octorber 28,19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20574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science m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4280" y="26668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Play with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5520" y="312408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orked out a softwar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365760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He went to Harve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69640" y="4114800"/>
            <a:ext cx="51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e began a company called Microso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68560" y="4648320"/>
            <a:ext cx="40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Bill merried Melinda French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5040" y="5105520"/>
            <a:ext cx="45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Business @ the Speed of Thou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5715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ow children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13:22:52Z</dcterms:created>
  <dc:creator>孙强</dc:creator>
  <dc:description/>
  <dc:language>en-US</dc:language>
  <cp:lastModifiedBy>孙强</cp:lastModifiedBy>
  <dcterms:modified xsi:type="dcterms:W3CDTF">2003-06-04T13:31:22Z</dcterms:modified>
  <cp:revision>64</cp:revision>
  <dc:subject/>
  <dc:title>合肥市第十一中学多媒体公开课</dc:title>
</cp:coreProperties>
</file>