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click.wav" ContentType="audio/x-wav"/>
  <Override PartName="/ppt/media/hammer.wav" ContentType="audio/x-wav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B19B-E0F9-4DAB-BE76-1172AE092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BACB-8E95-4B29-9A64-0E923D3D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A5A2-A037-4F3F-A579-91CB4F90B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0770-2DF6-4000-AAD5-CAB84EDD3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30C8-6D2E-441A-9932-6E2AE5E87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6D6B-7637-4579-8E08-822272E7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027D-ADA6-440C-98E8-EF0EF8FF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6E51-B2D5-4793-8DE8-9653EA9C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E703-1B2E-42E5-BC20-AE643CD1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2BC7-BC7B-427B-AF42-950AFC07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2E13-3431-4380-8BEA-68A63BA0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14D7-DF96-491A-96BE-19C95AEF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B365-7792-427F-8C88-CA12C49B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E943-5604-4C5D-A939-1514CDF5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DB1A-333A-4EAE-8BC5-E08564B1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8DEE-ED08-413C-AEE0-32B627FDC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E7F6-67A9-4DC4-9E2A-C160CD310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E6ED-00F5-4D25-AF54-346371C9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D5AC-54C6-4D52-AB30-44FE17F8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B97D-619D-491C-9E68-6FC38102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7A1B-8227-44CC-BC49-3E85952C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9A86-E55F-42AB-9ABC-BF5E9162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6C74-3219-45C4-9939-64B55D85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DA49-13A0-468B-91E1-EA578885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539640" y="1125360"/>
            <a:ext cx="8305920" cy="182520"/>
            <a:chOff x="539640" y="1125360"/>
            <a:chExt cx="8305920" cy="182520"/>
          </a:xfrm>
        </p:grpSpPr>
        <p:sp>
          <p:nvSpPr>
            <p:cNvPr id="2" name=""/>
            <p:cNvSpPr/>
            <p:nvPr/>
          </p:nvSpPr>
          <p:spPr>
            <a:xfrm>
              <a:off x="7016760" y="1125360"/>
              <a:ext cx="1828800" cy="1825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9640" y="1201680"/>
              <a:ext cx="8305920" cy="0"/>
            </a:xfrm>
            <a:prstGeom prst="line">
              <a:avLst/>
            </a:prstGeom>
            <a:ln w="1908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F35C-5084-4143-A742-E5497227CF53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9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3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4C28-D153-4A8D-90E4-4817590AD7BA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09080" y="649116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reated by </a:t>
            </a:r>
            <a:r>
              <a:rPr b="1" i="1" lang="zh-CN" sz="1800" spc="-1" strike="noStrike">
                <a:solidFill>
                  <a:srgbClr val="0000ff"/>
                </a:solidFill>
                <a:latin typeface="Arial"/>
              </a:rPr>
              <a:t>Dreamskier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E-mail: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</a:rPr>
              <a:t>dreamskier@sin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jpeg"/><Relationship Id="rId3" Type="http://schemas.openxmlformats.org/officeDocument/2006/relationships/slide" Target="slide5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audio" Target="../media/hammer.wav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jpeg"/><Relationship Id="rId3" Type="http://schemas.openxmlformats.org/officeDocument/2006/relationships/slide" Target="slide5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200362315734150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14400" y="533520"/>
            <a:ext cx="7467480" cy="19810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Unit  5   Advertis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895480"/>
            <a:ext cx="4572000" cy="100836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003399"/>
                </a:solidFill>
                <a:latin typeface="Times New Roman"/>
              </a:rPr>
              <a:t>Lesson   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-152280"/>
            <a:ext cx="9144000" cy="83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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11.  The following could be an advertisement except________.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　　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mail                               B. n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  a sign outside a shop    D. products free of charge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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12.  In this text,  the writer does not tell us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 advertisements can be used in touris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.  balloons can be used to advert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  advertising may make a product cheap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.  advertisement in Europe is more comm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an that in 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495680" y="2209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8080" y="5562720"/>
            <a:ext cx="571680" cy="5331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33520" y="609480"/>
            <a:ext cx="8458200" cy="62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13.Why can good advertisements reduce the price of produ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Repeated advertising increases product sales and therefore increases product sales and therefore increases production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.The more products are made, the less the cost i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Advertising costs little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.Both A and 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44197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7010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Step 3.language po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685800"/>
            <a:ext cx="89154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0033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The development of radio,television</a:t>
            </a:r>
            <a:r>
              <a:rPr b="1" lang="zh-CN" sz="2800" spc="-1" strike="noStrike">
                <a:solidFill>
                  <a:srgbClr val="330033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cinema</a:t>
            </a:r>
            <a:r>
              <a:rPr b="1" lang="zh-CN" sz="2800" spc="-1" strike="noStrike">
                <a:solidFill>
                  <a:srgbClr val="330033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magazines and newspapers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has gone hand in hand with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development of advertising</a:t>
            </a:r>
            <a:r>
              <a:rPr b="1" lang="zh-CN" sz="2800" spc="-1" strike="noStrike">
                <a:solidFill>
                  <a:srgbClr val="330033"/>
                </a:solidFill>
                <a:latin typeface="宋体"/>
              </a:rPr>
              <a:t>．无线电、电视、电影、杂志和报纸的发展同广告业的发展是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齐头并进</a:t>
            </a:r>
            <a:r>
              <a:rPr b="1" lang="zh-CN" sz="2800" spc="-1" strike="noStrike">
                <a:solidFill>
                  <a:srgbClr val="330033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990033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2666880"/>
            <a:ext cx="8839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go hand in hand with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表示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与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密切相关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，相当于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go together with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，其中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go with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表示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相配，随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而来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之意。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hand in hand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为副词短语，表示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手牵着手，密切联系，和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一道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之意，后面常加介词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with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，再加名词。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．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320" y="524016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Money doesn’t always go hand in hand with happiness</a:t>
            </a:r>
            <a:r>
              <a:rPr b="1" lang="zh-CN" sz="2800" spc="-1" strike="noStrike">
                <a:solidFill>
                  <a:srgbClr val="330033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6064200"/>
            <a:ext cx="76197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金钱并不总是同幸福密切相关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920" y="609480"/>
            <a:ext cx="8458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norance and poverty often go hand in hand</a:t>
            </a:r>
            <a:r>
              <a:rPr b="1" lang="zh-CN" sz="3200" spc="-1" strike="noStrike">
                <a:solidFill>
                  <a:srgbClr val="990033"/>
                </a:solidFill>
                <a:latin typeface="宋体"/>
              </a:rPr>
              <a:t>．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447920"/>
            <a:ext cx="74674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愚昧和贫穷总是紧密地联结在一起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23623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have no tapes to go with the book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327672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我没有这本书配套的磁带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4267080"/>
            <a:ext cx="7696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nd in hand with reading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has developing the habit of making note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55627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在阅读的同时，他养成了做笔记的习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06440" y="317520"/>
            <a:ext cx="91123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hand in han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han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t han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y hand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1143000"/>
            <a:ext cx="93855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hand in hand ---</a:t>
            </a:r>
            <a:r>
              <a:rPr b="0" lang="zh-CN" sz="3200" spc="-1" strike="noStrike">
                <a:solidFill>
                  <a:srgbClr val="ff3300"/>
                </a:solidFill>
                <a:latin typeface="宋体"/>
              </a:rPr>
              <a:t>手牵手，携手，共同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1981080"/>
            <a:ext cx="92948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in hand---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在手里／手边，进行中，掌握中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2625840"/>
            <a:ext cx="92948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t hand ---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在手边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常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lose , near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连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8280" y="3276720"/>
            <a:ext cx="9385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by hand ---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用手工做，由专人递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3857760"/>
            <a:ext cx="929664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 always keep a dictionary _____________  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r sweater is knitted ______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y walked ______________ in the garden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police had the riot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暴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_____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15000" y="3809880"/>
            <a:ext cx="22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/at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81480" y="4343400"/>
            <a:ext cx="255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y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510552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and in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5715000"/>
            <a:ext cx="209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1219320"/>
            <a:ext cx="82296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ould say=used to say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过去的习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ften he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woul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take a seat at the back before the lecture beg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used t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be a hospital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过去持续的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will not have the money to spend on books as he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used to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以前经常（现在不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Word formation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joke+ing+ly=joking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66ff"/>
                </a:solidFill>
                <a:latin typeface="Arial"/>
              </a:rPr>
              <a:t>smilingly; surprisingly; understandingly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b2b2b2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he explained the whole story and her boss nodded </a:t>
            </a:r>
            <a:r>
              <a:rPr b="1" i="1" lang="zh-CN" sz="2800" spc="-1" strike="noStrike">
                <a:solidFill>
                  <a:srgbClr val="0066ff"/>
                </a:solidFill>
                <a:latin typeface="Arial"/>
              </a:rPr>
              <a:t>understandingl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解释了事情的全部经过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的上司理解地点着头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b2b2b2"/>
              </a:buClr>
              <a:buSzPct val="90000"/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e musician smiled </a:t>
            </a:r>
            <a:r>
              <a:rPr b="1" i="1" lang="zh-CN" sz="2800" spc="-1" strike="noStrike">
                <a:solidFill>
                  <a:srgbClr val="0066ff"/>
                </a:solidFill>
                <a:latin typeface="Arial"/>
              </a:rPr>
              <a:t>approvingl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while the little girl was playing the pi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女孩弹奏钢琴时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位音乐家赞许地微笑着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Word formation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128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spcAft>
                <a:spcPts val="524"/>
              </a:spcAft>
              <a:buClr>
                <a:srgbClr val="b2b2b2"/>
              </a:buClr>
              <a:buSzPct val="90000"/>
              <a:buFont typeface="Arial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66ff"/>
                </a:solidFill>
                <a:latin typeface="Arial"/>
              </a:rPr>
              <a:t>Surprisingl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 the weather report on the evening before the storm said there would be strong winds, but not a hurric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524"/>
              </a:spcAft>
              <a:buClr>
                <a:srgbClr val="b2b2b2"/>
              </a:buClr>
              <a:buSzPct val="90000"/>
              <a:buFont typeface="Arial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e replied </a:t>
            </a:r>
            <a:r>
              <a:rPr b="0" i="1" lang="zh-CN" sz="2800" spc="-1" strike="noStrike">
                <a:solidFill>
                  <a:srgbClr val="0066ff"/>
                </a:solidFill>
                <a:latin typeface="Arial"/>
              </a:rPr>
              <a:t>laughingl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 “Aren’t you making the same mistakes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大笑着回答说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不是也犯同样的错误吗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62120" y="2286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 think u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ink ou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990720"/>
            <a:ext cx="7696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ink up --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设想、构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cre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828800"/>
            <a:ext cx="7696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ink out --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仔细思考并研究出（计划等），或者想透问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work ou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3497400"/>
            <a:ext cx="7696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304812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ought u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wo ways to solve the problem of dealing with the waste in front of our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472428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spent a whole week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inking ou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contract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5486400"/>
            <a:ext cx="91440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isoner tried to think up a plan for esc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hink up, think out, think ov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521000"/>
            <a:ext cx="84582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000000"/>
                </a:solidFill>
                <a:latin typeface="Arial"/>
              </a:rPr>
              <a:t>think u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指想出来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虚构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3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: consider carefully and make a plan for(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仔细思考并制定计划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3000" spc="-1" strike="noStrike">
                <a:solidFill>
                  <a:srgbClr val="000000"/>
                </a:solidFill>
                <a:latin typeface="Arial"/>
              </a:rPr>
              <a:t>over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也有仔细思考之意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但只着重思考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不涉及结果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hink up, think out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着重于结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spcAft>
                <a:spcPts val="561"/>
              </a:spcAft>
              <a:buClr>
                <a:srgbClr val="b2b2b2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We have </a:t>
            </a:r>
            <a:r>
              <a:rPr b="0" lang="zh-CN" sz="3000" spc="-1" strike="noStrike">
                <a:solidFill>
                  <a:srgbClr val="ff3300"/>
                </a:solidFill>
                <a:latin typeface="Arial"/>
              </a:rPr>
              <a:t>thought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carefully </a:t>
            </a:r>
            <a:r>
              <a:rPr b="0" lang="zh-CN" sz="3000" spc="-1" strike="noStrike">
                <a:solidFill>
                  <a:srgbClr val="ff3300"/>
                </a:solidFill>
                <a:latin typeface="Arial"/>
              </a:rPr>
              <a:t>over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your proposal of yesterda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spcAft>
                <a:spcPts val="561"/>
              </a:spcAft>
              <a:buClr>
                <a:srgbClr val="b2b2b2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Who can </a:t>
            </a:r>
            <a:r>
              <a:rPr b="0" lang="zh-CN" sz="3000" spc="-1" strike="noStrike">
                <a:solidFill>
                  <a:srgbClr val="ff3300"/>
                </a:solidFill>
                <a:latin typeface="Arial"/>
              </a:rPr>
              <a:t>think out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the solution to the probl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spcAft>
                <a:spcPts val="561"/>
              </a:spcAft>
              <a:buClr>
                <a:srgbClr val="b2b2b2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Delighted, the girls </a:t>
            </a:r>
            <a:r>
              <a:rPr b="0" lang="zh-CN" sz="3000" spc="-1" strike="noStrike">
                <a:solidFill>
                  <a:srgbClr val="ff3300"/>
                </a:solidFill>
                <a:latin typeface="Arial"/>
              </a:rPr>
              <a:t>thought u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many good ide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6408720" cy="4265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209680" y="380880"/>
            <a:ext cx="57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n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dvertis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516640"/>
            <a:ext cx="2808360" cy="863640"/>
          </a:xfrm>
          <a:prstGeom prst="wedgeEllipseCallout">
            <a:avLst>
              <a:gd name="adj1" fmla="val 9523"/>
              <a:gd name="adj2" fmla="val -7389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3141720"/>
            <a:ext cx="2808360" cy="863640"/>
          </a:xfrm>
          <a:prstGeom prst="wedgeEllipseCallout">
            <a:avLst>
              <a:gd name="adj1" fmla="val 38805"/>
              <a:gd name="adj2" fmla="val -7977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49360"/>
            <a:ext cx="3203640" cy="863640"/>
          </a:xfrm>
          <a:prstGeom prst="wedgeEllipseCallout">
            <a:avLst>
              <a:gd name="adj1" fmla="val 37560"/>
              <a:gd name="adj2" fmla="val 16084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19640" y="4768920"/>
            <a:ext cx="5724360" cy="1324080"/>
          </a:xfrm>
          <a:prstGeom prst="wedgeEllipseCallout">
            <a:avLst>
              <a:gd name="adj1" fmla="val -19328"/>
              <a:gd name="adj2" fmla="val -17889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graph of the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50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152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5. try out     try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0666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try out---v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试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考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提炼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.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指试验 试用某种机器、理论、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2860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try on---v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试穿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试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297180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idea sounds fine ,but we need to try it out in 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42670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new medicine is being tried out on an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502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you like the shoes, why not try them 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586728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trying out new teaching meth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2280" y="685800"/>
            <a:ext cx="9144000" cy="29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sn't it time you made someone's life a bit easie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t’s (high) time sb did sth /should do sth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虚拟语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是某人作某事的时候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s it time you got things ready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581280"/>
            <a:ext cx="914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t's time you gave it up.=It's time you should give it up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你放弃的时候到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5592600"/>
            <a:ext cx="9144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t's time you told him the truth.=It's time you should told him the truth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到告诉他事实的时候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4400" y="4830480"/>
            <a:ext cx="77724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icture may be seen in an ad in the form of TV, cinema, magazine, newspapers, large boards (billboards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74920" y="549360"/>
            <a:ext cx="6553080" cy="4011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5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Step 1 Note making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80000"/>
              </a:lnSpc>
              <a:spcAft>
                <a:spcPts val="1687"/>
              </a:spcAft>
              <a:buClr>
                <a:srgbClr val="0066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How can you advertis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y using radio, TV, cinema, magazine, newspapers, large boards, signs, balloons, messages pulled behind planes and so 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Aft>
                <a:spcPts val="1687"/>
              </a:spcAft>
              <a:buClr>
                <a:srgbClr val="0066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What can you advertis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roducts, services, political leaders in the western countries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Aft>
                <a:spcPts val="1687"/>
              </a:spcAft>
              <a:buClr>
                <a:srgbClr val="0066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Results of advertis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Aft>
                <a:spcPts val="1687"/>
              </a:spcAft>
              <a:buClr>
                <a:srgbClr val="990033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t increases product sal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Aft>
                <a:spcPts val="1687"/>
              </a:spcAft>
              <a:buClr>
                <a:srgbClr val="990033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t reduces pric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223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People’s job in an advertising firm: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0033"/>
                </a:solidFill>
                <a:latin typeface="Arial"/>
              </a:rPr>
              <a:t>How are ads mad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 company goes to an advertising fi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(People’s jobs) in an advertising fi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Clr>
                <a:srgbClr val="b2b2b2"/>
              </a:buClr>
              <a:buSzPct val="9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One person </a:t>
            </a:r>
            <a:r>
              <a:rPr b="0" i="1" lang="zh-CN" sz="3000" spc="-1" strike="noStrike" u="sng">
                <a:solidFill>
                  <a:srgbClr val="ff0000"/>
                </a:solidFill>
                <a:uFillTx/>
                <a:latin typeface="Arial"/>
              </a:rPr>
              <a:t>is in charge of the program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Clr>
                <a:srgbClr val="b2b2b2"/>
              </a:buClr>
              <a:buSzPct val="9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One person </a:t>
            </a:r>
            <a:r>
              <a:rPr b="0" i="1" lang="zh-CN" sz="3000" spc="-1" strike="noStrike" u="sng">
                <a:solidFill>
                  <a:srgbClr val="ff0000"/>
                </a:solidFill>
                <a:uFillTx/>
                <a:latin typeface="Arial"/>
              </a:rPr>
              <a:t>thinks up an ide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Clr>
                <a:srgbClr val="b2b2b2"/>
              </a:buClr>
              <a:buSzPct val="9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One person </a:t>
            </a:r>
            <a:r>
              <a:rPr b="0" i="1" lang="zh-CN" sz="3000" spc="-1" strike="noStrike" u="sng">
                <a:solidFill>
                  <a:srgbClr val="ff0000"/>
                </a:solidFill>
                <a:uFillTx/>
                <a:latin typeface="Arial"/>
              </a:rPr>
              <a:t>buys space or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Clr>
                <a:srgbClr val="b2b2b2"/>
              </a:buClr>
              <a:buSzPct val="9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One person </a:t>
            </a:r>
            <a:r>
              <a:rPr b="0" i="1" lang="zh-CN" sz="3000" spc="-1" strike="noStrike" u="sng">
                <a:solidFill>
                  <a:srgbClr val="ff0000"/>
                </a:solidFill>
                <a:uFillTx/>
                <a:latin typeface="Arial"/>
              </a:rPr>
              <a:t>writes the tex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Clr>
                <a:srgbClr val="b2b2b2"/>
              </a:buClr>
              <a:buSzPct val="9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One person </a:t>
            </a:r>
            <a:r>
              <a:rPr b="0" i="1" lang="zh-CN" sz="3000" spc="-1" strike="noStrike" u="sng">
                <a:solidFill>
                  <a:srgbClr val="ff0000"/>
                </a:solidFill>
                <a:uFillTx/>
                <a:latin typeface="Arial"/>
              </a:rPr>
              <a:t>designs the advertise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7480" y="152280"/>
            <a:ext cx="9056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Step 2. Reading comprehen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62120"/>
            <a:ext cx="914400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author thinks that advertisements ________.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 are welcome by everybody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. will increase the cost of products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. have bad influence on people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. can win more customers for a company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In Paragraph 1, which word does the writer use to express his idea that advertising is common?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 Developed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. Popular.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. Proved.              D. Increase. 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According to the text, advertisements may be used in ________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 everythin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　　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 election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. scientific research         D. education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68580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57640" y="3505320"/>
            <a:ext cx="439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43800" y="3581280"/>
            <a:ext cx="61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5486400"/>
            <a:ext cx="4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372600" cy="74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 How many means of advertising are mentioned in the text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7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9       C   1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1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 Which paragraph talks about the purpose of advertising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Paragraph 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Paragraph 2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Paragraph 3.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Paragraphs 4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 When an advertising company makes advertisements, which happens first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A. Having a meeting.  B. Collecting information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C. Writing a tex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Designing the advertis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97360" y="990720"/>
            <a:ext cx="75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2666880"/>
            <a:ext cx="75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68720" y="4876920"/>
            <a:ext cx="6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920" y="380880"/>
            <a:ext cx="8839080" cy="76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 What does “interview” mean in the last paragraph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A. See.   B. Select.    C. Visit.    D. Ask ques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 What can we infer from Paragraph 2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Only a few things can be advertised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It is difficult to use printed things for advertisements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Political advertisements can only be seen in USA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Advertisements are everywhere for so many thing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638680" y="1295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5800" y="5562720"/>
            <a:ext cx="533520" cy="609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14400" y="1066680"/>
            <a:ext cx="769608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 How many steps are there in making an advertisement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 5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 6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 7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. When the advertisement is ready, it is shown only to a part of the country as a (an)______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review                      B. t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 performanc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 int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20574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72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5:55:07Z</dcterms:created>
  <dc:creator>幻想的天空</dc:creator>
  <dc:description/>
  <dc:language>en-US</dc:language>
  <cp:lastModifiedBy>w</cp:lastModifiedBy>
  <dcterms:modified xsi:type="dcterms:W3CDTF">2004-08-23T15:43:35Z</dcterms:modified>
  <cp:revision>144</cp:revision>
  <dc:subject/>
  <dc:title>幻灯片 1</dc:title>
</cp:coreProperties>
</file>