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乌鸦和狐狸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99D-069E-4217-AD57-A5805A2E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861-DA4C-40C5-93C5-5D570035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47F-D428-446A-9F95-05401899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E61-ECB7-4E0B-AB6C-E8D193A3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559-F9FB-478D-B941-914A47C3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45E-6C1F-4332-AAD1-8832589D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070-4B7A-47A6-84E5-A08B88B5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337-DEB2-4AC3-BF23-039B0E08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5A2-A636-4806-82BA-03E9EA68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76B-E32B-4B7D-999A-543CE65A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F45-5247-4B06-90DF-1B023855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B18-C6FC-4829-8105-7A98F414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9B96-4561-4FD6-9D09-EA53B8F736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2133720"/>
            <a:ext cx="441972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狐狸和乌鸦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6279120" y="6248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义教材小学语文第三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0292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狐狸与乌鸦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食物" descr=""/>
          <p:cNvPicPr/>
          <p:nvPr/>
        </p:nvPicPr>
        <p:blipFill>
          <a:blip r:embed="rId2"/>
          <a:stretch/>
        </p:blipFill>
        <p:spPr>
          <a:xfrm>
            <a:off x="4816440" y="3809880"/>
            <a:ext cx="82224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狐狸与乌鸦" descr=""/>
          <p:cNvPicPr/>
          <p:nvPr/>
        </p:nvPicPr>
        <p:blipFill>
          <a:blip r:embed="rId3"/>
          <a:srcRect l="0" t="0" r="0" b="77779"/>
          <a:stretch/>
        </p:blipFill>
        <p:spPr>
          <a:xfrm>
            <a:off x="2286000" y="0"/>
            <a:ext cx="44686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食物" descr=""/>
          <p:cNvPicPr/>
          <p:nvPr/>
        </p:nvPicPr>
        <p:blipFill>
          <a:blip r:embed="rId4"/>
          <a:stretch/>
        </p:blipFill>
        <p:spPr>
          <a:xfrm>
            <a:off x="4800600" y="1066680"/>
            <a:ext cx="822240" cy="5335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0" y="0"/>
            <a:ext cx="22860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0" y="13143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0" y="25527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0" y="37908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6095880" y="6248520"/>
            <a:ext cx="609840" cy="609480"/>
          </a:xfrm>
          <a:custGeom>
            <a:avLst/>
            <a:gdLst>
              <a:gd name="textAreaLeft" fmla="*/ 95040 w 609840"/>
              <a:gd name="textAreaRight" fmla="*/ 533880 w 609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50292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6858000" y="0"/>
            <a:ext cx="22860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6858000" y="13143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6858000" y="25527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37908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24685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想了想，就笑着对乌鸦说：“您好，亲爱的乌鸦！”乌鸦不做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1600" y="4343400"/>
            <a:ext cx="1066320" cy="93240"/>
            <a:chOff x="1371600" y="4343400"/>
            <a:chExt cx="1066320" cy="93240"/>
          </a:xfrm>
        </p:grpSpPr>
        <p:sp>
          <p:nvSpPr>
            <p:cNvPr id="60" name=""/>
            <p:cNvSpPr/>
            <p:nvPr/>
          </p:nvSpPr>
          <p:spPr>
            <a:xfrm>
              <a:off x="1371600" y="4362120"/>
              <a:ext cx="53316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04760" y="4343400"/>
              <a:ext cx="53316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657600" y="3716280"/>
            <a:ext cx="1196640" cy="93240"/>
            <a:chOff x="3657600" y="3716280"/>
            <a:chExt cx="1196640" cy="93240"/>
          </a:xfrm>
        </p:grpSpPr>
        <p:sp>
          <p:nvSpPr>
            <p:cNvPr id="63" name=""/>
            <p:cNvSpPr/>
            <p:nvPr/>
          </p:nvSpPr>
          <p:spPr>
            <a:xfrm>
              <a:off x="3657600" y="373500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55920" y="371628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768920" y="3716280"/>
            <a:ext cx="1196640" cy="93240"/>
            <a:chOff x="4768920" y="3716280"/>
            <a:chExt cx="1196640" cy="93240"/>
          </a:xfrm>
        </p:grpSpPr>
        <p:sp>
          <p:nvSpPr>
            <p:cNvPr id="66" name=""/>
            <p:cNvSpPr/>
            <p:nvPr/>
          </p:nvSpPr>
          <p:spPr>
            <a:xfrm>
              <a:off x="4768920" y="373500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67240" y="371628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867280" y="3716280"/>
            <a:ext cx="1371600" cy="93240"/>
            <a:chOff x="5867280" y="3716280"/>
            <a:chExt cx="1371600" cy="93240"/>
          </a:xfrm>
        </p:grpSpPr>
        <p:sp>
          <p:nvSpPr>
            <p:cNvPr id="69" name=""/>
            <p:cNvSpPr/>
            <p:nvPr/>
          </p:nvSpPr>
          <p:spPr>
            <a:xfrm>
              <a:off x="5867280" y="37350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37162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895480" y="441972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6680" y="2468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又说：“亲爱的乌鸦，您的孩子好吗？”乌鸦看了狐狸一眼，还是不做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257800" y="3048120"/>
            <a:ext cx="1752480" cy="93240"/>
            <a:chOff x="5257800" y="3048120"/>
            <a:chExt cx="1752480" cy="93240"/>
          </a:xfrm>
        </p:grpSpPr>
        <p:sp>
          <p:nvSpPr>
            <p:cNvPr id="76" name=""/>
            <p:cNvSpPr/>
            <p:nvPr/>
          </p:nvSpPr>
          <p:spPr>
            <a:xfrm>
              <a:off x="5257800" y="306684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34040" y="304812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295280" y="3733920"/>
            <a:ext cx="3885840" cy="75600"/>
            <a:chOff x="1295280" y="3733920"/>
            <a:chExt cx="3885840" cy="75600"/>
          </a:xfrm>
        </p:grpSpPr>
        <p:grpSp>
          <p:nvGrpSpPr>
            <p:cNvPr id="79" name=""/>
            <p:cNvGrpSpPr/>
            <p:nvPr/>
          </p:nvGrpSpPr>
          <p:grpSpPr>
            <a:xfrm>
              <a:off x="1295280" y="3733920"/>
              <a:ext cx="1298880" cy="75600"/>
              <a:chOff x="1295280" y="3733920"/>
              <a:chExt cx="1298880" cy="75600"/>
            </a:xfrm>
          </p:grpSpPr>
          <p:sp>
            <p:nvSpPr>
              <p:cNvPr id="80" name=""/>
              <p:cNvSpPr/>
              <p:nvPr/>
            </p:nvSpPr>
            <p:spPr>
              <a:xfrm>
                <a:off x="1295280" y="374904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44720" y="373392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452680" y="3733920"/>
              <a:ext cx="1298880" cy="75600"/>
              <a:chOff x="2452680" y="3733920"/>
              <a:chExt cx="1298880" cy="75600"/>
            </a:xfrm>
          </p:grpSpPr>
          <p:sp>
            <p:nvSpPr>
              <p:cNvPr id="83" name=""/>
              <p:cNvSpPr/>
              <p:nvPr/>
            </p:nvSpPr>
            <p:spPr>
              <a:xfrm>
                <a:off x="2452680" y="374904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02120" y="373392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692880" y="3733920"/>
              <a:ext cx="1488240" cy="75600"/>
              <a:chOff x="3692880" y="3733920"/>
              <a:chExt cx="1488240" cy="75600"/>
            </a:xfrm>
          </p:grpSpPr>
          <p:sp>
            <p:nvSpPr>
              <p:cNvPr id="86" name=""/>
              <p:cNvSpPr/>
              <p:nvPr/>
            </p:nvSpPr>
            <p:spPr>
              <a:xfrm>
                <a:off x="3692880" y="3749040"/>
                <a:ext cx="74412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437000" y="3733920"/>
                <a:ext cx="74412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6324480" y="373392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343400"/>
            <a:ext cx="5791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40184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又说：“亲爱的乌鸦，您的羽毛真漂亮，麻雀比起你来，可就差多了。你的嗓子真好，谁都爱听您唱歌。您唱几句吧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47920" y="2666880"/>
            <a:ext cx="1196640" cy="93960"/>
            <a:chOff x="1447920" y="2666880"/>
            <a:chExt cx="1196640" cy="93960"/>
          </a:xfrm>
        </p:grpSpPr>
        <p:sp>
          <p:nvSpPr>
            <p:cNvPr id="94" name=""/>
            <p:cNvSpPr/>
            <p:nvPr/>
          </p:nvSpPr>
          <p:spPr>
            <a:xfrm>
              <a:off x="1447920" y="268596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46240" y="266688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58880" y="2666880"/>
            <a:ext cx="1196640" cy="93960"/>
            <a:chOff x="2558880" y="2666880"/>
            <a:chExt cx="1196640" cy="93960"/>
          </a:xfrm>
        </p:grpSpPr>
        <p:sp>
          <p:nvSpPr>
            <p:cNvPr id="97" name=""/>
            <p:cNvSpPr/>
            <p:nvPr/>
          </p:nvSpPr>
          <p:spPr>
            <a:xfrm>
              <a:off x="2558880" y="268596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57200" y="266688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657600" y="2666880"/>
            <a:ext cx="1371600" cy="93960"/>
            <a:chOff x="3657600" y="2666880"/>
            <a:chExt cx="1371600" cy="93960"/>
          </a:xfrm>
        </p:grpSpPr>
        <p:sp>
          <p:nvSpPr>
            <p:cNvPr id="100" name=""/>
            <p:cNvSpPr/>
            <p:nvPr/>
          </p:nvSpPr>
          <p:spPr>
            <a:xfrm>
              <a:off x="365760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4340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76920" y="2666880"/>
            <a:ext cx="1371600" cy="93960"/>
            <a:chOff x="4876920" y="2666880"/>
            <a:chExt cx="1371600" cy="93960"/>
          </a:xfrm>
        </p:grpSpPr>
        <p:sp>
          <p:nvSpPr>
            <p:cNvPr id="103" name=""/>
            <p:cNvSpPr/>
            <p:nvPr/>
          </p:nvSpPr>
          <p:spPr>
            <a:xfrm>
              <a:off x="487692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6272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095880" y="2666880"/>
            <a:ext cx="1371600" cy="93960"/>
            <a:chOff x="6095880" y="2666880"/>
            <a:chExt cx="1371600" cy="93960"/>
          </a:xfrm>
        </p:grpSpPr>
        <p:sp>
          <p:nvSpPr>
            <p:cNvPr id="106" name=""/>
            <p:cNvSpPr/>
            <p:nvPr/>
          </p:nvSpPr>
          <p:spPr>
            <a:xfrm>
              <a:off x="609588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8168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486400" y="1981080"/>
            <a:ext cx="1828800" cy="93960"/>
            <a:chOff x="5486400" y="1981080"/>
            <a:chExt cx="1828800" cy="93960"/>
          </a:xfrm>
        </p:grpSpPr>
        <p:sp>
          <p:nvSpPr>
            <p:cNvPr id="109" name=""/>
            <p:cNvSpPr/>
            <p:nvPr/>
          </p:nvSpPr>
          <p:spPr>
            <a:xfrm>
              <a:off x="5486400" y="2000160"/>
              <a:ext cx="9144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0800" y="1981080"/>
              <a:ext cx="9144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447920" y="3259080"/>
            <a:ext cx="1371600" cy="93240"/>
            <a:chOff x="1447920" y="3259080"/>
            <a:chExt cx="1371600" cy="93240"/>
          </a:xfrm>
        </p:grpSpPr>
        <p:sp>
          <p:nvSpPr>
            <p:cNvPr id="112" name=""/>
            <p:cNvSpPr/>
            <p:nvPr/>
          </p:nvSpPr>
          <p:spPr>
            <a:xfrm>
              <a:off x="144792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3259080"/>
            <a:ext cx="1371600" cy="93240"/>
            <a:chOff x="2743200" y="3259080"/>
            <a:chExt cx="1371600" cy="93240"/>
          </a:xfrm>
        </p:grpSpPr>
        <p:sp>
          <p:nvSpPr>
            <p:cNvPr id="115" name=""/>
            <p:cNvSpPr/>
            <p:nvPr/>
          </p:nvSpPr>
          <p:spPr>
            <a:xfrm>
              <a:off x="274320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900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962520" y="3259080"/>
            <a:ext cx="1371600" cy="93240"/>
            <a:chOff x="3962520" y="3259080"/>
            <a:chExt cx="1371600" cy="93240"/>
          </a:xfrm>
        </p:grpSpPr>
        <p:sp>
          <p:nvSpPr>
            <p:cNvPr id="118" name=""/>
            <p:cNvSpPr/>
            <p:nvPr/>
          </p:nvSpPr>
          <p:spPr>
            <a:xfrm>
              <a:off x="396252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81480" y="3259080"/>
            <a:ext cx="1371600" cy="93240"/>
            <a:chOff x="5181480" y="3259080"/>
            <a:chExt cx="1371600" cy="93240"/>
          </a:xfrm>
        </p:grpSpPr>
        <p:sp>
          <p:nvSpPr>
            <p:cNvPr id="121" name=""/>
            <p:cNvSpPr/>
            <p:nvPr/>
          </p:nvSpPr>
          <p:spPr>
            <a:xfrm>
              <a:off x="518148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6728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72200" y="3259080"/>
            <a:ext cx="1371600" cy="93240"/>
            <a:chOff x="6172200" y="3259080"/>
            <a:chExt cx="1371600" cy="93240"/>
          </a:xfrm>
        </p:grpSpPr>
        <p:sp>
          <p:nvSpPr>
            <p:cNvPr id="124" name=""/>
            <p:cNvSpPr/>
            <p:nvPr/>
          </p:nvSpPr>
          <p:spPr>
            <a:xfrm>
              <a:off x="617220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371600" y="3809880"/>
            <a:ext cx="1371600" cy="93960"/>
            <a:chOff x="1371600" y="3809880"/>
            <a:chExt cx="1371600" cy="93960"/>
          </a:xfrm>
        </p:grpSpPr>
        <p:sp>
          <p:nvSpPr>
            <p:cNvPr id="127" name=""/>
            <p:cNvSpPr/>
            <p:nvPr/>
          </p:nvSpPr>
          <p:spPr>
            <a:xfrm>
              <a:off x="137160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666880" y="3809880"/>
            <a:ext cx="1371600" cy="93960"/>
            <a:chOff x="2666880" y="3809880"/>
            <a:chExt cx="1371600" cy="93960"/>
          </a:xfrm>
        </p:grpSpPr>
        <p:sp>
          <p:nvSpPr>
            <p:cNvPr id="130" name=""/>
            <p:cNvSpPr/>
            <p:nvPr/>
          </p:nvSpPr>
          <p:spPr>
            <a:xfrm>
              <a:off x="266688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86200" y="3809880"/>
            <a:ext cx="1371600" cy="93960"/>
            <a:chOff x="3886200" y="3809880"/>
            <a:chExt cx="1371600" cy="93960"/>
          </a:xfrm>
        </p:grpSpPr>
        <p:sp>
          <p:nvSpPr>
            <p:cNvPr id="133" name=""/>
            <p:cNvSpPr/>
            <p:nvPr/>
          </p:nvSpPr>
          <p:spPr>
            <a:xfrm>
              <a:off x="388620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05520" y="3809880"/>
            <a:ext cx="1371600" cy="93960"/>
            <a:chOff x="5105520" y="3809880"/>
            <a:chExt cx="1371600" cy="93960"/>
          </a:xfrm>
        </p:grpSpPr>
        <p:sp>
          <p:nvSpPr>
            <p:cNvPr id="136" name=""/>
            <p:cNvSpPr/>
            <p:nvPr/>
          </p:nvSpPr>
          <p:spPr>
            <a:xfrm>
              <a:off x="510552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132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95880" y="3809880"/>
            <a:ext cx="1371600" cy="93960"/>
            <a:chOff x="6095880" y="3809880"/>
            <a:chExt cx="1371600" cy="93960"/>
          </a:xfrm>
        </p:grpSpPr>
        <p:sp>
          <p:nvSpPr>
            <p:cNvPr id="139" name=""/>
            <p:cNvSpPr/>
            <p:nvPr/>
          </p:nvSpPr>
          <p:spPr>
            <a:xfrm>
              <a:off x="609588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71600" y="4478400"/>
            <a:ext cx="1371600" cy="93240"/>
            <a:chOff x="1371600" y="4478400"/>
            <a:chExt cx="1371600" cy="93240"/>
          </a:xfrm>
        </p:grpSpPr>
        <p:sp>
          <p:nvSpPr>
            <p:cNvPr id="142" name=""/>
            <p:cNvSpPr/>
            <p:nvPr/>
          </p:nvSpPr>
          <p:spPr>
            <a:xfrm>
              <a:off x="137160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666880" y="4478400"/>
            <a:ext cx="1371600" cy="93240"/>
            <a:chOff x="2666880" y="4478400"/>
            <a:chExt cx="1371600" cy="93240"/>
          </a:xfrm>
        </p:grpSpPr>
        <p:sp>
          <p:nvSpPr>
            <p:cNvPr id="145" name=""/>
            <p:cNvSpPr/>
            <p:nvPr/>
          </p:nvSpPr>
          <p:spPr>
            <a:xfrm>
              <a:off x="266688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886200" y="4478400"/>
            <a:ext cx="1371600" cy="93240"/>
            <a:chOff x="3886200" y="4478400"/>
            <a:chExt cx="1371600" cy="93240"/>
          </a:xfrm>
        </p:grpSpPr>
        <p:sp>
          <p:nvSpPr>
            <p:cNvPr id="148" name=""/>
            <p:cNvSpPr/>
            <p:nvPr/>
          </p:nvSpPr>
          <p:spPr>
            <a:xfrm>
              <a:off x="388620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95280" y="2468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乌鸦听了狐狸的话得意极了，就唱起歌来。哇……他刚一张嘴，肉就掉下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124080"/>
            <a:ext cx="49532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733920"/>
            <a:ext cx="4114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想了想，就笑着对乌鸦说：“您好，亲爱的乌鸦！”乌鸦不做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923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又说：“亲爱的乌鸦，您的孩子好吗？”乌鸦看了狐狸一眼，还是不做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1417680"/>
            <a:ext cx="65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又说：“亲爱的乌鸦，您的羽毛真漂亮，麻雀比起你来，可就差多了。你的嗓子真好，谁都爱听您唱歌。您唱几句吧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98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乌鸦听了狐狸的话得意极了，就唱起歌来。哇……他刚一张嘴，肉就掉下来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05:47:01Z</dcterms:created>
  <dc:creator>ydj</dc:creator>
  <dc:description/>
  <dc:language>en-US</dc:language>
  <cp:lastModifiedBy>ydj</cp:lastModifiedBy>
  <dcterms:modified xsi:type="dcterms:W3CDTF">1999-07-25T10:20:04Z</dcterms:modified>
  <cp:revision>9</cp:revision>
  <dc:subject/>
  <dc:title>没有幻灯片标题</dc:title>
</cp:coreProperties>
</file>