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C1EA-CFC1-4378-836C-A7E6757E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B188-84A1-4762-A246-5453923B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D5933-55A9-491C-A028-23BD9957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2FD1B-C82B-4E99-9AF9-F86A72C6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568A0-65E4-4902-A765-E461F1B3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1D744-EEE2-4497-A2C9-2F5A7D19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D0F21-40C9-4C5E-BCB1-C7D11E6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F05AF-1F70-44DB-A149-FB52AB8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5CCCC-2761-4A53-8BA4-7C5B23DA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4A62F-7F96-48E2-B582-2E986B68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EDC13-E393-47A6-BB43-E2DC17AB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7CD64-C350-479D-BFA2-803B28B6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149A-D14D-43AB-9FAB-470F8562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A4CFC-6665-4BE2-939D-1BD81D0E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780C3-1EEF-491F-9996-4AD4946C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313D1-F914-4568-8B24-CEA8166C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56F93-7299-46A1-9DEC-CB361D88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9CA59-0CAA-464E-91D6-E1A6EFFC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601F5-1AB3-474E-9C90-98C701C8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34DC7-A8BB-4C22-BC36-838F78F9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AECD9-A204-402A-A19F-572AE5ED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D1AEC-8A03-4274-8E53-73347488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DE922-C6A4-4CEC-8C6B-2F9490E1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3F22-2A69-4C31-B483-7EA02F1B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CC79A-6911-4E70-8D5A-DD51CCB4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F91206-2E31-4AAB-B0B9-9B4421EC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9ECA1F-FF5B-4BB5-8F1C-44812EC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571CF8-9D7F-4A73-886F-9D472F4B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4286C0-B94A-44F2-BC33-6EB0445F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BD143B-2E44-42B6-8DBF-2B6B5888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DF5E76-6ACC-410F-B10A-83D02AC0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B1F058-50FA-40F8-A546-3438D5E7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F5FF5B-EEC1-4FE6-8E55-2AE0D007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88D767-AA9C-499F-8764-1C289A51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3C56-11DA-4DF0-9045-3625390A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0F6584-13B9-4DCB-B123-AF603188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C73E0F-01D1-40BE-95A2-3337CCBA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B17936-F835-412F-BDC6-4F98808E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74D67-07EA-4D09-A0AF-286FE3B5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1693A-AB60-4500-AF94-8D45C494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19ABB-A157-43D2-8964-CFF0B575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6470E-0455-48B7-9261-41D40BC9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8207F-03EE-4817-940E-6720CF2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0F635-C5E6-4A78-B4E4-AD3CA82C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15367-C079-4110-B783-E9781413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0C77-F587-4EEA-B59D-A61B93FB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B6881-0A61-4AE3-86B6-D4E1A7ED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0CDA6-85A1-4D39-AFBB-BC7D40FC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89222-7BE4-4D83-95B3-A074EA74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7A1C0-B690-492C-B455-3EFE7020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E836E-2369-4A6A-A25E-B0B9774F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79D224-B2E6-4B9C-9A3B-99CF9B15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6A9EA8-0F4D-4744-AF0F-88849DCA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C9658E-D59E-44C4-A425-88F6F38D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7EF803-BD57-4973-9014-705488B9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4BB3E2-C93A-4E39-A1C5-E37946B7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AC03-4060-4277-84AE-C90D86E1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EEF79F-6A5C-40F3-B63A-1A77EA78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03490A-CFF6-421E-BE37-9E26343B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6149EA-7E58-4AA3-8550-85A1A3E3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45BC8F-9F5B-452D-96D1-AC60C0D1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956A63-FE05-43EC-BDF3-15978D75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61F2C9-73E2-4BEC-B352-FF161645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C0B359-88C9-4F30-B27A-2AB498F4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6065-FF91-459A-B7D6-13A168C4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4D90-BC51-41BF-8DAD-4091E310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5981-011F-4EFE-8418-11D80285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E71B-978D-451C-8F95-9708451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6E39-262A-4A3D-B59B-62BA3DED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37DF-90ED-45F1-8F01-2613DEE9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5C3F-7924-4FD3-8561-7F3269F9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862E-8E5D-40D7-B9A7-B55B1BD8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D1C8-015F-404B-BCF6-195B2778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6684-199F-41CA-82D7-555A73F8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02A3-4901-43C8-9761-9443130A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9E17-8165-4765-BD43-EE7F1C9A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8A23-CA77-446E-8D9A-33D9660D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90CA-5FE8-465D-8403-79ECB655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3675-BA1D-4E6E-AC63-15B659D5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1F76-DCB8-4EFD-A7DC-83039E20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594B-40E5-433F-9DF9-383B7E4C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DCC18-6D95-4161-8D68-5D396CE3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FC9CF-F2F6-4E5F-A8EC-8F14E115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72D7-5CA1-4CA6-B2DE-D092654F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5DBE-9968-4F00-8B12-22875B86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E081D-EE53-469D-A055-CA2AF4D6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C5A6-EA16-4212-B1CD-E14282F9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31BD0-CA42-4295-81BA-0230E187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B54E1-BABA-4C51-A043-91D7381F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976E0-62D4-4933-9825-4269A2D7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A5B4-9E37-4263-805E-BB5094DD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645B7-4268-4061-B66E-715022C8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6269-B6A4-442D-A7E2-6A71023E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CD68-0795-42AB-B210-EF477BA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BD698-9FCD-4E0A-B1BD-AE683E6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AE53C-4DDF-4850-A840-513720FB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F673-5E57-40D5-9607-91B8831C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AFBA-65BF-43AC-8D36-6E6215D3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A4DC-1DFD-41A3-A1B7-E5AFF1B6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9F4D-F3C6-4C7C-BC36-1C6204BE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099CF-060A-43C1-A6D4-353AE2D2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B908-5E50-4A5E-8B48-83218813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0738-99B7-49F6-A1C3-9DEC6930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F8925-243D-4595-84F3-BA80969A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9FAE-6E21-44AA-A493-C295343C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2D048-41AC-4407-80D7-4B07DD61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4EF37-20CE-4E6A-AB10-CF2F746A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76F77-C6D3-4E74-86C0-0EE9729C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BFC29-B803-44CF-B0CF-0AC07D0E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E74C4-5A35-4033-A19B-E4E415D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7126C-C00D-441C-B274-E28A7A01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5B59-542D-4128-9D25-584D3B3B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6D0F8-AEEC-4EA2-BDB4-BDDF937E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490F-93FF-4256-A2DD-B485A969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EABE9-3974-445D-8BF7-86C89481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DEA35-CDFF-48D6-BDB4-2C913286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28FB4-5322-46EB-80FC-56064891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49485-A05E-47BA-94A3-624D5723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FB41F-6EE6-4A73-B074-32F7808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76B7F-6BA7-479C-B487-D779A4D9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1C5E4-1ADA-4696-9EC1-1B650334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36602-33B9-4B6D-838A-BF908F05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E408F-6233-4183-A22C-74D2B08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C988-E38A-4451-AE86-5D63237C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6D19E-4DC6-474A-BE4B-51785093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E86E8-55B2-4020-BCBB-1DC48168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DA3C4-C63D-43AB-9759-D7BFA480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3FD953-4F04-4C09-9A72-6F9000705B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1F3F70-D071-43F9-93E4-C1A94DA7C7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E26F54-1271-4DE0-A28C-537F7DFD2CB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2F72BF-E75A-4DC2-BBEF-6C36726BECB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B9CAE3-36A8-48C1-90FD-05829C6976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0DF1DD-0E3A-4778-B8D6-5AF49DE9975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0E8908-B21A-495D-B2D1-66F8C5C88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6047-6009-412C-8F94-5661338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E06383-0F64-40B5-9EA6-95320942C0E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9048FE-F7B1-41EA-9C6B-D1CA3422A15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439BF2-A4BD-4F2E-9A8B-515FF14738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43DCF6-CAB0-4942-901E-861DCF6A67B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B8586E-1D88-4BAA-AE3C-82E3EA008B5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EFA050-2A13-4CF1-8826-A920E0D8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8D7BF3-254F-494A-820B-42B912BA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F9C0DC-6FB4-42DD-B48C-4CF26A08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21EFC0-8CD7-47E6-9086-0A15D260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690D5B-359E-4CA3-9042-728F3D2A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CFEF-2CC2-4E71-8531-6A0438C0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E7206F-CE5E-4CAE-8D20-2DE1B9FC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5533A2-BAAE-4CB9-93BE-EE53EDBF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67FACB-F0C8-4072-83B3-509F5C1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F93BD3-C945-4E37-AA86-84FE695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33B4FC-100E-4215-9C14-4324AEA6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EC3AE7-71C6-458C-9975-3F390564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5ADB8F-153C-4532-9337-0AB46A6C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6407D-F6D4-4857-9839-AEC4D80F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BD9D1-4A6A-47A1-8454-9C1236BF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AF593-9990-499E-B115-A762A519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B5BC-1075-4A42-8144-C14AE11987C1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1C64-FA2A-4F17-82B4-F60B99933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515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9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0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1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04D3-695D-440A-A55E-7D328239F0E4}" type="slidenum">
              <a:rPr b="1" lang="zh-CN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522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5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73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32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33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4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452F-54A0-40FB-B059-92EE4DBD9E64}" type="slidenum">
              <a:rPr b="1" lang="zh-CN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63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63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5"/>
          </p:nvPr>
        </p:nvSpPr>
        <p:spPr>
          <a:xfrm>
            <a:off x="6705720" y="54864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64C5-D823-4BB6-A218-B6E34C95A7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A375-D291-42CA-941F-1A717A875AFB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27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E485-3AB8-4CCF-8B0D-202B1DD3C65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17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78E8-0994-403A-A964-3A2826E068B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6902-02F9-43B1-A304-19D757B175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F587-5ABB-4F7A-A66A-0A0454F1C8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ldNum" idx="19"/>
          </p:nvPr>
        </p:nvSpPr>
        <p:spPr>
          <a:xfrm>
            <a:off x="8686800" y="6459480"/>
            <a:ext cx="380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9C7D-F73D-4D0F-B287-97DA7CDFDF34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438280" y="762120"/>
            <a:ext cx="6019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title"/>
          </p:nvPr>
        </p:nvSpPr>
        <p:spPr>
          <a:xfrm>
            <a:off x="861480" y="774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73A6-5DEF-443C-9E3A-A5BBDFB772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C19C-EA54-4CF5-9724-D43C183C65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187280" y="2449440"/>
            <a:ext cx="662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hy don’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do something about i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85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. There seems (to be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 I would like you t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. It  looks as if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 I insist that you (should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. why don’t you do something about i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843280" y="981000"/>
            <a:ext cx="33908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Oral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468360" y="441360"/>
            <a:ext cx="8136000" cy="58402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3203640" y="1628640"/>
            <a:ext cx="2727360" cy="16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132000" y="2997360"/>
            <a:ext cx="316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339640" y="1341000"/>
            <a:ext cx="4103640" cy="10796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At the shop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1403280" y="3429000"/>
            <a:ext cx="626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How to talk when shopp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26436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What’s happening?</a:t>
            </a:r>
            <a:br>
              <a:rPr sz="48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shop assistant and a custome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939160" cy="403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1008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9600" spc="-1" strike="noStrike">
                <a:solidFill>
                  <a:srgbClr val="e3e3ff"/>
                </a:solidFill>
                <a:latin typeface="Arial Black"/>
              </a:rPr>
              <a:t> </a:t>
            </a: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1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 did the customer buy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Why did she return to the sh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what did she want the assistant to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what did they both agree to do at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434760" y="321300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nguage stu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411280" y="2492280"/>
            <a:ext cx="431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nguage study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900000" y="2133720"/>
            <a:ext cx="72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here seems to b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something wrong with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16000" y="234936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2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ould lik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o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change this blous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95280" y="214956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t looks as if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it has not been washed following the instr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539640" y="23781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4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nsis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that you give me my money b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3:21:52Z</dcterms:created>
  <dc:creator>zz</dc:creator>
  <dc:description/>
  <dc:language>en-US</dc:language>
  <cp:lastModifiedBy>Legend User</cp:lastModifiedBy>
  <dcterms:modified xsi:type="dcterms:W3CDTF">2002-12-01T06:49:10Z</dcterms:modified>
  <cp:revision>18</cp:revision>
  <dc:subject/>
  <dc:title>介绍演讲者</dc:title>
</cp:coreProperties>
</file>