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3.jpeg" ContentType="image/jpeg"/>
  <Override PartName="/ppt/media/image15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4.png" ContentType="image/png"/>
  <Override PartName="/ppt/media/image5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D0C6-5CA2-4FEF-866D-F660DD34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CEB-9B70-44EE-8A42-91D2CE48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771-7033-45DC-9B5D-522A99C4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91D-C8A9-4162-9DA6-3A86F8AE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5A52-40A1-46ED-9CAC-C60754F3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6BA7-EF2C-4580-B5D1-72F7B833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7D98-BE78-4735-9D71-B40447A6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1321-90E5-4AE7-A384-85B92F2C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C12F-86A1-491B-A070-124224DD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0AC0-05CD-4CD0-BF39-8A0698FE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8732-7124-4684-9F8F-BC112AF9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ADFF-4894-4FE4-B493-982EECC1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05AC-90AC-4945-9F74-B3EE87C2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71E2-ADAF-4ED6-A83A-A7F5E237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01C1-9616-4AAA-842C-9C4CF6E7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28C2-CE03-4769-9279-9DD31AB0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92D6-EBC4-46B1-BFB7-39B480DB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B87-5CB4-4EC5-A679-09EAD95B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180-F4FD-45EA-A42F-060E415B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730-2BC5-483E-B0DF-4F7EAF23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A4AA-9EAC-4E8B-A617-3E3D7007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0A21-9E93-4D39-9A0F-5E0C6FE9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9C37-EB5D-4701-B862-27E051BF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73B1-1D42-4A77-AC16-EF35764E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A437-8CB8-428B-A898-D6B68C8860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25BF-3F9A-44C0-B1A4-F4940AFE19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i%20want.MPG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81080" y="685800"/>
            <a:ext cx="586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Comic Sans MS"/>
              </a:rPr>
              <a:t>Unit1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Comic Sans MS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8862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LON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NTARC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343400" y="5029200"/>
            <a:ext cx="1947960" cy="1828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352680" y="4495680"/>
            <a:ext cx="914400" cy="9144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4495680"/>
            <a:ext cx="1067040" cy="914400"/>
          </a:xfrm>
          <a:custGeom>
            <a:avLst/>
            <a:gdLst>
              <a:gd name="textAreaLeft" fmla="*/ 142920 w 1067040"/>
              <a:gd name="textAreaRight" fmla="*/ 924120 w 106704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-131760"/>
            <a:ext cx="8381880" cy="70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omic Sans MS"/>
              </a:rPr>
              <a:t>Scanning:True or False</a:t>
            </a:r>
            <a:r>
              <a:rPr b="1" lang="en-US" sz="3200" spc="-1" strike="noStrike">
                <a:solidFill>
                  <a:srgbClr val="339933"/>
                </a:solidFill>
                <a:latin typeface="Comic Sans MS"/>
              </a:rPr>
              <a:t> 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(    )The author made her Antarctica expedition in December,199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(    ) The weather in Antarctica was changeable, which added difficulty to her tra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(    ) She fell into a deep hole and fell down onto the bottom, a few hundred f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 (    ) Climbing along the ropes to the sled, she quickly returned to the g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 (    ) Although she was hurt, she still decided to continue her j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685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3276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48769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5867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00400" y="822240"/>
            <a:ext cx="144792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1295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n November 1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403848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ut luckily she hung on the ropes which were tied to the s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56386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t took her a long time to climb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77120" y="6338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ive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990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3200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657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52578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6400800"/>
            <a:ext cx="365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6329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38080" y="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Comic Sans MS"/>
              </a:rPr>
              <a:t>Find out some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533520"/>
            <a:ext cx="76960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5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v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1997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hird 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ext wee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v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ew days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ext morning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l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5335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veled alone at the North p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11430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egan her jour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182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ruggled through stormy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438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ayed in her 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30481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lebrated her 6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birth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9880" y="365760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ell into a hole and climbed  out fi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495288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ad a bad accident with the sled and hurt her 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63244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ave up and went back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90720" y="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urther reading: answer the following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533520"/>
            <a:ext cx="784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How did Helen Thayer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How did she celebrate her 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irth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11430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She walked ,skied b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led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al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2860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S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aw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ed a frozen cake with a candle,sang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 the top of her voice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5334120"/>
            <a:ext cx="670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"/>
          </p:cNvPr>
          <p:cNvSpPr/>
          <p:nvPr/>
        </p:nvSpPr>
        <p:spPr>
          <a:xfrm>
            <a:off x="1523880" y="342900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52578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By self-rescuing. Thanks to all the training she had had. She was in good health and her equipment worked well.She had strong w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733920"/>
            <a:ext cx="8077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     How did she struggle out of the ho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did she succe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66680" y="1295280"/>
            <a:ext cx="769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She struggled to her knees and tried every means to put the tent up and dragged her sleeping bag into the tent and lay down out of the cold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28600"/>
            <a:ext cx="7878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 How did she prevent herself from being frozen to death after the accid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124080"/>
            <a:ext cx="81532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 Some people think Thayer’s trip was a failure. Do you think so ? When she made the final decision , which things did she take into consider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 Do you think she went ther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lon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only to celebrate he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irth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were her real purpo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066680" y="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Fill in the blan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914400"/>
            <a:ext cx="8001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wanted to _______  my birthday in a special way. After making the necessary__________, I started the journey of _______ on Nov.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,1997. The weather in Antarctica was ________. Sometimes the wind was too_______ for us to pace any inch;sometimes terrible snow storms came _______  and I had to use my tent as  a _______. Besides, I once fell into a hole and fortunately _____  myself out. The worst was that I had a bad_______ with the sled, which forced me to _____ up my j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838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eleb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167652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rep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22096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72200" y="2590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2971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r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3809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udde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00400" y="4343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he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sc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54864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c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59436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0"/>
            <a:ext cx="2362320" cy="76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10098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Comic Sans MS"/>
              </a:rPr>
              <a:t>What kind of woman is Helen Thayer?    What can you learn from h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077320" y="5181480"/>
            <a:ext cx="1066680" cy="1676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90720" y="213372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ve, strong, responsible, confident, optimistic, strong will, never give up, give in to difficulty, like challeng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3429000"/>
            <a:ext cx="3429000" cy="1523880"/>
          </a:xfrm>
          <a:prstGeom prst="irregularSeal2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38862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800600"/>
            <a:ext cx="710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roup work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 an interview to Helen Thayer. One acts as Helen Thayer. The other three act as  reporters or journa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676520" y="419112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4800600"/>
            <a:ext cx="8076960" cy="1749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 WORK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rite down some sentences to describe Helen Th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02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95280" y="52578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Helen Th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179280"/>
            <a:ext cx="4267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She is a cross country ski racer and climber. She walked and skied alone to the North Pole 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88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at the age of 50 and 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92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she returned to the North Pole again. 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95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, she wrote a book about her journey to the pole named </a:t>
            </a:r>
            <a:r>
              <a:rPr b="1" i="1" lang="en-US" sz="2800" spc="-1" strike="noStrike">
                <a:solidFill>
                  <a:srgbClr val="6600cc"/>
                </a:solidFill>
                <a:latin typeface="Comic Sans MS"/>
              </a:rPr>
              <a:t>POLAR DREAM.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97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, Helen spent her 60</a:t>
            </a:r>
            <a:r>
              <a:rPr b="1" lang="en-US" sz="2800" spc="-1" strike="noStrike" baseline="30000">
                <a:solidFill>
                  <a:srgbClr val="6600cc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birthday traveling alone in </a:t>
            </a: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Antarc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381880" y="617220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362320" y="762120"/>
          <a:ext cx="56386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762120"/>
                    <a:ext cx="56386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600200" y="5638680"/>
            <a:ext cx="632448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Antarctica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the South Po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762120"/>
            <a:ext cx="57150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ctic( the North Po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47920" y="426708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engu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olar  b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7621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(only on the   North Po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510552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(only in Antarcti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5791320"/>
            <a:ext cx="8839080" cy="10688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cy wind ,sunshine 24h ,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orm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90 degrees below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tremel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3120" y="4572000"/>
            <a:ext cx="6112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62132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-60948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5867280"/>
            <a:ext cx="891540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are little human activities because of the extreme clim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62120" y="6019920"/>
            <a:ext cx="7391160" cy="579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62120" y="6019920"/>
            <a:ext cx="79246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anger is jus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round the corn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94040" y="18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3068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omic Sans MS"/>
              </a:rPr>
              <a:t>Skimming (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lone in Antarctica</a:t>
            </a:r>
            <a:r>
              <a:rPr b="1" lang="en-US" sz="4400" spc="-1" strike="noStrike">
                <a:solidFill>
                  <a:srgbClr val="3333ff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990720"/>
            <a:ext cx="76964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is the main idea of this t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What dangers did she meet with while travelling in Antarc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152388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elen traveled alone in Antarctica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uccessfully overcame the difficulty s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4800600"/>
            <a:ext cx="82296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oo strong 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alling into a ho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 bad accident with the sled and hurt her leg</a:t>
            </a:r>
            <a:r>
              <a:rPr b="1" lang="en-US" sz="28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07:28:57Z</dcterms:created>
  <dc:creator>njsz_personal</dc:creator>
  <dc:description/>
  <dc:language>en-US</dc:language>
  <cp:lastModifiedBy>zy</cp:lastModifiedBy>
  <dcterms:modified xsi:type="dcterms:W3CDTF">2005-03-27T13:00:39Z</dcterms:modified>
  <cp:revision>13</cp:revision>
  <dc:subject/>
  <dc:title>PowerPoint 演示文稿</dc:title>
</cp:coreProperties>
</file>