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E5E9-4DC3-4F7E-80F7-13A46858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D943-DF3D-4021-AFCD-E4054F56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A742-A21D-4F11-BA18-C233843D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0CE1-C516-4C61-B717-FBB957ED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FC5-B7FF-4000-A74F-FF0190C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042E-02C6-4708-83A5-579C6661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BF3-870B-4F21-97D3-29BAF9B1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AA1-4439-481E-950D-648BBCA5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E3E-CD50-4CA7-8D16-9D404D3F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5FA-3028-4ACC-AD93-B356E087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2DD-C9FF-409F-B34A-3388B2E0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A336-8C22-463D-84CC-0B493AC4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9F9F-4883-45B3-A94E-5475163E6D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28600"/>
            <a:ext cx="822960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词拼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Farmers p_________ city people with fresh vegetables and meat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om s_________ cycling to the country instead of going by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ne is not present today. She has f_____ ill ag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 m_______ is a person who buys and sells goods for making mon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You mustn't drive too fast, for it is d________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8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905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gg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34340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830592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Do you believe that some living thing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 on the other plane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football team of Class Fiv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 that of Class Four yester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day when Macao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澳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returns to China is worth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庆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Taiwan Island i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 from the main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t is said that Australia was onc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 to Sou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040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n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144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It's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令人惊讶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t he should finish the given task in thre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Johnsons are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庆祝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ristmas far from thei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Mr. Wang is in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管理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our class. He is our class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He went to England for the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目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studying science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Cook charted the coasts of the two islan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分隔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y the narrow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ton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19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6996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The enemy wa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打败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nd all the cities were lib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After the battle the army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前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wards R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Ship building used to be one of our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主要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us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child likes to eat sweet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饼干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Villager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提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Army with food and medi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560" y="42670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952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remembered that he put the shoes in the box under hi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remembered ________the shoes in the box under the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speech given by Captain Cook excited us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____ ____ ____the speech given by Captain C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is not interested in 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____ ____ ____ ____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re excited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592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kes no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y surprised us 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____us____ _________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While he was doing 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 _______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   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ile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ang Lin insisted on ____to work in the country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be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B.sending     C.being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D.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en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hotel will be the highest building in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b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B.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w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D.it 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e shall travel by night as ____b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both        C.we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D.well a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3716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34290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86280" y="556272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80880"/>
            <a:ext cx="88390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They joined the team ____of the missing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sear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o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searc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sear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Mr Wang is ____the library while the lab is ____his w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charge of…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in the charge of…in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n charge of…in the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in the charge of…in the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51814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81080"/>
            <a:ext cx="89154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Please remember ____to me as soon as you get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B.having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o 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D.to have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He suggested the man ____to p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ferred to…be 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referring to…should be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referred to…was sent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referring to…was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280" y="20574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812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4:55:34Z</dcterms:created>
  <dc:creator>w</dc:creator>
  <dc:description/>
  <dc:language>en-US</dc:language>
  <cp:lastModifiedBy>w</cp:lastModifiedBy>
  <dcterms:modified xsi:type="dcterms:W3CDTF">2004-08-04T15:30:05Z</dcterms:modified>
  <cp:revision>8</cp:revision>
  <dc:subject/>
  <dc:title>PowerPoint 演示文稿</dc:title>
</cp:coreProperties>
</file>