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9C8-F0B0-4367-B5BA-AFB98136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503-DEA9-4311-A5DC-95103128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C05-B531-4F75-9178-F513A83E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14C-E739-47C4-91AB-9B00C6C2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489D-FAAB-4E0F-BD2C-FCF1E78F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D56-9FC0-4694-B4CB-FEAED5E1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2D7-6E63-48FD-98CC-CCBD2363A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A48-4343-4395-8B95-4C4E388D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0BE-3AF5-4E82-83B3-46C00C6F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942-240E-4A57-A242-E2FD03C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581-7B7C-4C05-99C2-E39F006E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F65-7C28-41BC-A978-CB7C2CD1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5B36-8DC4-46DA-92B9-7E44354626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gb3u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16002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Unit 2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  </a:t>
            </a: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Captain Cook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11360" y="0"/>
            <a:ext cx="83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ep 2 New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ercha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)adj. of business    e.g -----a merchant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n. a businessman  e.g :My father is a merch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ex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vi.To have actual being; be rea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存在；真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:Dinosau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no longer exists on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1)adj. more important than others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maj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vi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修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l of you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pl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1) adj.  ordinary,simple,clear--- a plain fact/a plain girl      2)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原；旷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rt  1)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图；水路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；图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a weather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vt. To make a chart of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…的图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iscuit----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饼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点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end---vt. Protect—e.g:It’s our duty to defend ou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ize-----vt. Catch sth tightl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捉，抓；掠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hief was seized by the po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---n.another planet of the sun.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罗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纳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3 Rea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in 2-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In which war did Cook play an important 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y did Cook go on his journey to the Pacif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Seven Years War, and the battle of Quebec in Can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10552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o see Venus passing between the earth and the sun, and to look for a new continent in the India/Pacific Ocea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9a0972b96468347a98cbb25b88990e0d%5B1%5D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4 Read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once again, and divide the text into several parts, summarizing the main idea for each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14600"/>
            <a:ext cx="2361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4969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Para 1) A brief introduction about Captain C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ra2)  The Seven Years War between Britain and France..(the French was defeate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48769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ara3-6) The expedition to the South Pacific Ocean.(to watch a very unusual Event, the planet Venus passing between the earth and the s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10011a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5  T or 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James cook was a great English scient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Britain and France were in peace in 175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Cook went up and down the St Lawrence river in order to find a safe path for the warshi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ndeavour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as a fast, strongly-built merchant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2952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068a" descr=""/>
          <p:cNvPicPr/>
          <p:nvPr/>
        </p:nvPicPr>
        <p:blipFill>
          <a:blip r:embed="rId1"/>
          <a:stretch/>
        </p:blipFill>
        <p:spPr>
          <a:xfrm>
            <a:off x="3429000" y="5726160"/>
            <a:ext cx="2857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7631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 the text the author mainly talks about Captain Cook’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contribution to English navy during the Seven Years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ailing to the east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dition to the South Pacific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Both A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12" descr="12.gif (59147 bytes)"/>
          <p:cNvPicPr/>
          <p:nvPr/>
        </p:nvPicPr>
        <p:blipFill>
          <a:blip r:embed="rId1"/>
          <a:stretch/>
        </p:blipFill>
        <p:spPr>
          <a:xfrm>
            <a:off x="304920" y="4495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8088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word “particularly” mean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especially              B.exactly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partially                 D.prac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mes Cook owed his education to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a stranger                B.a teacher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 landowner             D.his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Cook joined a_____ at the age of 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erchant ship               B. 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fishing ship                    D.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2" descr="12.gif (59147 bytes)"/>
          <p:cNvPicPr/>
          <p:nvPr/>
        </p:nvPicPr>
        <p:blipFill>
          <a:blip r:embed="rId1"/>
          <a:stretch/>
        </p:blipFill>
        <p:spPr>
          <a:xfrm>
            <a:off x="762120" y="1219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12" descr="12.gif (59147 bytes)"/>
          <p:cNvPicPr/>
          <p:nvPr/>
        </p:nvPicPr>
        <p:blipFill>
          <a:blip r:embed="rId2"/>
          <a:stretch/>
        </p:blipFill>
        <p:spPr>
          <a:xfrm>
            <a:off x="838080" y="4114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12" descr="12.gif (59147 bytes)"/>
          <p:cNvPicPr/>
          <p:nvPr/>
        </p:nvPicPr>
        <p:blipFill>
          <a:blip r:embed="rId3"/>
          <a:stretch/>
        </p:blipFill>
        <p:spPr>
          <a:xfrm>
            <a:off x="762120" y="5562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457200"/>
            <a:ext cx="883944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What does the word “exist” mean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ntinue to live        B.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have                           D.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Paragraph 2 is mainly about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even Years War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joining the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contribution to English navy during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fighting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12" descr="12.gif (59147 bytes)"/>
          <p:cNvPicPr/>
          <p:nvPr/>
        </p:nvPicPr>
        <p:blipFill>
          <a:blip r:embed="rId1"/>
          <a:stretch/>
        </p:blipFill>
        <p:spPr>
          <a:xfrm>
            <a:off x="4038480" y="1905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12" descr="12.gif (59147 bytes)"/>
          <p:cNvPicPr/>
          <p:nvPr/>
        </p:nvPicPr>
        <p:blipFill>
          <a:blip r:embed="rId2"/>
          <a:stretch/>
        </p:blipFill>
        <p:spPr>
          <a:xfrm>
            <a:off x="763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Without Cook’s work of marking a path , perhaps English navy would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 great risks in their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t be on time on the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ttacked by French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ose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6483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A ship used for expedition usually should be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ast and strong               B. fast and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fast and spacious           D. strong and sp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2" descr="12.gif (59147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12" descr="12.gif (59147 bytes)"/>
          <p:cNvPicPr/>
          <p:nvPr/>
        </p:nvPicPr>
        <p:blipFill>
          <a:blip r:embed="rId2"/>
          <a:stretch/>
        </p:blipFill>
        <p:spPr>
          <a:xfrm>
            <a:off x="4724280" y="60958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91440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purpose of the expedition wa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tch a very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a new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ght against Austral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" descr="12.gif (59147 bytes)"/>
          <p:cNvPicPr/>
          <p:nvPr/>
        </p:nvPicPr>
        <p:blipFill>
          <a:blip r:embed="rId1"/>
          <a:stretch/>
        </p:blipFill>
        <p:spPr>
          <a:xfrm>
            <a:off x="304920" y="38862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Lesson 6  Captain Coo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1  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 sp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2    Discussion   (team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 you know anything about Captain Cook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en and wher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is interest? His schooling? His job? His life? His contribution/ success 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276720" y="57913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762120"/>
            <a:ext cx="86104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The fifth paragraph shows us that Captain Cook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d for his sail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knew something abou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knew something about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knew something about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2" descr="12.gif (59147 bytes)"/>
          <p:cNvPicPr/>
          <p:nvPr/>
        </p:nvPicPr>
        <p:blipFill>
          <a:blip r:embed="rId1"/>
          <a:stretch/>
        </p:blipFill>
        <p:spPr>
          <a:xfrm>
            <a:off x="228600" y="2133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9280" y="538200"/>
            <a:ext cx="6480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blanks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完型填空的基础训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2366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The local landowner paid for his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Cook learnt fast and quickly became a_________  sea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320" y="27432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chooling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3560" y="41911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57336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522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6 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067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/show/have a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= be/feel/becom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opp:lose interest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The lion showed a great interest in the leg of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81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tak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吃惊，出其不意地进行突然袭击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) The Japanese planes took the island by surprise on a Sunday mo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)Their visit took me 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0011a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457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urpris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其他用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in surpri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奇地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looked at me in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他吃惊地看着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to one's surprise/to the surpri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某人惊奇的是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surprise, the door was unloc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使我吃惊的是，门没有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well, too, als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s well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也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He knows English, and he knows French a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To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放在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有时前有逗号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 I can swim,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多用于书面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出现在句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I also w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knows English, and he knows French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He knows English as well as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harge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的短语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charge of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某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ake charge of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管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动作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g:He began to take charge of the department three years ago.He has been in charge of it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327560"/>
            <a:ext cx="8534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 of sb./in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‘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……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epartment has been in his charge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24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ree of charge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免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4582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harge .n.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费用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价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The hotel paid the taxi driver and put the charge on their hotel b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索取费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o you charge for a 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828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 strict but good captain,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,unusually,took good care of the sailo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4290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my uncle after all these years was an unforgettable moment,_____I will always tr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that   B one    C.it     D. 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ructur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lower6" descr=""/>
          <p:cNvPicPr/>
          <p:nvPr/>
        </p:nvPicPr>
        <p:blipFill>
          <a:blip r:embed="rId1"/>
          <a:stretch/>
        </p:blipFill>
        <p:spPr>
          <a:xfrm>
            <a:off x="6705720" y="5475240"/>
            <a:ext cx="24382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57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ize v. take hold of suddenly and by forc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，夺取，占领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一把揪住小偷的衣领，把他扔进警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oliceman seized the thief by the collar, and threw him into the police car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放军突然夜袭，占领了那个城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LA men ____________ in a sudden night attack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exist v. to be; to have life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存在，生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别的星球上存在生命吗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ized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es life exist on other planets?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要相信他的话，这样的事根本不存在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't believe him. Such a thing doesn't exi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map v. to make a map of; show on a ma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绘制……的地图，勘测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库克是第一个把澳大利亚东岸地图绘制出来的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ook was the first to ________________ of Australia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探险家把他们发现的岛屿地图绘制出来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explorer __________________ they had discovered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601992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ped the is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3434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d________ yourself to something, you use that time for a particular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something is e_______ , it seems as if you will never reach the end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have the d___________ to do something , you have made up your mind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You must save more money until your d______ is paid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ar v. to break by pulling ap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撕开，撕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莉从邮递员手中一接过信，就把它撕开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soon as the postman passed her the letter, Mary _____________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词辨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e;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v.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个多义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有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lift u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起，抬起，增加，提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produce, or cause to g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饲养，抚养，种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re i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88390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经理说他要给你长工资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said he would _______________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他一手把孩子们抚养成人的。他妻子几年前就去世了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e _________________ by himself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is wife died years ago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不及物动词。作起身讲时是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stand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正式用语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used to like seeing _____________.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old man _________________.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990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 your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d th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5627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 sun 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199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rose from his s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nd 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意思是“以……告终，结果……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alks between the two sides ended in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be to do sth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指“计划、职责、义务、约定要做某事”，表示将来时态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to be a meeting on Satur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re to meet at the school  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45720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ok knew that sailors often suffered fever while at s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库克知道水手们在海上时常常会发烧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they wer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省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'm sorry  that I  missed seeing   you 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doing his homework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ing to some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Language Foc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Take / show / find an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interes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in…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ay for one’s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chooling /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Joi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a ship / a club / the navy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Learn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Quickly / so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beco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killed / experienced / trained /advanced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Break out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Take sb. / some plac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by surp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se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Go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up and down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up home in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With/ for  the purpose of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//    ( be in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charge of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Load …with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Not only A …but als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B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, as well as B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He, as well as I,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is 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League me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out/off for…/ leave / start /head for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total of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Mark on a map the location of 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chart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Great in size  or important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ajor   adj.(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omething important that happened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o live / be / continue li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xist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ight to protec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defend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ship for trading/ carrying goods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erchant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kills of sailing at sea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eama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Lo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i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302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.In 1759 the French army was _________ the city of Quebec, which stood high on a rock ______ the St. Lawrence river. Cook went up and _____ the river in order to _____ all the dangerous rocks. Finally he was able to _____ a _____ for the warships to follow. He led the ships _____ the river to a place where the British army could ____ safely and take the enemy ___ surprise. After a short_____ , the French were ________ and the city of Quebec wa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401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3162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343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343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80060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334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e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mes Cook was born______________England in 1728. The_____land-owner took______________in him and paid for his ___________.At the age of_____,he joined a ship.Cook learnt fast and quickly became a _____sea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1759 the French army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ity of Quebec, which stood high on a rock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t.Lawrence river. Cook went ___________ the river in order to______ all the dangerous rocks. Finally he was abl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warships to follow. He led the ship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river to a place where the British army could______safely and take the ene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fter a sho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French w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e city of Quebec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nor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ch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1981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048120"/>
            <a:ext cx="10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ar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a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l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105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tt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5486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f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e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3352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-What will you do after g__________ ?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My parents suggest that I should go to university first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It is a d__________ not to be able to keep the balance of natur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The villagers will carry out their plan with d___________ that they would cover the desert nearby with green trees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With many factories Shenyang is the centre of i_________area in Liaoning Provinc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Jane said she would be w______ to help us with our English in any way she could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533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ad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sadvan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ust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094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fter the war,Cook married and ________home.In1768 his big chance for a ________expedition came The navy was__________an expedition to the South Pacific Ocean_______the purpose of _________the planet Venus passing between the earth and the sun in 1769.Cook was to be__________   the expedition.He knew sailors often suffered fever and got sick because of the_______________fresh meat,fruit and vegetables.He therefore________the ship______litres of vinegar._____________the normal supplies,he took live animals. They_______________the Pacific in July1768.Cook’s diet of_______food kept most of the sailors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066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7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038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t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ound [v] does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s a terrible accident such as  an earthqu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wo policemen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lothes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came to the village in search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我们的足球队打败了亚洲的一些主队，这不是一件奇怪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3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078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l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4582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t is not a surprise that our football team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feated some major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Everyone was s______ by the sudden earthquake but nobody was killed with the help of the PLA me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old man looked very pale, and seemed to have s_________ a great deal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line of waiting people seemed to be e_________ before the ticket window and the Smiths had no choice but to stand in line patien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“Why m_______ water is good for heath?” little Tom asked his mothe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n China, many universities have i_________ of educatio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ff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666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791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stit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gb3u21" descr=""/>
          <p:cNvPicPr/>
          <p:nvPr/>
        </p:nvPicPr>
        <p:blipFill>
          <a:blip r:embed="rId1"/>
          <a:stretch/>
        </p:blipFill>
        <p:spPr>
          <a:xfrm>
            <a:off x="0" y="0"/>
            <a:ext cx="2803680" cy="268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71800" y="228600"/>
            <a:ext cx="6172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ritish explorer and navigator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James Cook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sailed around the world twice, made three voyages to the Pacific Ocean, and became the first European to visit Hawaii. Cook sailed to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Tahiti, New Zealand, Australia, Vancouver Island, and the Hawaiian Islands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where he was killed in a fight with islan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ptain C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gb3u22" descr=""/>
          <p:cNvPicPr/>
          <p:nvPr/>
        </p:nvPicPr>
        <p:blipFill>
          <a:blip r:embed="rId2"/>
          <a:stretch/>
        </p:blipFill>
        <p:spPr>
          <a:xfrm>
            <a:off x="0" y="4038480"/>
            <a:ext cx="2819520" cy="248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3809880"/>
            <a:ext cx="6019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e fight took place on the Sandwich Islands (now Hawaii) when the explorers and the islanders argued over the theft of a boat. Cook landed on the islands in 1778. This painting is by English artist John Webb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6202440"/>
            <a:ext cx="2590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(c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126120"/>
            <a:ext cx="2209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0481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124080"/>
            <a:ext cx="1447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0481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ed (worke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49800"/>
            <a:ext cx="4191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 (himself again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09588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1722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, 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281952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95480"/>
            <a:ext cx="1143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8195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0:32:42Z</dcterms:created>
  <dc:creator>w</dc:creator>
  <dc:description/>
  <dc:language>en-US</dc:language>
  <cp:lastModifiedBy>w</cp:lastModifiedBy>
  <dcterms:modified xsi:type="dcterms:W3CDTF">2004-08-05T16:26:20Z</dcterms:modified>
  <cp:revision>51</cp:revision>
  <dc:subject/>
  <dc:title>PowerPoint 演示文稿</dc:title>
</cp:coreProperties>
</file>