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27.gif" ContentType="image/gif"/>
  <Override PartName="/ppt/media/image7.png" ContentType="image/png"/>
  <Override PartName="/ppt/media/image12.png" ContentType="image/png"/>
  <Override PartName="/ppt/media/image28.gif" ContentType="image/gif"/>
  <Override PartName="/ppt/media/image8.png" ContentType="image/png"/>
  <Override PartName="/ppt/media/image9.png" ContentType="image/png"/>
  <Override PartName="/ppt/media/image16.jpeg" ContentType="image/jpeg"/>
  <Override PartName="/ppt/media/image13.gif" ContentType="image/gif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14.png" ContentType="image/png"/>
  <Override PartName="/ppt/media/image29.gif" ContentType="image/gif"/>
  <Override PartName="/ppt/media/image15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media/image30.gif" ContentType="image/gif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BBA4-8068-4896-886F-943FB6E5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4CA-F818-445A-9B8E-DEF1E684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0D14-055A-40DD-BCC7-6A7B4863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1E9B-43B5-4EF8-9955-86DCF6C0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1972-C928-45E1-B9B6-E279F307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2DE4-BB22-40A0-ACCD-05BA3685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EBC7-FC99-4EAF-AD16-76F691BF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D539-E8BD-474C-9195-5E7CAE53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298E-929D-459D-9D2D-1A6B0281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C972-31DD-407A-93B0-600A2C50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EA2C-5A5B-42E5-BCEF-FA684404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1D4B-2361-46F2-A58B-2230F1AF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42DF-7577-4846-B60B-D2F21860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0431-B4D2-43C3-B82A-0FA9ADC3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BB6F-44A2-49C8-A04F-935BBA08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65B1-DB65-4168-ACC9-BB2B52BF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214B-47B0-4FB4-9FAC-B2346C9C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594E-E1D0-4A46-B577-7E5D7BFC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FA77-E7F8-4601-9956-3533EFBE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F457-4B13-44DA-9E8B-98A1BC4B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9D1-9661-4FE6-8D43-C7618606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FFF2-5770-4899-BD55-4F0E67A2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0A89-DA81-4278-8C61-A717F5D0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F82-07B8-4B8A-ACDE-4AA52597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76BE-A4CF-41E4-A630-AF194065370F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8866-8F6D-4BCF-96E0-EEA74805ACC8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6.jpeg"/><Relationship Id="rId7" Type="http://schemas.openxmlformats.org/officeDocument/2006/relationships/image" Target="../media/image28.gif"/><Relationship Id="rId8" Type="http://schemas.openxmlformats.org/officeDocument/2006/relationships/image" Target="../media/image27.gif"/><Relationship Id="rId9" Type="http://schemas.openxmlformats.org/officeDocument/2006/relationships/image" Target="../media/image29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19520" y="2590920"/>
            <a:ext cx="4800600" cy="16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6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Lesson 7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6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observe (a day or event) with ceremonies of respect, festivity, or rejoic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720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celebra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7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hape, outline, or boundary of a co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8098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coastl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252440" y="1766880"/>
          <a:ext cx="7386840" cy="41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2440" y="1766880"/>
                    <a:ext cx="738684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371600" y="3808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Voyage(1768-177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Second Voyage(1772-1775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8080" y="1766880"/>
          <a:ext cx="7137360" cy="41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8080" y="1766880"/>
                    <a:ext cx="71373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Third Voyage(1776-1779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38080" y="1828800"/>
          <a:ext cx="7620120" cy="466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828800"/>
                    <a:ext cx="7620120" cy="46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8080" y="228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8380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ead the passage ,then fill in the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22096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2096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22096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2096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2666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209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2209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ime for sta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2096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What they did or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ah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2743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ree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27432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atch the planet Venus crossing in front of th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37339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44956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2578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6095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3733920"/>
            <a:ext cx="1752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New Zealand   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648320"/>
            <a:ext cx="1752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ustralia                      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                    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6095880"/>
            <a:ext cx="1600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sland of Java                       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5334120"/>
            <a:ext cx="17528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Great Barrier Reef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　　　　　　 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3809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6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3657600"/>
            <a:ext cx="4038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charted the coasts of the 2 is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44956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pped the east coast/ landed in Botany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54784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5257800"/>
            <a:ext cx="4038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uck a coral bed, not died/saved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29200" y="6172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ssed close by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7621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Listen and fol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1600200"/>
            <a:ext cx="83818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or 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Tahiti is separated by Cook Strait from New Zea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Other sailors had already charted the east coast of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They found a lot of strange animals in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A disaster happened when they passed by the island of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They returned to England by way of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27432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3657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4724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410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6019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38080" y="304920"/>
            <a:ext cx="784872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ain Cook’s expedition at last succeeded in achieving its purpose of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ding a new lan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 watching an unusual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charting the coasts of the new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 both A and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Cook charted the ______coast of Austral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west      B. north      C. east      D. s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RW_002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74" name="RW_002" descr=""/>
          <p:cNvPicPr/>
          <p:nvPr/>
        </p:nvPicPr>
        <p:blipFill>
          <a:blip r:embed="rId3"/>
          <a:stretch/>
        </p:blipFill>
        <p:spPr>
          <a:xfrm>
            <a:off x="4419720" y="5867280"/>
            <a:ext cx="7617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380880"/>
            <a:ext cx="8001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Captain Cook and his sailors found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. New Zealand            B.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Tasmania                   D. Botany B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What is not popular in Austral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Red soil              B. Climbing tree b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Kangaroo            D. P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RW_002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77" name="RW_002" descr=""/>
          <p:cNvPicPr/>
          <p:nvPr/>
        </p:nvPicPr>
        <p:blipFill>
          <a:blip r:embed="rId3"/>
          <a:stretch/>
        </p:blipFill>
        <p:spPr>
          <a:xfrm>
            <a:off x="3886200" y="4724280"/>
            <a:ext cx="762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90720" y="914400"/>
            <a:ext cx="85341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Paragraph 3 shows us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danger of sai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ain Cook’s cou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ain Cook’s clever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ain Cook’s d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RW_002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62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706320"/>
            <a:ext cx="83818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Trans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老板坚持要我把报告再检查一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人建议我们免费给老人们提供热水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我对谁将负责这项工程不感兴趣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那些水手熟练地把货物装到船上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7524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boss insisted that I (should)go over the report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9718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meone suggests us providing the elderly with hot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4343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 take no interest in who will take charge of the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5791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ose seamen loaded the goods  onto the ship skillfu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On the island of Tahiti in the Pacific Ocean, Cook’s expedition 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spent a period of six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spent three hard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watched the planet Venus passing between the earth and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found a new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0" y="4952880"/>
            <a:ext cx="304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ahoma"/>
              </a:rPr>
              <a:t>C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. New Zealand is separated from the other island by 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Cook Str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Botany B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he island of Tah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the Great Barrier Re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010280" y="3276720"/>
            <a:ext cx="51300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Verdana"/>
              </a:rPr>
              <a:t>A</a:t>
            </a:r>
            <a:endParaRPr b="1" lang="en-US" sz="2400" spc="1" strike="noStrike">
              <a:ln w="1260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3. Cook was the first to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sail to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map the coasts of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make Australia the foreign sett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chart the east coast of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523880" y="4952880"/>
            <a:ext cx="3621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D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4. The expedition passed ____ oceans in the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o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34120" y="3048120"/>
            <a:ext cx="6220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Impact"/>
              </a:rPr>
              <a:t>A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5. Which of the following you can’t see except in Australi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he coral b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A beautiful b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he bears which can climb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The birds that can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924680" y="4648320"/>
            <a:ext cx="381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entury Gothic"/>
              </a:rPr>
              <a:t>C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61760" y="188640"/>
            <a:ext cx="83818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 July they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set sai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again and headed south and west in search of a new land.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七月，他们两度启航，向南然后向西行驶，以寻找新的陆地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1337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sail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启航，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= sail, </a:t>
            </a:r>
            <a:r>
              <a:rPr b="1" lang="zh-CN" sz="3000" spc="-1" strike="noStrike">
                <a:solidFill>
                  <a:srgbClr val="000099"/>
                </a:solidFill>
                <a:latin typeface="Times New Roman"/>
              </a:rPr>
              <a:t>begin to sail 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set up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建立，竖起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up home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安家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out for sp. =  set off for sp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出发去某地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a clock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对表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about doing sth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开始做…着手做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541008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ip set sail for Af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in the morning, they set sail southw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33336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head  vi---advance;progress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朝向，走向，驶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114300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hurried off and headed north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匆忙离开朝北走了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ad sou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朝南走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u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等表方向的词，跟在动词后副词用，若作名词须加介词和冠词）如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alk to the eas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朝东走去 ； 后面还可接介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or /to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4419720"/>
            <a:ext cx="6119640" cy="24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ship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is heading f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/ toward Tianjin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船正驶往天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The train is heading </a:t>
            </a:r>
            <a:r>
              <a:rPr b="1" lang="zh-CN" sz="3000" spc="-1" strike="noStrike">
                <a:solidFill>
                  <a:srgbClr val="cc0000"/>
                </a:solidFill>
                <a:latin typeface="Times New Roman"/>
              </a:rPr>
              <a:t>for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Fosha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218960" y="380520"/>
            <a:ext cx="7670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search of = looking fo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寻找，搜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 in one's search f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1905120"/>
            <a:ext cx="6705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earch sb./sth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搜查（身、屋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earch for sb./sth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搜索、寻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look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4267080"/>
            <a:ext cx="7086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ent to many places in search of a doctor who could cure his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He searched many places for a doctor who could cure his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358128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他跑了很多地方，力求找到一个能为他治好病的医生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114300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uple went to town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n search of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oks their son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earched every bookstore in the town for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oks their son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484360" y="188640"/>
            <a:ext cx="616104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d… to be…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发现…是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时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 be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以省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Alice found the place to be a new and strange place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爱丽丝发现那个地方是一个新奇的地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ally, it was found to be a chea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最后才发现那是一个骗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43280" y="4076640"/>
            <a:ext cx="5257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find +it + adj. +to do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find +sth +adj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find + that-claus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242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3520" y="6095880"/>
            <a:ext cx="213336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t , b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6095880"/>
            <a:ext cx="14479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6019920"/>
            <a:ext cx="198144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on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14240" y="1173240"/>
            <a:ext cx="63054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pass close by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紧靠…经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Don’t pass close by the fire. It will burn your clothes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紧靠火堆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火会烧着你的衣服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26920" y="115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Language study</a:t>
            </a:r>
            <a:r>
              <a:rPr b="0" lang="zh-CN" sz="3200" spc="-1" strike="noStrike">
                <a:solidFill>
                  <a:srgbClr val="6600cc"/>
                </a:solidFill>
                <a:latin typeface="Times New Roman"/>
              </a:rPr>
              <a:t> ------  the –ing form as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6858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下面动词只能接动名词做宾语（不可接不定式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134136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dmit, avoid, appreciate, delay, deny, dislike, enjoy, excuse, escape, complete, finish, consider, imagine, keep, mind, miss, pardon, postpone, risk, suggest, fancy, understand, practise, forgive, disc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4038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llow sb to do sth  (permit, advise, consider, forbid, can’t help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510552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consider how/what…to do st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79132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consider/ think/ find/ feel/ make + it +adj. to do s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62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oceaniabora32sm" descr=""/>
          <p:cNvPicPr/>
          <p:nvPr/>
        </p:nvPicPr>
        <p:blipFill>
          <a:blip r:embed="rId2"/>
          <a:stretch/>
        </p:blipFill>
        <p:spPr>
          <a:xfrm>
            <a:off x="0" y="0"/>
            <a:ext cx="5029200" cy="3409920"/>
          </a:xfrm>
          <a:prstGeom prst="rect">
            <a:avLst/>
          </a:prstGeom>
          <a:ln w="0">
            <a:noFill/>
          </a:ln>
        </p:spPr>
      </p:pic>
      <p:pic>
        <p:nvPicPr>
          <p:cNvPr id="217" name="oceaniamoorea21sm" descr=""/>
          <p:cNvPicPr/>
          <p:nvPr/>
        </p:nvPicPr>
        <p:blipFill>
          <a:blip r:embed="rId3"/>
          <a:stretch/>
        </p:blipFill>
        <p:spPr>
          <a:xfrm>
            <a:off x="4648320" y="-19080"/>
            <a:ext cx="4495680" cy="3448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105520" y="48006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ceneries of Tah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oit%20dume%20after%20storm" descr=""/>
          <p:cNvPicPr/>
          <p:nvPr/>
        </p:nvPicPr>
        <p:blipFill>
          <a:blip r:embed="rId4"/>
          <a:stretch/>
        </p:blipFill>
        <p:spPr>
          <a:xfrm>
            <a:off x="0" y="3386160"/>
            <a:ext cx="46483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wineglass%20Tasmania" descr=""/>
          <p:cNvPicPr/>
          <p:nvPr/>
        </p:nvPicPr>
        <p:blipFill>
          <a:blip r:embed="rId2"/>
          <a:stretch/>
        </p:blipFill>
        <p:spPr>
          <a:xfrm>
            <a:off x="1828800" y="0"/>
            <a:ext cx="527364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16292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asm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flower6" descr=""/>
          <p:cNvPicPr/>
          <p:nvPr/>
        </p:nvPicPr>
        <p:blipFill>
          <a:blip r:embed="rId3"/>
          <a:stretch/>
        </p:blipFill>
        <p:spPr>
          <a:xfrm>
            <a:off x="7924680" y="6118200"/>
            <a:ext cx="121932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482400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James Cook was a very skilled seaman. He was famous for making an ___________ to the South Pacific Ocean. In July 1768, Cook and his sailors took an old but strong _______ named </a:t>
            </a:r>
            <a:r>
              <a:rPr b="0" i="1" lang="zh-CN" sz="3200" spc="-1" strike="noStrike">
                <a:solidFill>
                  <a:srgbClr val="000000"/>
                </a:solidFill>
                <a:latin typeface="Tahoma"/>
              </a:rPr>
              <a:t>Endeavou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to _______ out for the Pacific in _________ to find a new continent. The ship carried a total of 9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xpe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41911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, ___________ scientists. It w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ly a very hard journey for th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_ the expedition, 38 peo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d ______ diseases. In April 1769 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 at the beautiful island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hiti in the Pacific Ocean. They 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for three months. And then they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 again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1828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nclu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2895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Du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34290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39625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rriv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81680" y="4495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tay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55627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ded south and west _____ search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new land. They finally reached N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aland ______ spent six months the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that they sailed west to 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________ the east coast of Australi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found Australia to be 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tonishing country. Next they sailed 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______ co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1500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6880" y="2819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00800" y="33526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38862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mapp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4419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99036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the expedition nearly ended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aster. The ship struck a coral b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_______ a large hole in the sid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hip. But Cook’s quick thin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 the expedition. Then 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sed close ______ the island of Ja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returned by the southern point 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rica. In July 1771 they successfu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2743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t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3809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av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4343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01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ived back _____ England. The who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ntry celebrated their _________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outh Pacific. So James Cook beca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ero of the 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760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22860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retu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81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me of the __________ on the ship had special jobs.The captain of the boat had a lot of ________. He could order sailors to be kept in chains or _________ if they did not _______ his orders. The master’s job was to set the ________ for the ship by the sun and the stars. There was a doctor on board who _________ the men’s illnesses and wounds . the gunner looked after the guns and the iron balls for the guns. A wood worker stopped any _______ in the sides of the ship and carried out any necessary ________ to the woodwork , the sailmaker repaired sails and made new sails when necessary. Another sailor was in ________ of the ship’s stores and gave the sailors their orders. The _______ did the cooking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43200" y="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ailor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53352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w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99072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ate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14479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be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33720" y="19810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urs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2438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at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388620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ole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24280" y="4419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pair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86600" y="541008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arg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6248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o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908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3520" y="2666880"/>
            <a:ext cx="19810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2819520"/>
            <a:ext cx="23623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(disas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2666880"/>
            <a:ext cx="16765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eb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973840"/>
            <a:ext cx="16765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s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5943600"/>
            <a:ext cx="9907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59436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they enjoyed a happy stay of three mon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41148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re they spent three happy mon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inued their jour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veled in a southerly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look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24382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et sail ag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35812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eaded sou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4876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search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d already made maps of the co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map of the east co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243828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ad already charted parts of the ….   coa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4343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p the east co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oala bears spend most of their lives in eucalyptus trees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桉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angar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31240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ears climbed 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49528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arge animals … stomach poc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ongest coral reef in the world, off the Northeast coast of Australia. It is 2, 000 km 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the boat would float higher in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34290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 Great Barrier Ree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5029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o raise the boat in the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pulled the boat up onto the sh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ok’s quick 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2666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y beached the ship on the sh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4956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ook’s quick thin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iled close to the island of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then returned to England by passing the southern point of 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25909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assed close by the island of 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47242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nd then returned by the southern point of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 is an organized journey with a particular purpose such as exploration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探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 you know the time when the national flag will b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 tomorrow morn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, your body temperature is higher than us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0" y="1676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xpe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8128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i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3848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 is a person who buys and sells goods for making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f you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 someone or something, you try to protect them against dan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 is a ship with guns and other equipment needed for fighting in w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sound [v] doesn’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 in Chin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17524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rch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2895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f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33720" y="40384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5181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x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 is a terrible accident such as an earthquake or an air crash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飞机失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was not a surprise that our football team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 some major teams in 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day when Hong Kong returned to China is worth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33720" y="1752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sas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3581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fe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19720" y="5029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lebr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1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narrow channel joining two larger bodies of wa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373392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strai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noun form of sick is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wo policemen i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 clothes came to the village i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 of the lost gi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 tea time in the afternoon, you can drink tea and eat som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43600" y="1752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ck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24382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19720" y="2971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a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91320" y="4038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scu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93824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80880" y="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ep3 :Retell the whole stor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382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9917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93824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93824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839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93824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93824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fire0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6" name="7" descr="7.gif (17053 字节)"/>
          <p:cNvPicPr/>
          <p:nvPr/>
        </p:nvPicPr>
        <p:blipFill>
          <a:blip r:embed="rId3"/>
          <a:stretch/>
        </p:blipFill>
        <p:spPr>
          <a:xfrm>
            <a:off x="3886200" y="2749680"/>
            <a:ext cx="1371600" cy="1360440"/>
          </a:xfrm>
          <a:prstGeom prst="rect">
            <a:avLst/>
          </a:prstGeom>
          <a:ln w="0">
            <a:noFill/>
          </a:ln>
        </p:spPr>
      </p:pic>
      <p:pic>
        <p:nvPicPr>
          <p:cNvPr id="327" name="7" descr="7.gif (17053 字节)"/>
          <p:cNvPicPr/>
          <p:nvPr/>
        </p:nvPicPr>
        <p:blipFill>
          <a:blip r:embed="rId4"/>
          <a:stretch/>
        </p:blipFill>
        <p:spPr>
          <a:xfrm>
            <a:off x="3886200" y="2749680"/>
            <a:ext cx="1371600" cy="1360440"/>
          </a:xfrm>
          <a:prstGeom prst="rect">
            <a:avLst/>
          </a:prstGeom>
          <a:ln w="0">
            <a:noFill/>
          </a:ln>
        </p:spPr>
      </p:pic>
      <p:pic>
        <p:nvPicPr>
          <p:cNvPr id="328" name="7" descr="7.gif (17053 字节)"/>
          <p:cNvPicPr/>
          <p:nvPr/>
        </p:nvPicPr>
        <p:blipFill>
          <a:blip r:embed="rId5"/>
          <a:stretch/>
        </p:blipFill>
        <p:spPr>
          <a:xfrm>
            <a:off x="3886200" y="2749680"/>
            <a:ext cx="1371600" cy="1360440"/>
          </a:xfrm>
          <a:prstGeom prst="rect">
            <a:avLst/>
          </a:prstGeom>
          <a:ln w="0">
            <a:noFill/>
          </a:ln>
        </p:spPr>
      </p:pic>
      <p:pic>
        <p:nvPicPr>
          <p:cNvPr id="329" name="fire06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0" name="2" descr="2.gif (8966 字节)"/>
          <p:cNvPicPr/>
          <p:nvPr/>
        </p:nvPicPr>
        <p:blipFill>
          <a:blip r:embed="rId7"/>
          <a:stretch/>
        </p:blipFill>
        <p:spPr>
          <a:xfrm>
            <a:off x="3962520" y="297180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331" name="7" descr="7.gif (17053 字节)"/>
          <p:cNvPicPr/>
          <p:nvPr/>
        </p:nvPicPr>
        <p:blipFill>
          <a:blip r:embed="rId8"/>
          <a:stretch/>
        </p:blipFill>
        <p:spPr>
          <a:xfrm>
            <a:off x="1295280" y="3352680"/>
            <a:ext cx="1371600" cy="1360440"/>
          </a:xfrm>
          <a:prstGeom prst="rect">
            <a:avLst/>
          </a:prstGeom>
          <a:ln w="0">
            <a:noFill/>
          </a:ln>
        </p:spPr>
      </p:pic>
      <p:pic>
        <p:nvPicPr>
          <p:cNvPr id="332" name="6" descr="6.gif (22983 字节)"/>
          <p:cNvPicPr/>
          <p:nvPr/>
        </p:nvPicPr>
        <p:blipFill>
          <a:blip r:embed="rId9"/>
          <a:stretch/>
        </p:blipFill>
        <p:spPr>
          <a:xfrm>
            <a:off x="7467480" y="3505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33" name="3" descr="3.gif (41629 字节)"/>
          <p:cNvPicPr/>
          <p:nvPr/>
        </p:nvPicPr>
        <p:blipFill>
          <a:blip r:embed="rId10"/>
          <a:stretch/>
        </p:blipFill>
        <p:spPr>
          <a:xfrm>
            <a:off x="228600" y="30492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124080" y="4114800"/>
            <a:ext cx="297180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Good Bye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2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cience or study of plan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3809880"/>
            <a:ext cx="350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botan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3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fill with sudden wonder or amazem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8098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astoni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4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 occurrence causing widespread destruction and distress; a catastroph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457200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disas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5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personnel operating or serving aboard a shi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8862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cr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9:35:31Z</dcterms:created>
  <dc:creator>Benny Lee</dc:creator>
  <dc:description/>
  <dc:language>en-US</dc:language>
  <cp:lastModifiedBy>w</cp:lastModifiedBy>
  <dcterms:modified xsi:type="dcterms:W3CDTF">2004-08-12T08:15:54Z</dcterms:modified>
  <cp:revision>39</cp:revision>
  <dc:subject/>
  <dc:title>PowerPoint 演示文稿</dc:title>
</cp:coreProperties>
</file>