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gif" ContentType="image/gif"/>
  <Override PartName="/ppt/media/image1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image10.wmf" ContentType="image/x-wmf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D44-E509-463B-80D9-0D564CF5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45F-D859-450B-862F-5228162B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D76-AD4C-46A9-BF2E-F5FC7DBA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81F-B994-4049-AD41-A2CC4A7B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CC0D-7EE0-4F00-B3EF-F3789D43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58F4-1E45-4833-8247-0615F048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3E39-16D9-49B9-A0FA-C466D22E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3CC8-35CD-4814-84FB-D17DDF94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553F-C258-4153-89BC-D4C05E0E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8879-4ADF-4638-83EC-1580F853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1931-D08E-4545-8367-D384C92B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FCB-D330-456F-B6D4-6784720C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E779-DB02-4937-B57D-8B93ABB3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D49D-27A2-4679-98F4-5CE7429C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0B69-A48B-4AA0-B0DE-22F99C43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F681-08F4-4A94-8F3F-D82FC9FE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E8CE-38CF-4E58-A45C-DB6517CF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36A-D74A-4292-A7AC-E724083C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4EF3-353B-40C6-BF10-5F4D6DCD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354-82BA-4E24-8628-9067EF56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CF8-4A76-4783-9BC5-FFE94ACB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D42-1685-49A2-875E-F14F5F7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C58-2078-4CD2-B830-00957805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BF9-5618-44A6-B08C-09676E09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656A-92C1-4D11-941C-F54D59EB22E2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80B6-BDBD-4C91-8405-490C553F7209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124080" y="685800"/>
            <a:ext cx="2667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Weather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032" descr=""/>
          <p:cNvPicPr/>
          <p:nvPr/>
        </p:nvPicPr>
        <p:blipFill>
          <a:blip r:embed="rId1"/>
          <a:stretch/>
        </p:blipFill>
        <p:spPr>
          <a:xfrm>
            <a:off x="2895480" y="2666880"/>
            <a:ext cx="4419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1116360"/>
            <a:ext cx="737856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1905120"/>
            <a:ext cx="62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-by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27" name="118" descr=""/>
          <p:cNvPicPr/>
          <p:nvPr/>
        </p:nvPicPr>
        <p:blipFill>
          <a:blip r:embed="rId1"/>
          <a:stretch/>
        </p:blipFill>
        <p:spPr>
          <a:xfrm>
            <a:off x="5562720" y="762120"/>
            <a:ext cx="4765680" cy="6264000"/>
          </a:xfrm>
          <a:prstGeom prst="rect">
            <a:avLst/>
          </a:prstGeom>
          <a:ln w="0">
            <a:noFill/>
          </a:ln>
        </p:spPr>
      </p:pic>
      <p:pic>
        <p:nvPicPr>
          <p:cNvPr id="328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  <p:pic>
        <p:nvPicPr>
          <p:cNvPr id="329" name="SO00483_" descr=""/>
          <p:cNvPicPr/>
          <p:nvPr/>
        </p:nvPicPr>
        <p:blipFill>
          <a:blip r:embed="rId3"/>
          <a:stretch/>
        </p:blipFill>
        <p:spPr>
          <a:xfrm>
            <a:off x="8153280" y="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330" name="FD00306_" descr=""/>
          <p:cNvPicPr/>
          <p:nvPr/>
        </p:nvPicPr>
        <p:blipFill>
          <a:blip r:embed="rId4"/>
          <a:stretch/>
        </p:blipFill>
        <p:spPr>
          <a:xfrm>
            <a:off x="762120" y="4191120"/>
            <a:ext cx="4043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Yes . I’d like to bye two tickets for Shanghai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. ___________________________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Next Friday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Let me see. FlighCA982____________.     There are still tickets for you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_________. __________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4" name="TR00116_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849600" cy="1268280"/>
          </a:xfrm>
          <a:prstGeom prst="rect">
            <a:avLst/>
          </a:prstGeom>
          <a:ln w="0">
            <a:noFill/>
          </a:ln>
        </p:spPr>
      </p:pic>
      <p:pic>
        <p:nvPicPr>
          <p:cNvPr id="295" name="BL00526_" descr=""/>
          <p:cNvPicPr/>
          <p:nvPr/>
        </p:nvPicPr>
        <p:blipFill>
          <a:blip r:embed="rId2"/>
          <a:stretch/>
        </p:blipFill>
        <p:spPr>
          <a:xfrm>
            <a:off x="6400800" y="495288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ew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ovel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cold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t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sh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i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可爱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冷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热的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钓鱼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他（ 宾格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再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晴朗的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lovely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44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It’s a lovely day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Yes, it is. Nice and sunny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791320" y="2214360"/>
            <a:ext cx="29764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NA01064_" descr=""/>
          <p:cNvPicPr/>
          <p:nvPr/>
        </p:nvPicPr>
        <p:blipFill>
          <a:blip r:embed="rId1"/>
          <a:stretch/>
        </p:blipFill>
        <p:spPr>
          <a:xfrm>
            <a:off x="5383080" y="1600200"/>
            <a:ext cx="3760920" cy="4040280"/>
          </a:xfrm>
          <a:prstGeom prst="rect">
            <a:avLst/>
          </a:prstGeom>
          <a:ln w="0">
            <a:noFill/>
          </a:ln>
        </p:spPr>
      </p:pic>
      <p:pic>
        <p:nvPicPr>
          <p:cNvPr id="303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old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4981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It’s cold, isn’t it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ffff"/>
                </a:solidFill>
                <a:latin typeface="Times New Roman"/>
              </a:rPr>
              <a:t>Yes 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40160" y="23619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7" name="SO00305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59360" cy="3460680"/>
          </a:xfrm>
          <a:prstGeom prst="rect">
            <a:avLst/>
          </a:prstGeom>
          <a:ln w="0">
            <a:noFill/>
          </a:ln>
        </p:spPr>
      </p:pic>
      <p:pic>
        <p:nvPicPr>
          <p:cNvPr id="308" name="039" descr=""/>
          <p:cNvPicPr/>
          <p:nvPr/>
        </p:nvPicPr>
        <p:blipFill>
          <a:blip r:embed="rId2"/>
          <a:stretch/>
        </p:blipFill>
        <p:spPr>
          <a:xfrm>
            <a:off x="3400560" y="2879640"/>
            <a:ext cx="2342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ho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It’s hot, </a:t>
            </a: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isn’t it</a:t>
            </a: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66"/>
                </a:solidFill>
                <a:latin typeface="Times New Roman"/>
              </a:rPr>
              <a:t>Yes, 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63960" y="2214360"/>
            <a:ext cx="39038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E00542_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3413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a little windy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53625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Lovely weather, isn’t it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Yes. But a little windy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5880" y="2209680"/>
            <a:ext cx="2671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l1523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5146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  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a lovely day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2.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a nice d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42958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It’s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</a:rPr>
              <a:t>a fine day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, isn’t i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Look, he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’s fishing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28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34120" y="2214360"/>
            <a:ext cx="34336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0" name="l1522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42900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83808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_______________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Yes,it is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Where’s Mr Brown 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Look,____________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A: Thank you. I’ll join 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him</a:t>
            </a: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. Bye 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B: Bye-bye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SO00483_" descr=""/>
          <p:cNvPicPr/>
          <p:nvPr/>
        </p:nvPicPr>
        <p:blipFill>
          <a:blip r:embed="rId1"/>
          <a:stretch/>
        </p:blipFill>
        <p:spPr>
          <a:xfrm>
            <a:off x="7696080" y="533520"/>
            <a:ext cx="184464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FD00414_" descr=""/>
          <p:cNvPicPr/>
          <p:nvPr/>
        </p:nvPicPr>
        <p:blipFill>
          <a:blip r:embed="rId2"/>
          <a:stretch/>
        </p:blipFill>
        <p:spPr>
          <a:xfrm>
            <a:off x="0" y="6000840"/>
            <a:ext cx="790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3T13:35:59Z</dcterms:created>
  <dc:creator>jxh</dc:creator>
  <dc:description/>
  <dc:language>en-US</dc:language>
  <cp:lastModifiedBy>jxh</cp:lastModifiedBy>
  <dcterms:modified xsi:type="dcterms:W3CDTF">2001-12-23T15:17:58Z</dcterms:modified>
  <cp:revision>3</cp:revision>
  <dc:subject/>
  <dc:title>PowerPoint 演示文稿</dc:title>
</cp:coreProperties>
</file>