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gif" ContentType="image/gif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F5A2-F58D-4830-BF87-8E8A5A90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5EC-9F65-4D9F-BA41-D7B1F988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B0E-10A4-4AB8-8435-82BAAFDD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6648-25E2-43D4-AEE9-DA8DEB1C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D7D3-4371-47F0-8586-CB76835E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E794-E7B5-4BA5-8A1A-C5E55783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8689-7B80-4F45-8DD9-2CC8BB80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E75-55E7-4985-BA7B-0A192C10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557-33F2-469B-99A1-8EF00E8A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115B-575F-4F3F-AFE6-A38FC5BD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93F-6EA2-441D-8206-BACD88C3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1007-A9C8-4180-8061-F33F2C52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AFDB-B525-4D16-B1D1-116FB6CCE0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4400" y="990720"/>
            <a:ext cx="805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Unit 1 Tales of the unexpla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75360" y="2681280"/>
            <a:ext cx="38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Book Antiqua"/>
              </a:rPr>
              <a:t>Word Po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5628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江安中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5486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刘文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8000" y="650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614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65920" y="533520"/>
            <a:ext cx="648828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explor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ation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: 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勘探，勘查，探索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pace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il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362320" y="10663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616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36120" y="4343400"/>
            <a:ext cx="257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.g.   organ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4648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42973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gan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48308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l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4876920"/>
            <a:ext cx="167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l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2000" y="2276640"/>
            <a:ext cx="8101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explor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: v.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勘探，勘查，探索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 Upon arriving on the island, we were eag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plore.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一到岛上就急不可耐地考察起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320" y="380880"/>
            <a:ext cx="9144000" cy="61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Good afternoon, everyone. I’m so gla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o be here to tell you something abou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uter spac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pace exploration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Space explor -ation began in 1957 with th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of the fir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rtificial satellit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nmanned spaceships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have been launched into space since 1959. By 1961, people wer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rbiting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the Earth. Yuri Gagarin from the former Soviet Union become the first human being to travel in space.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2040" y="425520"/>
            <a:ext cx="873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</a:t>
            </a: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Read the first part of the speech and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the time line of the main events mentio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66680" y="1752480"/>
          <a:ext cx="7391520" cy="3835440"/>
        </p:xfrm>
        <a:graphic>
          <a:graphicData uri="http://schemas.openxmlformats.org/drawingml/2006/table">
            <a:tbl>
              <a:tblPr/>
              <a:tblGrid>
                <a:gridCol w="1524240"/>
                <a:gridCol w="58672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00"/>
                          </a:solidFill>
                          <a:latin typeface="Courier New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2727360" y="2631960"/>
            <a:ext cx="9543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New"/>
                <a:hlinkClick r:id="rId2" action="ppaction://hlinksldjump"/>
              </a:rPr>
              <a:t>launch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Courier New"/>
              </a:rPr>
              <a:t> of the fir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artificial satel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657600"/>
            <a:ext cx="48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unmanned spaceship…  launch into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0160" y="4724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New"/>
                <a:hlinkClick r:id="rId3" action="ppaction://hlinksldjump"/>
              </a:rPr>
              <a:t>orbit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Courier New"/>
              </a:rPr>
              <a:t>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" y="685800"/>
            <a:ext cx="906768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launch: n.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航天器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;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品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上市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4890960"/>
            <a:ext cx="2057400" cy="1677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14600" y="140184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 the successful launch of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01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duct lau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819520"/>
            <a:ext cx="630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v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;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把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航天器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上天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3733920"/>
            <a:ext cx="655308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Does everyone know how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unch a spaceshi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616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-152280" y="457200"/>
            <a:ext cx="90676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orbit: v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绕轨道运行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围绕…运动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e.g. The earth takes a year to 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orbit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the sun.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1905120"/>
            <a:ext cx="807732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(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天体等运行的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轨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earth’s 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rbit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round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50292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733920"/>
            <a:ext cx="7467480" cy="22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 new satellite has been 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Times New Roman"/>
              </a:rPr>
              <a:t>put into orb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round the earth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颗新的人造卫星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送上了环绕地球的轨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312408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 space station 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in orbi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round the mo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83357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9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2880" cy="6553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638680" y="762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1386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launch t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2452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unch 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3352680"/>
            <a:ext cx="3657600" cy="1981440"/>
          </a:xfrm>
          <a:prstGeom prst="wedgeEllipseCallout">
            <a:avLst>
              <a:gd name="adj1" fmla="val -110675"/>
              <a:gd name="adj2" fmla="val 9326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581280"/>
            <a:ext cx="33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 platform from which a space shuttle is sent into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23720" y="1066680"/>
            <a:ext cx="2590920" cy="1524240"/>
          </a:xfrm>
          <a:prstGeom prst="line">
            <a:avLst/>
          </a:prstGeom>
          <a:ln w="7632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9680" y="5105520"/>
            <a:ext cx="69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lifts the space shuttle into sp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5729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roc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362320"/>
            <a:ext cx="8458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5105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4724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" y="217440"/>
            <a:ext cx="883908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What happens to the two rockets after they separate from the space shuttle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60020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l into the sea and a ship will pick them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867280" y="2209680"/>
            <a:ext cx="2743200" cy="1524240"/>
          </a:xfrm>
          <a:prstGeom prst="cloudCallout">
            <a:avLst>
              <a:gd name="adj1" fmla="val -97745"/>
              <a:gd name="adj2" fmla="val 11895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2620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racking 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920" y="6480"/>
            <a:ext cx="88390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 </a:t>
            </a:r>
            <a:r>
              <a:rPr b="1" i="1" lang="en-US" sz="2400" spc="-1" strike="noStrike">
                <a:solidFill>
                  <a:srgbClr val="3333cc"/>
                </a:solidFill>
                <a:latin typeface="Century Gothic"/>
              </a:rPr>
              <a:t>Read the speech and fill in the blanks using words we learn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990720"/>
          <a:ext cx="8763120" cy="564012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56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guess some of you are dreaming of becoming an _____  and traveling to _____ to carry out _______. If this comes true, you’ll probably travel by ____, a spaceship that looks like an aeroplane. Two _____ supposed by a launch tower will lift the space shuttle into space. Some time after the rockets and the space shuttle are ______, the rockets will separate from the space shuttle and fall into the sea. Then a ship will pick them up. Astronauts will do their research in a base in outer space shuttle called _______. Sometimes they go out of their space shuttle to take a _______. In outer space astronauts cannot take off their _____, which protect them and provide oxygen. In 1965, Alexei Leonov from the former Soviet Union became the first human being to take a walk in spa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842160" y="17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488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608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553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0552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o is sh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1187280"/>
            <a:ext cx="4267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 beauty named Chang’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 the mo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3048120"/>
            <a:ext cx="4419720" cy="2971800"/>
          </a:xfrm>
          <a:prstGeom prst="cloudCallout">
            <a:avLst>
              <a:gd name="adj1" fmla="val -50217"/>
              <a:gd name="adj2" fmla="val -8808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352680"/>
            <a:ext cx="35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ory about Chang’e told us that we human beings had been dreaming of traveling to space for thousands of y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18120" y="303120"/>
            <a:ext cx="68313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         space explora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                space shutt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tower       rocket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pad          astronau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racking ship      spacesui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walk           space s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4920" y="76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280" y="380880"/>
          <a:ext cx="8915400" cy="6310440"/>
        </p:xfrm>
        <a:graphic>
          <a:graphicData uri="http://schemas.openxmlformats.org/drawingml/2006/table">
            <a:tbl>
              <a:tblPr/>
              <a:tblGrid>
                <a:gridCol w="8915400"/>
              </a:tblGrid>
              <a:tr h="63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guess some of you are dreaming of becoming an________ and traveling to ______ to carry out _________________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f this comes true, you’ll probably travel by ____________, a spaceship that looks like an aeroplane. Two ______ supported by a launch tower will lift the space shuttle into space. Some time after the rockets and the space shuttle are ________,  the rockets will separate from the space shuttle and fall into the sea. Then a ship will pick them up. Astronauts will do their research in a base in outer space  called ___________. Sometimes they go out of their space shuttle to take a _________. In outer space astronauts cannot take off their _________, which protect them and provide oxygen. In 1965, Alexei Leonov from the former Soviet Union became the first human being to take a walk in spa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7697880" y="380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stron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87400" y="762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76212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53720" y="114300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shu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7600" y="1523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7720" y="26319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aun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16720" y="380988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57440" y="41911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74840" y="4572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s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14400" y="11430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722600"/>
            <a:ext cx="914400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oday, most importa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lanets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been examined. Photos have been taken a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amples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been collected from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ets, but no evidence of life has been discovered on any of the planets so far. Scientific research still continu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6094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Century Gothic"/>
              </a:rPr>
              <a:t>Today’s space explo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62120" y="3049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entury Gothic"/>
              </a:rPr>
              <a:t>nine planets in the solar syste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13716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arth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12952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upiter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木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ercury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ars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火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3276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eptune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luto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冥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4343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enus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42670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aturn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土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51814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ranus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25146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0" y="5334120"/>
          <a:ext cx="9144000" cy="13716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76320" y="5486400"/>
            <a:ext cx="3045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3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1600" y="541008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536400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Jupi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0640" y="5424480"/>
            <a:ext cx="16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rcu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8000" y="5410080"/>
            <a:ext cx="12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9320" y="541008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ptu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6049800"/>
            <a:ext cx="12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lu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10760" y="6049800"/>
            <a:ext cx="13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en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840" y="604980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tu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640" y="6049800"/>
            <a:ext cx="15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ran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3124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22860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2666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120" y="545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184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892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600200" y="685800"/>
            <a:ext cx="5715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752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Gothic"/>
              </a:rPr>
              <a:t>Thank you!</a:t>
            </a:r>
            <a:endParaRPr b="0" lang="en-US" sz="2400" spc="1" strike="noStrike">
              <a:ln w="4752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90360" y="658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236710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820480" y="243000"/>
            <a:ext cx="294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suit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10080" y="1170000"/>
            <a:ext cx="3429000" cy="523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6252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4640" y="152280"/>
            <a:ext cx="258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strona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80880" y="114300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6019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69.7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11280" y="4890960"/>
            <a:ext cx="290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wal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3124080" cy="3260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05520" y="2590920"/>
            <a:ext cx="323856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76720" y="533520"/>
            <a:ext cx="32763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25080" y="5765760"/>
            <a:ext cx="356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 s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505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3505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267080" y="3505320"/>
            <a:ext cx="4876920" cy="3124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920" y="4343400"/>
            <a:ext cx="34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 shutt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27612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94000" y="-101520"/>
            <a:ext cx="27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62520" y="3581280"/>
            <a:ext cx="4190760" cy="235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952880" y="76320"/>
            <a:ext cx="3276720" cy="3352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9480" y="914400"/>
            <a:ext cx="32767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228600"/>
            <a:ext cx="807732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5067360"/>
            <a:ext cx="1981080" cy="1485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867280" y="1066680"/>
            <a:ext cx="152640" cy="1371600"/>
          </a:xfrm>
          <a:custGeom>
            <a:avLst/>
            <a:gdLst>
              <a:gd name="textAreaLeft" fmla="*/ 97560 w 152640"/>
              <a:gd name="textAreaRight" fmla="*/ 15300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106668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838080"/>
            <a:ext cx="74678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    spaceman            space s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suit              space shu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ship             outer space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41316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空间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空地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4800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张桌子占据了太多的空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21276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地球大气以外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41148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The desk takes up too much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2362320"/>
            <a:ext cx="929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Space explorati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09:44:50Z</dcterms:created>
  <dc:creator>英语组02</dc:creator>
  <dc:description/>
  <dc:language>en-US</dc:language>
  <cp:lastModifiedBy>SEC</cp:lastModifiedBy>
  <dcterms:modified xsi:type="dcterms:W3CDTF">2005-11-06T23:22:57Z</dcterms:modified>
  <cp:revision>63</cp:revision>
  <dc:subject/>
  <dc:title>PowerPoint 演示文稿</dc:title>
</cp:coreProperties>
</file>