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jpeg" ContentType="image/jpeg"/>
  <Override PartName="/ppt/media/image13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781-0939-480B-AF0E-687D32B2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5B4-7EF4-46F5-BE5E-E3ED63AC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C9B-09E8-4290-8129-5E6BD45A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93D-CDA7-4F56-8832-C77AAD84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8F9D-8BA2-4C73-9A61-249F0DEF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2D3A-31B3-4091-A915-93D64BA8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0CC2-EA02-4C5B-BDDB-EE240710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7EBD-773D-4523-A5A5-2DC4FD91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5B17-9965-4E34-B653-5FC50620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DE84-5F72-41E4-9D61-9B6C5EAA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E1E2-3A3F-4C49-A173-DC39FD5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C43-9D28-4A64-AA92-AD8C57BD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A83F-21F1-4263-87F8-09330967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358F-7FAD-4876-A020-7CE57F66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0299-CA3F-4940-A2CD-00010834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FDE2-9451-4474-A30F-DDCD6833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0857-BFBA-4263-8E5E-EF3D7BC3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4CA9-AB0B-419E-BF95-4D10946D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6F20-2370-4BC5-AB2A-D9EFE196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A54E-D3D0-442D-9D9D-5DB4793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2228-55C8-4896-A452-6CF5F5C0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C151-9D9C-4A2B-A323-A0CB53F6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211-003C-475F-AD5B-9FB82D24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8CA3-4D77-4BC2-AD8E-B3C3AED4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9F4D-3195-4A8A-9D26-64A65EE0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3222-63D4-4A61-A392-5FA8F18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125E-6A93-461A-A316-4D14EF2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4480-A3B0-4F4C-9338-B2670EA4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393E-45D6-4E25-8863-74BA4FA7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B414-A216-4898-BE8F-C079B159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5018C-FEFB-4582-8BB7-D2EBE959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5A82-C004-43B8-9E34-63C3EF6F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F1EB5-10ED-44B0-90C5-1BF1BE7A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449-4366-4D5B-B450-B60D13CF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2AFB-07B3-4D75-9DEB-2C48CD25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FC6F-0E21-44C5-B95A-BC7A3B91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578B-3923-4DC0-B52F-6B489775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3A7B-D20E-41FB-81CD-18F4CF3C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2109D-CCC4-4F95-A90C-DC973D0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8CCCD-6458-48F7-BA16-BDFE46C9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4059-598B-4069-B354-B3FCFDB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8119-6AFD-4CCF-9D60-3403E567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06EC7-62FD-438E-9092-EFD231AD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26E-D3FE-49B5-9CC0-4B8E5EF7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967-4ED8-4529-A5AF-625FBF9E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AB3-8C58-4F55-B90E-58BBE42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675-3641-46AF-BA17-721D01F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F5C-25BF-4108-AE82-E4C8B38D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4036-92C8-4690-B182-49F127DC55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08E-24CE-40EA-BF88-31D63E9E3A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A08E-83E9-4F7D-8057-A3060207EE1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5ADB-2B46-47B6-9630-BF185BCCDAF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34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石庄高级中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03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cc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95280" y="1447920"/>
          <a:ext cx="2590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8600" y="48006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ustin Foster, a fifteen-year-old boy,was missing two days ago i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ver, New Hampshire. Maybe he was taken away by alien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95280" y="620280"/>
            <a:ext cx="8480160" cy="5943960"/>
            <a:chOff x="395280" y="620280"/>
            <a:chExt cx="8480160" cy="5943960"/>
          </a:xfrm>
        </p:grpSpPr>
        <p:sp>
          <p:nvSpPr>
            <p:cNvPr id="290" name=""/>
            <p:cNvSpPr/>
            <p:nvPr/>
          </p:nvSpPr>
          <p:spPr>
            <a:xfrm flipV="1">
              <a:off x="395280" y="2068200"/>
              <a:ext cx="4496040" cy="44956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381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3320" y="222084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first part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6320" y="313524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rest par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43720" y="2525760"/>
              <a:ext cx="8380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5280" y="4049640"/>
              <a:ext cx="114300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120" y="2297160"/>
              <a:ext cx="28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ain topic and the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ost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2440" y="3786120"/>
              <a:ext cx="38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new but less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520" y="3059280"/>
              <a:ext cx="3504960" cy="0"/>
            </a:xfrm>
            <a:prstGeom prst="line">
              <a:avLst/>
            </a:prstGeom>
            <a:ln w="2844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8" name="PlaceHolder 1"/>
            <p:cNvSpPr>
              <a:spLocks noGrp="1"/>
            </p:cNvSpPr>
            <p:nvPr>
              <p:ph type="title"/>
            </p:nvPr>
          </p:nvSpPr>
          <p:spPr>
            <a:xfrm>
              <a:off x="547920" y="620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A typical news story is written in an inverted pyramid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format.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66ff"/>
                  </a:solidFill>
                  <a:latin typeface="Times New Roman"/>
                </a:rPr>
                <a:t>倒金字塔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i="1" lang="en-US" sz="2400" spc="-1" strike="noStrike">
                <a:solidFill>
                  <a:srgbClr val="7952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22896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ad the news story and finish the following exercise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00000" y="3068640"/>
          <a:ext cx="6858000" cy="3376440"/>
        </p:xfrm>
        <a:graphic>
          <a:graphicData uri="http://schemas.openxmlformats.org/drawingml/2006/table">
            <a:tbl>
              <a:tblPr/>
              <a:tblGrid>
                <a:gridCol w="2163600"/>
                <a:gridCol w="469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in Point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 a frien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 ______________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at the family lunch the next day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after the ga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 ______ at 10:45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at about 11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flying outsid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and then the UFO disappeare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066680" y="685800"/>
            <a:ext cx="6400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 show up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oes Justin have any brothers or sister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Who else has been taken away by the alien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932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went to bed early because of a headac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r. Foster was working that n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show up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became worried and told her husband to call the polic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Justin plays baseball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Does Justin have any brothers or sister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es, he has a sister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o else has been taken by the alien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vis Wood was taken  by the aliens to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26920" y="404640"/>
          <a:ext cx="8066160" cy="6147000"/>
        </p:xfrm>
        <a:graphic>
          <a:graphicData uri="http://schemas.openxmlformats.org/drawingml/2006/table">
            <a:tbl>
              <a:tblPr/>
              <a:tblGrid>
                <a:gridCol w="2276640"/>
                <a:gridCol w="578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in Poin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 frien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___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_____  at the family lunch the next day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_______   after the                               ga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_________________________       at 10:45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 ________________at about 11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was taken away by aliens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___________ flying outsid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___    and then the UFO disappeare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874120" y="148284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e didn’t tell anyo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1680" y="1893960"/>
            <a:ext cx="29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at he was staying out lat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0320" y="22860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idn’t show u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060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went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3720" y="36432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y saw Justin walking 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67320" y="43434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return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3520" y="47242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large spaceshi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3160" y="510552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shout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5280" y="56815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as taken aw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5280" y="6070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y the ali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1729080" cy="1593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8320" y="4267080"/>
            <a:ext cx="17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V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9810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Fo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1911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Foster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0000" y="6093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9827000">
            <a:off x="3657600" y="243828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53800">
            <a:off x="3580920" y="3504960"/>
            <a:ext cx="1057320" cy="145800"/>
          </a:xfrm>
          <a:prstGeom prst="rightArrow">
            <a:avLst>
              <a:gd name="adj1" fmla="val 50000"/>
              <a:gd name="adj2" fmla="val 181296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98800">
            <a:off x="3657600" y="297144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Cloud"/>
          <p:cNvSpPr/>
          <p:nvPr/>
        </p:nvSpPr>
        <p:spPr>
          <a:xfrm>
            <a:off x="23623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hen? Where? Who ? What? How?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• • •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310400">
            <a:off x="3188880" y="1611000"/>
            <a:ext cx="111240" cy="5173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ease give an ending to the story.Was Justin really taken away by aliens or were there any other reasons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2280" y="6477120"/>
            <a:ext cx="419112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495680" y="6477120"/>
            <a:ext cx="419112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2124000"/>
            <a:ext cx="725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ish part F and do some speaking practic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cording to the sampl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581280" y="6094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95280" y="836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ales of the unexplained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3048120"/>
            <a:ext cx="4952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715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F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9800" y="380880"/>
            <a:ext cx="29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e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19600" cy="3581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you believe in UFOs and aliens? Why or why no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f you saw a UFO and an alien some day, what would you do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at other unexplained things do you know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bou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Discussion</a:t>
            </a:r>
            <a:br>
              <a:rPr sz="4400"/>
            </a:b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2209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8960" y="4038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53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e4d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3440" y="112536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missing, police puzzl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2920" y="25909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y is missing, and the police are puzzled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20" y="38606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e title of a news story is usually incomplet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41907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8320" y="6629400"/>
            <a:ext cx="4221000" cy="228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1828800"/>
            <a:ext cx="304920" cy="824040"/>
          </a:xfrm>
          <a:prstGeom prst="downArrow">
            <a:avLst>
              <a:gd name="adj1" fmla="val 50000"/>
              <a:gd name="adj2" fmla="val 67562"/>
            </a:avLst>
          </a:prstGeom>
          <a:solidFill>
            <a:srgbClr val="ff0066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2e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Read the news story quickly and answer the question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91120" cy="304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1905120"/>
            <a:ext cx="7010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missing?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d where is he missing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olice know what happened to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6553080"/>
            <a:ext cx="41907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01:39Z</dcterms:created>
  <dc:creator>软件仓库</dc:creator>
  <dc:description/>
  <dc:language>en-US</dc:language>
  <cp:lastModifiedBy>USER</cp:lastModifiedBy>
  <dcterms:modified xsi:type="dcterms:W3CDTF">2005-11-06T15:53:01Z</dcterms:modified>
  <cp:revision>110</cp:revision>
  <dc:subject/>
  <dc:title>PowerPoint 演示文稿</dc:title>
</cp:coreProperties>
</file>