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24.gif" ContentType="image/gif"/>
  <Override PartName="/ppt/media/image21.jpeg" ContentType="image/jpeg"/>
  <Override PartName="/ppt/media/image23.gif" ContentType="image/gif"/>
  <Override PartName="/ppt/media/explode.wav" ContentType="audio/x-wav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27.gif" ContentType="image/gif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CFD-8720-42CB-AC0C-4AB9B7BD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A52-E660-4FD3-AE6A-FB4CC526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52E-A3D3-4D6E-9B81-F9025F8D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8B4-49CE-49C6-BCDE-5C4F4EE4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5B9F-F161-44BD-A5F2-2458E5DE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0E20-B775-4EB2-AEC5-86F8D2D9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8959-CC87-4F74-8481-93FDC85C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F957-31A2-45F3-B746-2BBA8D1A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C9D8-0755-4AE8-99F1-29800445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D480-76FB-476F-934E-9D9897E7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E33B-BF45-4438-BC1B-857B122D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62E-21E1-4DB4-B20D-5BD890FC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A461-8349-4A77-BB5B-F4C42CB9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57B6-CC15-4BE2-BD4E-5404D4E0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E1A5-76F8-4E68-87CE-2A1761FF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6878-1595-4D42-BA64-99FC4F35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9C54-71FD-4A77-977E-26440872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BF3F-2FC9-4C15-8A3D-D316C567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0901-D962-4DC3-8A38-959077AD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42DE7-08F1-4C95-B96A-5ABE4D5A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35156-322D-4701-9D5B-1BBFC589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4A7B1-8788-444C-84DB-84C41C09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9CC-5ECF-4BEA-9175-327A0393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1D883-8821-4E26-A53F-66598065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497F-D70D-4152-8F94-33FB4522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63C3-F279-489D-B411-07EC79F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F9D2-FC16-4B69-BAF0-F2A96F77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C400-EF0D-45F0-BA8E-327B370B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AC59-9116-459A-8992-6CA360C9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B786-2160-4F98-8FEF-8D7C25D6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B5095-7113-49FE-BBED-BF1F7A80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58C6-5E8A-4E90-AF93-F1FF3CF7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0C287-4E06-4060-A86E-2C92E9DE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79E-168C-4D6A-90BB-0202C7CC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88BB1-4E08-467A-AB94-010617EF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FF387-1626-4352-9C7B-992339CF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0507D-0F20-41D8-A9CC-E3523C4B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B9266-7CED-4F09-804B-978652B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26946-85B1-4CE1-ACC9-ECEB0C00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332D-D8FC-43FC-AF0D-2A85D98B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4592-EC52-4DAC-A3FA-B508AC4F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1B9CD-830A-4B52-88A0-E078B4CA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20E9-19F1-4658-9DCA-3184DE73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F7A3F-182C-46E5-BA3B-141E93CF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A95-F6BA-4492-BA52-7FAE8D42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AE19C-A280-4924-B9E3-E333DC9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A64A9-FB69-4D53-A89E-642756C0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FB20-DD4B-46C8-99F5-2D1689BF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55512-2FE4-43C9-9A11-94BAB6E4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32B7C-D21C-491C-9559-BEC5250C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A8A4E-6EAF-48D4-A793-AAD68A2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8891E-E632-420F-81B5-B930CCB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4B9C0-32D5-4121-BBD2-D2FF5760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BBBE7-714B-4C2D-AACB-58437A9A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540C6-F101-4E8C-A36E-D240FA77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60D-02C4-4B17-84F5-9ABAC6E6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42ACF-7698-4E04-96AA-471FBDCA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0C90-3A84-42C8-A710-ED4EDAF7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BF5D5-E1F5-494C-B7F7-ED58BFEA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EC929-52BE-4801-A7B8-AF413F7B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6B0E2-E357-4CEE-899C-6F0D58BA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A54F9-4DB1-4195-8BCC-46FD48EF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84460-A3B5-4340-86B6-7DD78902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FBB07-104F-44C1-A3B3-32D3ABA4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EFC00-6F3D-4EB2-B875-B8DD0332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F09B9-35D6-4FE4-AC71-D3286ED9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80C-A8CB-4382-BB0D-F74F1501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A83E2-505F-4D19-8A30-CAD2A0A3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F912A-302D-44FB-8984-7EC2E7E3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E1108-1DA1-465A-B73D-844A6BFA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5F4-C7E1-4C45-B30E-02B6072A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CDB-D1F5-42C7-98ED-3B77A0F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DEBD-2FCC-4CA9-84F0-78E087D8EC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1995-E6A0-4AE9-9EFF-376F67F6BA1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352B-9D99-4921-B161-D17FDEBDAB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F851-A507-4055-854E-CDDDB682DF6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3BBA-446E-4D95-9C10-A4B2B30D03D7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C6E7-D421-4180-A808-FE7FCA050E8F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Welcome to the class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26920" y="4292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执教者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皋市第一中学  周海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Tell about a strange dream even a nightmare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2358720"/>
            <a:ext cx="6337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uppose you were taken away by the aliens, what would you do ?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736720" cy="396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1034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Is mystery equal to superstition(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迷信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)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657600" cy="4103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★</a:t>
            </a:r>
            <a:r>
              <a:rPr b="1" lang="en-US" sz="4000" spc="-1" strike="noStrike">
                <a:solidFill>
                  <a:srgbClr val="000099"/>
                </a:solidFill>
                <a:latin typeface="Basemic Times"/>
              </a:rPr>
              <a:t>take scientific attitudes towards mysteries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great succes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velopment of science and technolog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set up  great ideals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理想）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and work har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75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410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deals are like the stars — It seems that we never reach them, but like mariners ,we chart our course by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理想犹如天上的星—     我们似乎不能到达，但像水手一样，我们的航程可凭它指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33360"/>
            <a:ext cx="420696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532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Write a strange dream of a mysterious s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Search for some information about Shenzhou </a:t>
            </a:r>
            <a:r>
              <a:rPr b="1" lang="en-US" sz="2800" spc="-1" strike="noStrike">
                <a:solidFill>
                  <a:srgbClr val="006600"/>
                </a:solidFill>
                <a:latin typeface="BatangChe"/>
              </a:rPr>
              <a:t>Ⅵ</a:t>
            </a: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BatangCh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520" y="1599840"/>
            <a:ext cx="3504960" cy="6858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隶书"/>
              </a:rPr>
              <a:t>感谢您的光临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请留下宝贵建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7617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832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484360" y="981000"/>
            <a:ext cx="2303640" cy="2737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CascadeUp">
              <a:avLst>
                <a:gd name="adj" fmla="val 43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S Gothic"/>
              </a:rPr>
              <a:t>Good by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S Gothic"/>
              <a:ea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Unexplained mysterie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887640" cy="3673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71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Boy missing, police puzzled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226960" cy="3095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05440" cy="287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boy is missing; the police are puzzle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en to Para1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zz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3280" y="148392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day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over, New Hampshi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htings of puzzling lights &amp; reports of alien visi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1773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49228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Reading strategy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titl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main ide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paragraph on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2852640"/>
            <a:ext cx="360360" cy="2665440"/>
          </a:xfrm>
          <a:custGeom>
            <a:avLst/>
            <a:gdLst>
              <a:gd name="textAreaLeft" fmla="*/ 0 w 360360"/>
              <a:gd name="textAreaRight" fmla="*/ 129960 w 360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ad the rest part for main po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Justin Foster went missing.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 2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police found that Justin returned home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Para3-4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boy was taken away by alien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4-5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9292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foster went mi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s</a:t>
                      </a:r>
                      <a:r>
                        <a:rPr b="1" lang="zh-CN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oster thought </a:t>
                      </a:r>
                      <a:r>
                        <a:rPr b="1" lang="zh-CN" sz="2400" spc="-1" strike="noStrike" u="sng">
                          <a:solidFill>
                            <a:srgbClr val="fc04a3"/>
                          </a:solidFill>
                          <a:uFillTx/>
                          <a:latin typeface="Arial"/>
                        </a:rPr>
                        <a:t>he was spending the night with a frie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 Foster was surpri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lice found that Justin returned ho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Justin’s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riends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Witnesses said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2909520" y="1557360"/>
            <a:ext cx="64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his 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4a3"/>
                </a:solidFill>
                <a:latin typeface="Arial"/>
              </a:rPr>
              <a:t>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didn’t tell anyone that he was staying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1520" y="2565360"/>
            <a:ext cx="44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didn’t show up 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amily lunch the next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96440" y="3933720"/>
            <a:ext cx="58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Justin w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ome after playing baseball with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3680" y="4941720"/>
            <a:ext cx="589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they saw Just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walking towards his home at 10.45 p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7160" y="5962680"/>
            <a:ext cx="441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im put on his favour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CD after he went to his 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160" y="59500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Kelly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360" y="25653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Justin Fo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342900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y was taken away by alien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sa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 he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avis Wood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3339720" y="765000"/>
            <a:ext cx="4188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a large space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lying out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162864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Justin s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7920" y="2060640"/>
            <a:ext cx="6078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that the aliens to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Her away so that they could do scient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research on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3443400"/>
            <a:ext cx="9144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- Kelly ( seeing &amp; hearing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ve (Sam Peterson) ( possibilitie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ist ( report the ne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7:31:08Z</dcterms:created>
  <dc:creator>MC SYSTEM</dc:creator>
  <dc:description/>
  <dc:language>en-US</dc:language>
  <cp:lastModifiedBy>高一英语组</cp:lastModifiedBy>
  <dcterms:modified xsi:type="dcterms:W3CDTF">2005-11-06T02:26:18Z</dcterms:modified>
  <cp:revision>20</cp:revision>
  <dc:subject/>
  <dc:title>Welcome to the class </dc:title>
</cp:coreProperties>
</file>