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1F1-03BC-4C9F-9F84-C69AFDFE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6A8-5860-4EA2-9340-F4F740E5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BBB-5246-491B-A43C-BBB22342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2C0-4065-44FA-8BEA-FA33ACCE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549-C269-44F0-82C2-5AEAD467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10E-B4A2-4293-A2BD-7902CA2C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284-BCBC-443B-BD95-0744108E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694-9E0A-4845-AE16-B419D80B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FF7-3169-4959-940D-AC0216EB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671-D4E0-4613-931A-3037FDE4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98D-76D4-42F6-8AB4-0882817E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285-14D8-4BCA-86D2-E9847DD2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DCC1-096B-4E1E-95AB-7B917B286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" Target="slide6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28600"/>
            <a:ext cx="8229600" cy="72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词拼写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Farmers p_________ city people with fresh vegetables and meat ever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om s_________ cycling to the country instead of going by b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ne is not present today. She has f_____ ill ag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 m_______ is a person who buys and sells goods for making mone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You mustn't drive too fast, for it is d________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685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905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gg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3124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343400"/>
            <a:ext cx="25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5562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ng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57200"/>
            <a:ext cx="830592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Do you believe that some living thing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 on the other plane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football team of Class Fiv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打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 that of Class Four yester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day when Macao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澳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returns to China is worth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庆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Taiwan Island i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 from the main la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t is said that Australia was onc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 to South Amer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1600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4038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00408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nec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14400"/>
            <a:ext cx="883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It's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令人惊讶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t he should finish the given task in thre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Johnsons are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庆祝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ristmas far from thei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Mr. Wang is in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管理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our class. He is our class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He went to England for the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目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studying science and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Cook charted the coasts of the two island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分隔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y the narrow cha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838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ston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905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19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733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6996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The enemy wa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打败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nd all the cities were lib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After the battle the army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前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ack towards R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Ship building used to be one of our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主要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dus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child likes to eat sweet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饼干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Villager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提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Army with food and medi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685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560" y="426708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4952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457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9144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remembered that he put the shoes in the box under his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remembered ________the shoes in the box under the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speech given by Captain Cook excited us very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____ ____ ____the speech given by Captain C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is not interested in 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____ ____ ____ ____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676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191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re excited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592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akes no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91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y surprised us 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____us____ _________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While he was doing 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 _______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y   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76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ile 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228600"/>
            <a:ext cx="87631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ang Lin insisted on ____to work in the country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be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B.sending     C.being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D.s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en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hotel will be the highest building in the 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b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B.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w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D.it 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e shall travel by night as ____b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a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both        C.we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D.well a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3716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9880" y="34290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86280" y="556272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80880"/>
            <a:ext cx="88390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They joined the team ____of the missing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searc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o 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search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sear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Mr Wang is ____the library while the lab is ____his w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charge of…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in the charge of…in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n charge of…in the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in the charge of…in the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99072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" y="51814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181080"/>
            <a:ext cx="89154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Please remember ____to me as soon as you get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wr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B.having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o wr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D.to have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He suggested the man ____to pr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ferred to…be s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referring to…should be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referred to…was sent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referring to…was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280" y="20574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5812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14:55:34Z</dcterms:created>
  <dc:creator>w</dc:creator>
  <dc:description/>
  <dc:language>en-US</dc:language>
  <cp:lastModifiedBy>w</cp:lastModifiedBy>
  <dcterms:modified xsi:type="dcterms:W3CDTF">2004-08-04T15:30:05Z</dcterms:modified>
  <cp:revision>8</cp:revision>
  <dc:subject/>
  <dc:title>PowerPoint 演示文稿</dc:title>
</cp:coreProperties>
</file>