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480-A79E-4F8C-81FA-7742B5B7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B24-A57F-475D-8C92-28F36D9C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AC5-7B6F-404D-9274-FC500091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F4C-B232-45D0-9CFD-02195EA4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02B9-E6CC-4DA9-B7B7-8424AA7C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7153-75F1-49C1-A851-5D62D0B4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E493-C0C2-4C74-BF98-8576441F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DA71-D062-4E63-A25D-0C129EBC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1958-CF85-400D-BB18-D445672D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A8ED-0CF3-4C1A-AABB-B52DFA20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BA19-D2D4-4767-A6FA-BE39B4FE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CD0-20D4-4919-A137-9B526D38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9056-CA20-4947-B235-E0DF1487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9C13-47B5-44FC-8346-4ABDC237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1030-2FBF-4FC0-A878-2FE590C6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6543-AE12-42C0-B07B-F48A66DF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E480-794C-4981-901B-AC36B57C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B4C-F5DE-4EF2-BEAB-483B9C83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77B-1F65-475E-BF69-69757E69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A56-E82E-4D85-B4A3-0FC498FE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3D90-0DC0-44AA-A710-C72463B6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8BB-8A4D-4B50-BE0B-E706D057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A22-D1CB-4321-8FBB-0076B4C8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32A-16DE-4587-A394-111BA972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3302-E5DA-45B7-ABDE-F132D9D9B5C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27B5-1E1C-4435-901B-81D7ABDC4F4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J_002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914400" y="152388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36640" y="682560"/>
            <a:ext cx="29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a07a"/>
                </a:solidFill>
                <a:latin typeface="Times New Roman"/>
              </a:rPr>
              <a:t>Unit   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514600"/>
            <a:ext cx="37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672a"/>
                </a:solidFill>
                <a:latin typeface="Times New Roman"/>
              </a:rPr>
              <a:t>Good friends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800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fcfe"/>
                </a:solidFill>
                <a:latin typeface="Times New Roman"/>
              </a:rPr>
              <a:t>宁波万里国际学校 郑长青 薛洪波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J_01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14400" y="457200"/>
            <a:ext cx="7848720" cy="5943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79440" y="103176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huck’s Friend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63000" y="1793880"/>
            <a:ext cx="78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.Read the title,the first sentence of each paragraph and look 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picture, and then guess who  is Chuck’s frie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2784600"/>
            <a:ext cx="80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I.Read the passage  and try to decide how many parts it shoul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be divided into and what the main idea of each part is. If ther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s a topic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（主题 ）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entence,then find it out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4960" y="4003560"/>
            <a:ext cx="42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t should be divided into 4 par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89920" y="453708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1(paragraph 1):the main idea of the fil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9120" y="499428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2(paragraph 2):what Chuck has to do on the isla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69480" y="54514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art 3(paragraph 3):What Chuck reali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9920" y="590868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4(paragraph 4):the lesson the film gives peop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219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1110"/>
                </a:moveTo>
                <a:lnTo>
                  <a:pt x="8224" y="11110"/>
                </a:lnTo>
                <a:lnTo>
                  <a:pt x="12645" y="6497"/>
                </a:lnTo>
                <a:lnTo>
                  <a:pt x="12645" y="20510"/>
                </a:lnTo>
                <a:lnTo>
                  <a:pt x="8224" y="15897"/>
                </a:lnTo>
                <a:lnTo>
                  <a:pt x="3794" y="15897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17806" y="13503"/>
                </a:lnTo>
              </a:path>
              <a:path fill="darken" w="21600" h="27006">
                <a:moveTo>
                  <a:pt x="14299" y="11110"/>
                </a:moveTo>
                <a:lnTo>
                  <a:pt x="17806" y="8342"/>
                </a:lnTo>
              </a:path>
              <a:path fill="darken" w="21600" h="27006">
                <a:moveTo>
                  <a:pt x="14299" y="15897"/>
                </a:moveTo>
                <a:lnTo>
                  <a:pt x="17806" y="18664"/>
                </a:lnTo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TW_004" descr=""/>
          <p:cNvPicPr/>
          <p:nvPr/>
        </p:nvPicPr>
        <p:blipFill>
          <a:blip r:embed="rId2"/>
          <a:srcRect l="-10397" t="5243" r="-5198" b="36845"/>
          <a:stretch/>
        </p:blipFill>
        <p:spPr>
          <a:xfrm>
            <a:off x="6324480" y="6858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9040" y="103176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ading comprehens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0400" y="1641600"/>
            <a:ext cx="78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.read paragraph one and give the main idea of the film in you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wn word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9960" y="240336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.Read paragraph  two and finish the following tabl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50800" y="1371600"/>
            <a:ext cx="6242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3124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4760" y="3174840"/>
            <a:ext cx="0" cy="15242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1240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25780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5812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124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3680" y="3089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uck has to 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1240" y="3089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order 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0384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9240" y="35463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llect wa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648320"/>
            <a:ext cx="0" cy="5331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4760" y="464832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724280"/>
            <a:ext cx="0" cy="5335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44956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88952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26840" y="40035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Have sth. to e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842000"/>
            <a:ext cx="31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rvive without frien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50520" y="354636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Have water to drin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37360" y="40035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unt for fo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120" y="44197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Make  f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446076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Cook food, keep war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838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Develop friendship with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3280" y="5451480"/>
            <a:ext cx="77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.read paragraph three and find out what Chuck learns abou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imself  when he is alone on the isla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0" name="PL_061" descr=""/>
          <p:cNvPicPr/>
          <p:nvPr/>
        </p:nvPicPr>
        <p:blipFill>
          <a:blip r:embed="rId2"/>
          <a:srcRect l="0" t="0" r="53335" b="0"/>
          <a:stretch/>
        </p:blipFill>
        <p:spPr>
          <a:xfrm>
            <a:off x="4038480" y="2057400"/>
            <a:ext cx="266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BJ_00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077320" cy="617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50840" y="803160"/>
            <a:ext cx="751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V.Read paragraph 4 and tell us what lesson you have lear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the stor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27160" y="1752480"/>
            <a:ext cx="296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8a20"/>
                </a:solidFill>
                <a:latin typeface="Times New Roman"/>
              </a:rPr>
              <a:t>Language point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0840" y="225108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…when suddenly his plane crash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25146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5520" y="225108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ge 15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2120" y="263196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2.all alone---all by one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6520" y="3089160"/>
            <a:ext cx="72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y grandma is in her eighties and she does housework ~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4880" y="354636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3.even thoug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69120" y="3851280"/>
            <a:ext cx="74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~ the weather is very hot, we still go on working in the su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320" y="518148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5.care abou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638680"/>
            <a:ext cx="76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ually mother cares more about children than children car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bout their mother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0120" y="423216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4.treat …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7320" y="4765680"/>
            <a:ext cx="56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n’t force him. Please treat him as a frie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BJ_02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7724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508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27160" y="91440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8a2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905120"/>
            <a:ext cx="76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.If you were alone on an island, what would you do in ord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to survive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9680" y="2895480"/>
            <a:ext cx="802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2.Imagine that 4 people are in an airplane that is going to crash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One is a policeman, one is a doctor, one is a teacher, and on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s a scientist. There is only one parachute. Decide wh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hould get the parachute and explain wh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572000"/>
            <a:ext cx="765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Have you read </a:t>
            </a:r>
            <a:r>
              <a:rPr b="1" i="1" lang="zh-CN" sz="2400" spc="-1" strike="noStrike">
                <a:solidFill>
                  <a:srgbClr val="cd3333"/>
                </a:solidFill>
                <a:latin typeface="Times New Roman"/>
              </a:rPr>
              <a:t>Robinson Crusoe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. It is a ve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famous book.In the book the hero has live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alone on an island for over 20 years. He me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and overcame a lot of difficulties. He even me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ome savages(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野人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)…At last he came back hom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1" name="N_005" descr=""/>
          <p:cNvPicPr/>
          <p:nvPr/>
        </p:nvPicPr>
        <p:blipFill>
          <a:blip r:embed="rId2"/>
          <a:srcRect l="11193" t="1154" r="6379" b="23266"/>
          <a:stretch/>
        </p:blipFill>
        <p:spPr>
          <a:xfrm>
            <a:off x="7467480" y="4572000"/>
            <a:ext cx="1005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your name</cp:lastModifiedBy>
  <dcterms:modified xsi:type="dcterms:W3CDTF">2003-08-18T01:22:55Z</dcterms:modified>
  <cp:revision>8</cp:revision>
  <dc:subject/>
  <dc:title>没有幻灯片标题</dc:title>
</cp:coreProperties>
</file>