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3B3-6412-4E4F-82C0-FE2E4CC9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18C-4A8A-49B7-9B33-6792E533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2FC-8E28-4DF9-B170-E9EB9E08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9C4-5480-440F-B0B6-2C2FF542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D33-A1A1-478E-AE45-568E7E37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305-BE25-4F67-8FE8-1DDDA20F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500-7AD9-4B49-9A52-B2953AD3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C2B-3C7C-497C-BA99-AB5FDA87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915-1430-4AE4-A25D-FE5C1133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F3A-876E-458A-ABC8-DB37FB66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C0B-4C6E-40CD-9B82-607B2A31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8A6-1DF5-4731-B7A6-B2508953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C6B9-9A31-4EB8-99F0-4109ED3FE3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高考英语书面表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一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. 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如何写好高考英语作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219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做好英语书面表达应当把握好几个重要步骤：审题找点，连词成句和组句成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8610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 在日常生活中，因特网起着越来越重要的作用。请根据下表所提示为某英文报纸写一篇题为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n the Interne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征文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特网的主要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7242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8080" y="4038480"/>
          <a:ext cx="7620120" cy="2619360"/>
        </p:xfrm>
        <a:graphic>
          <a:graphicData uri="http://schemas.openxmlformats.org/drawingml/2006/table">
            <a:tbl>
              <a:tblPr/>
              <a:tblGrid>
                <a:gridCol w="1219320"/>
                <a:gridCol w="640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信   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看国内外新闻，获取其他信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通   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—mail ,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电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   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网上学校，阅读各种书籍，自学外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娱   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欣赏音乐，观看体育比赛，玩棋牌游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   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购物，聊天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127160" y="581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整篇文章中，避免只使用一两个句式，要灵活运用诸如倒装句，强调句，主从复合句，分词；状语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灵活地应用强调句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38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〈修正〉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My parents praised Ah Fu warmly.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It was our brave Ah Fu who had saved my little sister bra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引导的从句，此处的相当于中文的“所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很大的概括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257800"/>
            <a:ext cx="80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短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38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原文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y parents praised Ah Fu warmly. It had saved my little sister bra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96840" y="3886200"/>
            <a:ext cx="61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原文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e had to stand there to catch the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78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〈修正〉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at we had to d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s (to) stand there, trying to catch the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3920" y="5784840"/>
            <a:ext cx="86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t in a chair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with a newspaper in the h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词短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倒装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00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省略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057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对比，这是中文中也常用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481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过分词和合句，增强句子的连贯性和表现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atisfied with the 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he decided to go on with a new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9144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nly in this wa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n we achieve our go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447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f so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, victory will be 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514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en I pla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I feel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ci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fter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feel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ela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581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原文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 stopped us half an hour ago. He made us catch the next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876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修正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 stopped us half an hour ago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made us catch the next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257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“较复杂的词汇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从以下几个方面着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一些有“洋味”的单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6095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 you for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haring the time with 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使用词组，习语来代替一些单词，以增加文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33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new railway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s being buil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n my homet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修正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 A new railway is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under construction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n my homet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752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避免重复使用某一单词或短    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while my brother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like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atching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1952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while my brother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enjoy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watching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上列举的高分技巧需仔细研习，加强训练。强调的是，最好在没有错误的前提下作一些适当发挥。不要为了获取高分而挖空心思用大量华丽词藻去修饰，那样反而适得其反忽略主题。另外，如遇到一时难表达的要点，可采用变通的办法，绕道而行。应记住。同一意思有多种表达形式。总之，所造句子要得体，符合英美的表达习惯，避免汉语式英语，并要正确使用标点符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492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一。如何审题找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609480"/>
            <a:ext cx="8915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仔细审视试题中所提供的所说明及图表提供的信息，在脑子里形成总的构思（格式，人称，时态，体裁等），然后提炼要点如：根据上文题目中表格的提示，列出要点如下：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特网起着重要作用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因特网可了解国内外新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获取信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e—mail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打电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阅读各种书籍，上网上学校，自学外语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欣赏音乐，观看体育比赛，玩棋牌游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购物，聊天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特网使人们生活更丰富多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要点 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因特网起着重要作用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72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一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3333cc"/>
                </a:solidFill>
                <a:latin typeface="宋体"/>
              </a:rPr>
              <a:t>The Internet is playing a more and more important par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9528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二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660033"/>
                </a:solidFill>
                <a:latin typeface="宋体"/>
              </a:rPr>
              <a:t>The Internet is becoming more and more importan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三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Today the Internet takes a very important par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00400"/>
            <a:ext cx="8534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通过因特网可了解国内外新闻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,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获取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73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表达一</a:t>
            </a:r>
            <a:r>
              <a:rPr b="1" i="1" lang="zh-CN" sz="2400" spc="-1" strike="noStrike">
                <a:solidFill>
                  <a:srgbClr val="3333cc"/>
                </a:solidFill>
                <a:latin typeface="宋体"/>
              </a:rPr>
              <a:t>:On the Internet, we can learn news both at home and abroad and all kinds of other information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表达二</a:t>
            </a:r>
            <a:r>
              <a:rPr b="0" i="1" lang="zh-CN" sz="2400" spc="-1" strike="noStrike">
                <a:solidFill>
                  <a:srgbClr val="660033"/>
                </a:solidFill>
                <a:latin typeface="宋体"/>
              </a:rPr>
              <a:t>:</a:t>
            </a:r>
            <a:r>
              <a:rPr b="1" i="1" lang="zh-CN" sz="2400" spc="-1" strike="noStrike">
                <a:solidFill>
                  <a:srgbClr val="660033"/>
                </a:solidFill>
                <a:latin typeface="宋体"/>
              </a:rPr>
              <a:t>On the Internet, we can get not only news from all over the world but also all kinds of other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486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达三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:News both at home and abroad as well as all kinds of other information can be learn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发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e—mail,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打电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We can also send message by E—mail and make phone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47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It is very easy for us to send messages by E—mail and make telephone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590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 To send message by E—mail and telephone others has become very easy for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657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阅读各种书籍，上网上学校，自学外语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114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We can go to on—line school, read various kinds of books and learn foreign languages by our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81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On the net we can easily find various kinds of books to read, teach ourselves foreign languages and go to on—lin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0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欣赏音乐，观看体育比赛，玩棋牌游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8380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We can enjoy music, watch sports or matches and play chess or cards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8288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Enjoying music, watching sports or matches and playing cards can be done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88620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It is possible for us to do shopping, have a chat with others and make friends with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8195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购物，聊天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4290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We can even do shopping , have a chat with others and make friends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518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Doing shopping, chatting with others and making friends with them can be carried out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因特网使人们生活更丰富多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The Internet has made our life more color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990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Our life has become more colorful as the result of th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905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It is the Internet that has made our life more inter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二：如何连句成段，组句成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5268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：主题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题句是用来说明这一段的大意的。要写好一个段落，首先必须决定他写这段要表达些什么。主题句就是表明段落中心主旨的句子。例如，看了下面的三个主题句后，你可以预计该段作者要讨论什么问题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wning a car is expensive.         Going to college requires much more self-reliance than going to high school.    Spring is the most pleasant season of the yea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像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saw Mary last week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的句子似乎不能作为主题句来说明一段的中心思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):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语句间和段落间的连接—过渡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能起到连接句与句或段与段的中间媒介作用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使用得当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就可以使文章整篇书面表达顺畅自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严密紧凑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95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书面表达常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及段落起始的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o begin wi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enerally speaking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体上讲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first of all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the first plac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及段落结尾常用的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therefore, thu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此                     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conclus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brief,  in a nutshe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而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to sum u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而言之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a 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80988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先后次序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first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econd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x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次  然后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ventually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 最终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nce then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此之后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fterwar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后 随后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eanwhi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时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f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而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mmediatel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立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6707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因果关系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cording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or this reas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这个原因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s a resul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果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this w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ue t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f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而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cause o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u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比较和对比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contrast wi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之相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milarly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rea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而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 the contrary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fferent from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……不同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qually importan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重要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 the other h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另一方面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362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六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常见的表示举例的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for example (take…for example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例如  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namely (that is)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即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for instance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例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657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描写图表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uring this time / the period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此期间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part from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了…之外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mpared wi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…相比较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rom the above tab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上图所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05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八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常见的描写图表的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:       furthermore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此外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ls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oreover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而且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besides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此外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fact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实际上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deed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确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gain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另外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particula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尤其 特别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turally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当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自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必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连词成句： 近几年来，高考作文要求在词法上，尽可能地应用已学过的而且比较熟练的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词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成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要在使用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非谓语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副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词语活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方面多用笔墨；句法句式上，要求变换各种句式，如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强调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 u="sng">
                <a:solidFill>
                  <a:srgbClr val="000066"/>
                </a:solidFill>
                <a:uFillTx/>
                <a:latin typeface="Times New Roman"/>
              </a:rPr>
              <a:t>倒装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感叹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省略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各种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固定句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，以及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长句和短句的交错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9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因此要想得高分，除了要点和语言准确度以外，还必须在较复杂的句子结构和词汇上有所表现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句式单一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缺乏生气的文章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哪怕没有任何错误也不可能得高分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。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相反“有些错误，但是为了使用较复杂结构或较高级词汇所 致 ”。给分档次仍在最高档（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21—25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5053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增加句子的复杂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从以下几个方面着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变句子的开头方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要一味地都是主语开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着是谓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再加一个状语。可以把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状语置于句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或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用分词做状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715000"/>
            <a:ext cx="891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修正） 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Early in the morn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met at the school gate and went there toget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800600"/>
            <a:ext cx="7467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原文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met at the school gate and went there together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arly in the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4:21:52Z</dcterms:created>
  <dc:creator>杨</dc:creator>
  <dc:description/>
  <dc:language>en-US</dc:language>
  <cp:lastModifiedBy>紫中</cp:lastModifiedBy>
  <dcterms:modified xsi:type="dcterms:W3CDTF">2004-09-29T02:15:33Z</dcterms:modified>
  <cp:revision>10</cp:revision>
  <dc:subject/>
  <dc:title>PowerPoint 演示文稿</dc:title>
</cp:coreProperties>
</file>