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B4C6-C0E3-45FC-ACCB-28684529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12C-4F59-481B-99DD-BB1EF42A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3CD1-3185-414F-BBA6-E0981023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4C00-73BD-4CD4-87B5-7EF19B64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7D10-6C99-42BC-9D88-2EB9C60B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A6B2-C3A5-4365-8568-DA02B20C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90F8-78C7-42C7-9C3D-C8226B8E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5CA7-7047-4249-8190-B54307F7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BEEB-5B8D-49DF-A66A-D86E9053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91CB-1CDC-420A-910C-E36B54E0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EDCB-DB0E-4B98-95CF-365C4A7C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616-0D37-4DFC-9181-E10751ED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8B92-4DFC-4338-9769-3485F48C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2DB8-E7AC-4929-936C-3D201B7F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B82A-D099-4812-80FF-931EE973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576F-6423-45DA-94DA-92C4D5DF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4B5E-B7E7-43EB-8C7E-E652DE08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767-CECC-401A-A3C5-7C557600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674C-BDE7-4F55-9F5F-AD9509CE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4320-542C-4736-B601-7B83ABA4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BE13-B21F-4CF3-BD3A-2419EEFD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DC36-9956-497D-8F00-ECF30077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33CD-47B3-40AF-8144-9066C0C3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6152-5F98-49A9-9D61-0EAD77C9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C7A6-C4CA-4136-8648-F398960C7E1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F80D-F4F5-484B-8AD7-50B126FB272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BJ_002" descr="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914400" y="1523880"/>
            <a:ext cx="7924680" cy="5029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36640" y="682560"/>
            <a:ext cx="29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ca07a"/>
                </a:solidFill>
                <a:latin typeface="Times New Roman"/>
              </a:rPr>
              <a:t>Unit   on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2514600"/>
            <a:ext cx="374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672a"/>
                </a:solidFill>
                <a:latin typeface="Times New Roman"/>
              </a:rPr>
              <a:t>Good friends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4800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0fcfe"/>
                </a:solidFill>
                <a:latin typeface="Times New Roman"/>
              </a:rPr>
              <a:t>宁波万里国际学校 郑长青 薛洪波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J_01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14400" y="457200"/>
            <a:ext cx="7848720" cy="5943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79440" y="1031760"/>
            <a:ext cx="42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Chuck’s Friend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63000" y="1793880"/>
            <a:ext cx="783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.Read the title,the first sentence of each paragraph and look a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picture, and then guess who  is Chuck’s friend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87400" y="2784600"/>
            <a:ext cx="80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II.Read the passage  and try to decide how many parts it should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be divided into and what the main idea of each part is. If there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is a topic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（主题 ）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sentence,then find it out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4960" y="4003560"/>
            <a:ext cx="42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t should be divided into 4 part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89920" y="453708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rt 1(paragraph 1):the main idea of the fil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69120" y="499428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rt 2(paragraph 2):what Chuck has to do on the islan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69480" y="545148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Part 3(paragraph 3):What Chuck realis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89920" y="5908680"/>
            <a:ext cx="66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rt 4(paragraph 4):the lesson the film gives peop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12193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1110"/>
                </a:moveTo>
                <a:lnTo>
                  <a:pt x="8224" y="11110"/>
                </a:lnTo>
                <a:lnTo>
                  <a:pt x="12645" y="6497"/>
                </a:lnTo>
                <a:lnTo>
                  <a:pt x="12645" y="20510"/>
                </a:lnTo>
                <a:lnTo>
                  <a:pt x="8224" y="15897"/>
                </a:lnTo>
                <a:lnTo>
                  <a:pt x="3794" y="15897"/>
                </a:lnTo>
                <a:close/>
              </a:path>
              <a:path fill="darken" w="21600" h="27006">
                <a:moveTo>
                  <a:pt x="14299" y="13503"/>
                </a:moveTo>
                <a:lnTo>
                  <a:pt x="17806" y="13503"/>
                </a:lnTo>
              </a:path>
              <a:path fill="darken" w="21600" h="27006">
                <a:moveTo>
                  <a:pt x="14299" y="11110"/>
                </a:moveTo>
                <a:lnTo>
                  <a:pt x="17806" y="8342"/>
                </a:lnTo>
              </a:path>
              <a:path fill="darken" w="21600" h="27006">
                <a:moveTo>
                  <a:pt x="14299" y="15897"/>
                </a:moveTo>
                <a:lnTo>
                  <a:pt x="17806" y="18664"/>
                </a:lnTo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2" name="TW_004" descr=""/>
          <p:cNvPicPr/>
          <p:nvPr/>
        </p:nvPicPr>
        <p:blipFill>
          <a:blip r:embed="rId2"/>
          <a:srcRect l="-10397" t="5243" r="-5198" b="36845"/>
          <a:stretch/>
        </p:blipFill>
        <p:spPr>
          <a:xfrm>
            <a:off x="6324480" y="68580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49040" y="103176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ading comprehens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40400" y="1641600"/>
            <a:ext cx="785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.read paragraph one and give the main idea of the film in you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wn word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19960" y="2403360"/>
            <a:ext cx="675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I.Read paragraph  two and finish the following table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50800" y="1371600"/>
            <a:ext cx="624240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00200" y="312408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4760" y="3174840"/>
            <a:ext cx="0" cy="152424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3124080"/>
            <a:ext cx="55627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5257800"/>
            <a:ext cx="55627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3581280"/>
            <a:ext cx="55627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312408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13680" y="30891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huck has to 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51240" y="30891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 order t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4038480"/>
            <a:ext cx="55627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9240" y="354636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llect wat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4648320"/>
            <a:ext cx="0" cy="5331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24760" y="4648320"/>
            <a:ext cx="0" cy="6094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724280"/>
            <a:ext cx="0" cy="5335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4495680"/>
            <a:ext cx="55627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4889520"/>
            <a:ext cx="55627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26840" y="40035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Have sth. to ea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4842000"/>
            <a:ext cx="31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urvive without frien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50520" y="354636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Have water to drin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37360" y="400356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unt for foo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120" y="44197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Make  fi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91120" y="4460760"/>
            <a:ext cx="31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Cook food, keep war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483876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3333"/>
                </a:solidFill>
                <a:latin typeface="Times New Roman"/>
              </a:rPr>
              <a:t>Develop friendship with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..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3280" y="5451480"/>
            <a:ext cx="772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II.read paragraph three and find out what Chuck learns abou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imself  when he is alone on the island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0" name="PL_061" descr=""/>
          <p:cNvPicPr/>
          <p:nvPr/>
        </p:nvPicPr>
        <p:blipFill>
          <a:blip r:embed="rId2"/>
          <a:srcRect l="0" t="0" r="53335" b="0"/>
          <a:stretch/>
        </p:blipFill>
        <p:spPr>
          <a:xfrm>
            <a:off x="4038480" y="2057400"/>
            <a:ext cx="26672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BJ_00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8077320" cy="6172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050840" y="803160"/>
            <a:ext cx="751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V.Read paragraph 4 and tell us what lesson you have lear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rom the story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27160" y="1752480"/>
            <a:ext cx="296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8a20"/>
                </a:solidFill>
                <a:latin typeface="Times New Roman"/>
              </a:rPr>
              <a:t>Language points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50840" y="2251080"/>
            <a:ext cx="54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1…when suddenly his plane crash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25146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5520" y="225108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ge 15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22120" y="263196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2.all alone---all by oneself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46520" y="3089160"/>
            <a:ext cx="72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y grandma is in her eighties and she does housework ~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74880" y="354636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3.even thoug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69120" y="3851280"/>
            <a:ext cx="74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~ the weather is very hot, we still go on working in the sun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320" y="518148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5.care abou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5638680"/>
            <a:ext cx="763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sually mother cares more about children than children care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bout their mother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50120" y="423216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4.treat …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7320" y="4765680"/>
            <a:ext cx="567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on’t force him. Please treat him as a friend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BJ_025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772400" cy="2743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050840" y="78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27160" y="914400"/>
            <a:ext cx="19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8a20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1905120"/>
            <a:ext cx="762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1.If you were alone on an island, what would you do in ord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to survive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29680" y="2895480"/>
            <a:ext cx="802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2.Imagine that 4 people are in an airplane that is going to crash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One is a policeman, one is a doctor, one is a teacher, and one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is a scientist. There is only one parachute. Decide wh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should get the parachute and explain why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4572000"/>
            <a:ext cx="765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Have you read </a:t>
            </a:r>
            <a:r>
              <a:rPr b="1" i="1" lang="zh-CN" sz="2400" spc="-1" strike="noStrike">
                <a:solidFill>
                  <a:srgbClr val="cd3333"/>
                </a:solidFill>
                <a:latin typeface="Times New Roman"/>
              </a:rPr>
              <a:t>Robinson Crusoe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. It is a ver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famous book.In the book the hero has lived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alone on an island for over 20 years. He me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and overcame a lot of difficulties. He even me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some savages(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野人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)…At last he came back hom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1" name="N_005" descr=""/>
          <p:cNvPicPr/>
          <p:nvPr/>
        </p:nvPicPr>
        <p:blipFill>
          <a:blip r:embed="rId2"/>
          <a:srcRect l="11193" t="1154" r="6379" b="23266"/>
          <a:stretch/>
        </p:blipFill>
        <p:spPr>
          <a:xfrm>
            <a:off x="7467480" y="4572000"/>
            <a:ext cx="1005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15:40:02Z</dcterms:created>
  <dc:creator/>
  <dc:description/>
  <dc:language>en-US</dc:language>
  <cp:lastModifiedBy>your name</cp:lastModifiedBy>
  <dcterms:modified xsi:type="dcterms:W3CDTF">2003-08-18T01:22:55Z</dcterms:modified>
  <cp:revision>8</cp:revision>
  <dc:subject/>
  <dc:title>没有幻灯片标题</dc:title>
</cp:coreProperties>
</file>