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066-6D2E-4531-9A3D-9638C286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DDD-D517-46E5-B1F7-01797D45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E02-224B-483F-BCBC-E45ACFFC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DB7-8C0E-4243-BF3B-76F22D1E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8D29-192A-4F21-AD88-32BAB181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8967-4499-4E60-A9D6-CB7F7F2D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3DD3-2B63-4B8E-9D11-2AD5191B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52B2-0615-457D-B870-F746DC9F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F627-BB0B-42D4-BCED-F722F478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6A10-F809-49A8-8086-7EE2D1CE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EA0D-4ADA-462C-981A-BD1F62C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167-A524-4CEE-9F03-9CC41160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B67B-BA36-4E98-8E26-CE8359B5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2352-576B-435E-B661-038BEE8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8C0E-7244-4993-9298-A919944E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4A63-5412-4F26-84F7-3C978DD3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100F-4EA9-4135-AA4B-A2416332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A6E-C650-4A28-B65A-80CE76BE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10C-A02F-46D0-B2AD-5143E2F2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98E-97F0-4DEC-8E34-07C073C9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6B7-1D15-4A57-BC9B-D3194C1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A86-F8ED-4028-AF00-926B8F2F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F2A-7AC0-4E59-A082-8F5EBE2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160-2D6A-44B2-8C56-3C80AA59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3929-84D3-494C-80A4-C93A8C4A55C5}" type="slidenum">
              <a:rPr b="0" lang="zh-CN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1F8C-7D95-4ED4-9B8C-3574BFF7BAA3}" type="slidenum">
              <a:rPr b="0" lang="zh-CN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29800" y="1447920"/>
            <a:ext cx="42253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is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后面动词的形式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02400" y="297180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is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后跟一个宾语从句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达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与现实不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66ff33"/>
                </a:solidFill>
                <a:latin typeface="Times New Roman"/>
              </a:rPr>
              <a:t>与现实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</a:rPr>
              <a:t>相反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的愿望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53560" y="1295280"/>
            <a:ext cx="7090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现在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don’t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know French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t is raining right now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2240" y="3500280"/>
            <a:ext cx="413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I knew French</a:t>
            </a:r>
            <a:r>
              <a:rPr b="0" lang="en-US" sz="4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53800" y="4149720"/>
            <a:ext cx="490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it weren’t raining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right now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3200" y="990720"/>
            <a:ext cx="8004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过去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John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idn’t co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Mary couldn’t co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70480" y="3048120"/>
            <a:ext cx="426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John had com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809880"/>
            <a:ext cx="60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Mary could have come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9160" y="1066680"/>
            <a:ext cx="8309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将来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will not tell 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isn’t going to be her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6760" y="3276720"/>
            <a:ext cx="48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she would tell m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7560" y="3962520"/>
            <a:ext cx="66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e were going to be her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7:59:31Z</dcterms:created>
  <dc:creator>Legend User</dc:creator>
  <dc:description/>
  <dc:language>en-US</dc:language>
  <cp:lastModifiedBy>赵晨盼</cp:lastModifiedBy>
  <dcterms:modified xsi:type="dcterms:W3CDTF">2002-10-27T11:06:09Z</dcterms:modified>
  <cp:revision>3</cp:revision>
  <dc:subject/>
  <dc:title>PowerPoint 演示文稿</dc:title>
</cp:coreProperties>
</file>