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C0C-9BC0-4687-9AC8-2689591A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BFB-360E-403B-B8D9-0301115D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614-54EE-406A-BD79-2FC6F906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6A6-8F6F-4A8D-9916-8E618F39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F579-1AED-4967-A795-397C0159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5C2-D69C-4340-B7A3-AB569E25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944-D2E6-48D5-8CC5-2D6A01FF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304-88A5-4FC6-B5AC-85C7E439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3A3-F39B-464B-8443-84ECE13B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C13-2CD0-48D8-A6B8-9BD19EAF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071-E6EB-48E9-AA27-9F5CECDC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84F-A7F8-4B0A-A77A-B0927E03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8658-0B4B-41B8-9A0A-3CF8252723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54360" y="765000"/>
            <a:ext cx="5354280" cy="157428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as if “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好像”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可接表语从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或方式状语从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299736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He makes it seem </a:t>
            </a: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as if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this is one of the most delicious meals that he has ever enjoy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81560" y="2705040"/>
            <a:ext cx="911520" cy="341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表语从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81960" y="1382760"/>
            <a:ext cx="6208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真实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has met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非真实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e acted as though 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had never met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03440" y="1295280"/>
            <a:ext cx="5089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真实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will b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非真实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She spoke as if s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wouldn’t b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47440" y="1752480"/>
            <a:ext cx="42040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若接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陈述语气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，则表示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较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的真实性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3429000"/>
            <a:ext cx="707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It looks as if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it is going to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r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1268280"/>
            <a:ext cx="686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English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is not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her native tong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141720"/>
            <a:ext cx="6716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She speaks English ____________________________________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716280"/>
            <a:ext cx="61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as if English was her native tong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6000" y="1557360"/>
            <a:ext cx="86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You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didn’t se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a gho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You look as if____________ _____________________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9242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 Black"/>
              </a:rPr>
              <a:t>you had seen a gho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1298520"/>
            <a:ext cx="871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didn’t climb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Mt. Ever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en I reached the fourth floor, I felt ________________________________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4149720"/>
            <a:ext cx="77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as if I had climbed Mt. Ever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07280" y="1413000"/>
            <a:ext cx="74214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It seems as if he ____ t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yester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A.was              B.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.has been       D.had b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16360" y="3716280"/>
            <a:ext cx="442764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00000" y="260280"/>
            <a:ext cx="7580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en a pencil is partly in a glass of water, it looks as if  it 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brea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has bro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ere bro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had been bro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3645000"/>
            <a:ext cx="5040360" cy="863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5084640"/>
            <a:ext cx="7164360" cy="9471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果主句和从句中的谓语动词 所表达 的动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发生，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般过去 式；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果从句的动作在主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之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生， 则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过去 完成 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0000" y="692280"/>
            <a:ext cx="78692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The two strangers talked as if they ___ friends for yea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sh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ve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d been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5013360"/>
            <a:ext cx="442764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9640" y="981000"/>
            <a:ext cx="802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Look at the clouds. It looks as if it ____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i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ou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is going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508640"/>
            <a:ext cx="442764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3640" y="3141720"/>
            <a:ext cx="3889440" cy="131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t seemed that…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后用陈述语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421000"/>
            <a:ext cx="8048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The woman loves the children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  <a:ea typeface="黑体"/>
              </a:rPr>
              <a:t>as if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 she were their m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4520" y="954000"/>
            <a:ext cx="23752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方式状语从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620640"/>
            <a:ext cx="8280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The teacher treated us as if we ____ her own childr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d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shou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migh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2924280"/>
            <a:ext cx="273708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0200" y="2427120"/>
            <a:ext cx="3908520" cy="70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从句的情况与主句同时发生，动词用过去式：从句的情况发生在主句之前，谓语用过去完成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71640" y="2708280"/>
            <a:ext cx="693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通常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as if / as though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后面的概念是“不真实的”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39320" y="2133720"/>
            <a:ext cx="712872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talks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s if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new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he w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6400" y="762120"/>
            <a:ext cx="4028760" cy="764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 if = as th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2640" y="3733920"/>
            <a:ext cx="521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But he doesn’t know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80760" y="4724280"/>
            <a:ext cx="5871240" cy="764280"/>
          </a:xfrm>
          <a:prstGeom prst="rect">
            <a:avLst/>
          </a:prstGeom>
          <a:noFill/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谈论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现在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情况，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s if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后接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过去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5960" y="1523880"/>
            <a:ext cx="806436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talks about Rom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 if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een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there him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4680" y="3276720"/>
            <a:ext cx="725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He hasn’t or probably hasn’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1680" y="4419720"/>
            <a:ext cx="4586760" cy="1574280"/>
          </a:xfrm>
          <a:prstGeom prst="rect">
            <a:avLst/>
          </a:prstGeom>
          <a:noFill/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谈论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过去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情况，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s if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后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过去完成时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27320" y="2565360"/>
            <a:ext cx="688464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ate so much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s if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adn’t ha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 meal for day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84200" y="1425600"/>
            <a:ext cx="621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he spoke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s if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he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ouldn’t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 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240" y="3213000"/>
            <a:ext cx="5447520" cy="8251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ut she will be 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4653000"/>
            <a:ext cx="8208720" cy="8251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谈论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将来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的情况，从句中用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过去将来式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4360" y="31608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1360" y="1523880"/>
            <a:ext cx="618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真实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is not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a chi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非真实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talked to him as if 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were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 chi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0800" y="533520"/>
            <a:ext cx="7224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真实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did not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take a sho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with her clothes 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非真实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When she came in from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rainstorm,she looked as 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had taken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a shower wit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r clothes 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8:24:30Z</dcterms:created>
  <dc:creator>Legend User</dc:creator>
  <dc:description/>
  <dc:language>en-US</dc:language>
  <cp:lastModifiedBy>Legend User</cp:lastModifiedBy>
  <dcterms:modified xsi:type="dcterms:W3CDTF">2002-11-25T12:54:29Z</dcterms:modified>
  <cp:revision>11</cp:revision>
  <dc:subject/>
  <dc:title>PowerPoint 演示文稿</dc:title>
</cp:coreProperties>
</file>