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56F-D913-4F60-BECE-97A115A3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46B-BB25-43EF-9A96-92B306C2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023-7A34-4EE6-B2F2-3410C86C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940-C2F5-4682-A160-41ACAE21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7553-1DE1-403C-8575-9BFB570C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0464-A139-4460-936E-4E74827E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441B-B23C-4D20-92E2-D7EB758E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F42F-935A-4F99-A9DD-9A189404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82FB-10D1-4DBF-8720-445FD4F9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7C8E-7F3D-4414-B166-015B8DE4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7C07-C232-4F06-A9EE-E97A0FF4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0D4-6C0B-4BF4-B7CB-415BEAF0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6C44-6D05-434F-9740-F3AE4D41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71F0-9974-4216-ACF8-2CF8BEA5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E7D0-DA1C-4FE8-922A-33AF597C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0F10-F843-4CDF-B827-912AA319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90A1-CDD6-433C-8499-49547899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353-B8CC-4190-BCED-32775FB9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4FE-A6D1-4751-9BB8-3B73E5EE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31B-5705-4EEB-9611-4A620CE3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B5B-2299-4190-A05C-941A6F42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669-3310-48EF-A493-FD1286E4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C65-7284-43D3-B2F3-872151B9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7FC-E0E4-4AA8-A457-E25B86B1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B9F9-33F5-43BA-972B-6DB3DFF326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4BF4-F961-4098-955D-F851F5EA73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92320" y="2438280"/>
            <a:ext cx="383832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现在或将来的真实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1800" y="914400"/>
            <a:ext cx="771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did not ea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breakfast sev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ours ago,so I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am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hungry n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　　　　（事实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9640" y="3886200"/>
            <a:ext cx="8292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 eate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reakfast sever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urs ago,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ungry 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29320" y="342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过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91640" y="5410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现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78240" y="709560"/>
            <a:ext cx="646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is no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a good student.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did not study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for the te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yesterday.(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事实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4520" y="3657600"/>
            <a:ext cx="6935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er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a good stude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studi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t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81600" y="3200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现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53200" y="5105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过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2209680"/>
            <a:ext cx="2438280" cy="1524240"/>
          </a:xfrm>
          <a:prstGeom prst="wedgeRectCallout">
            <a:avLst>
              <a:gd name="adj1" fmla="val -112046"/>
              <a:gd name="adj2" fmla="val 6041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主语是单数或复数后面都可用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51640" y="2286000"/>
            <a:ext cx="568836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ould ,might,should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　　　用法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7840" y="137160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I’d had enough money,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could have gon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to Flori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vac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44920" y="4038480"/>
            <a:ext cx="646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could have gone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ould have been able to 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早就能去的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8640" y="1143000"/>
            <a:ext cx="729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you were a better stude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ight get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better grad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44440" y="3124080"/>
            <a:ext cx="622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you might get=maybe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ould get(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也许你会得到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08320" y="1066680"/>
            <a:ext cx="773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John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shoul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call,tell him I’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 back around f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48200" y="3124080"/>
            <a:ext cx="722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 John should call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比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 Joh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lls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有些不肯定或怀疑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但两句的意思基本相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971800" y="2743200"/>
            <a:ext cx="365436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的省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062800" y="1066680"/>
            <a:ext cx="5886720" cy="1556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r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 you,I wouldn’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o th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29840" y="3124080"/>
            <a:ext cx="445248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If I were you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96720" y="1422360"/>
            <a:ext cx="549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 known,I w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ve told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30200" y="3581280"/>
            <a:ext cx="489276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If I had known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61040" y="1346040"/>
            <a:ext cx="66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Shoul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anyone call,ple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ake a messa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47520" y="3352680"/>
            <a:ext cx="641844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If anyone should call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65760" y="990720"/>
            <a:ext cx="374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中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现在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结果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将来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560" y="502920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将来时用于结果句，表示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可预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事实或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涉及到将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某个具体活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438280"/>
            <a:ext cx="675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v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ough ti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morrow,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ill writ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y parent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754440" y="914400"/>
            <a:ext cx="200952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暗含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6080" y="2362320"/>
            <a:ext cx="625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gon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wi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,but I had to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49680" y="4343400"/>
            <a:ext cx="666540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if I hadn’t had to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640" y="1066680"/>
            <a:ext cx="776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never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succeed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thout your hel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09120" y="3098880"/>
            <a:ext cx="691956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if you hadn’t helped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2880" y="990720"/>
            <a:ext cx="614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he ran;otherwise,s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miss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7200" y="3962520"/>
            <a:ext cx="524340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she had not run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8680" y="762120"/>
            <a:ext cx="362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中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现在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结果句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将来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85080" y="426708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用于结果句表示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种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习惯性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活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640" y="2362320"/>
            <a:ext cx="763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v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ough time,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r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my parents every 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14360" y="2286000"/>
            <a:ext cx="420408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现在和将来的非真实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　　（与事实相反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62120" y="888840"/>
            <a:ext cx="75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nough time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writ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my parent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1240" y="2514600"/>
            <a:ext cx="7782120" cy="14346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 truth,I do not have en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ime,so I will not write to th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7400" y="4340160"/>
            <a:ext cx="4782600" cy="1312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中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结果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would+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动词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52480" y="2286000"/>
            <a:ext cx="716292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的非真实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　（与事实相反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4520" y="380880"/>
            <a:ext cx="717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 h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ough time,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writte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m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arents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yesterday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4200" y="2819520"/>
            <a:ext cx="7965360" cy="1312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ruth,I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did 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have enough tim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 I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didn’t writ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t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52320" y="4648320"/>
            <a:ext cx="5261400" cy="1312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过去完成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结果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would have+-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87480" y="738360"/>
            <a:ext cx="657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与将来情况相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had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[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should hav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/were to hav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] enough time, I 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would writ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o my parents tomorr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10680" y="1143000"/>
            <a:ext cx="364932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条件句中“混合时间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　　　的用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3200400"/>
            <a:ext cx="454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从句中的时间与结果句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的时间经常不同：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一个句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可能是现在，另一个句子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能是过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1:00:22Z</dcterms:created>
  <dc:creator>李徐琴</dc:creator>
  <dc:description/>
  <dc:language>en-US</dc:language>
  <cp:lastModifiedBy>赵晨盼</cp:lastModifiedBy>
  <dcterms:modified xsi:type="dcterms:W3CDTF">2002-10-27T11:25:27Z</dcterms:modified>
  <cp:revision>7</cp:revision>
  <dc:subject/>
  <dc:title>PowerPoint 演示文稿</dc:title>
</cp:coreProperties>
</file>