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3A1-F759-492F-92AB-265045D9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88F-E271-4320-8D8C-30EBF3BC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93B-F425-4492-8778-4ACF5145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E28-D284-41D6-9966-06F30028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8411-41CF-4A60-9A2F-5AFE18DD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8951-2397-40F9-8752-989178B3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2134-4FA6-4B0B-8D8B-56DCD9CA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8667-10FC-4872-8C61-83C1E068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7A7F-0A70-4451-8B4A-D46B8046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30C7-F8D3-48FB-80E9-5E7E495D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C31D-AC08-4B8E-96CD-BBB91638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909-C97C-4632-A97E-F2232275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424E-DF77-4528-84E5-5A8E35D1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7ED9-69F8-4BAB-AF39-E22B1309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C80E-2B7A-4275-B6A8-22A75318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4DEF-9725-4186-B333-19EB99A6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D8EE-AE7B-49AF-A9EC-0E8CACB1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F12-8CA9-4502-80D9-BD01B642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33D-DBA7-47AA-B426-6CE761E9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7EE-2F39-42D1-86AA-F64ACED9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E66-0381-4C2E-A8FF-5EC52D1F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1C1-1195-436E-9B60-88C98915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104-1D5E-4E71-AF43-0EF5366B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F62-7EA1-4627-B28C-E618093C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34A2-9315-441B-A72B-428A066B0E2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F24F-7DE9-42E2-8949-87195A2746E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45640" y="981000"/>
            <a:ext cx="3077640" cy="825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eaeaea"/>
                </a:solidFill>
                <a:uFillTx/>
                <a:latin typeface="Arial Black"/>
              </a:rPr>
              <a:t>insist </a:t>
            </a:r>
            <a:r>
              <a:rPr b="0" lang="zh-CN" sz="4800" spc="-1" strike="noStrike" u="sng">
                <a:solidFill>
                  <a:srgbClr val="eaeaea"/>
                </a:solidFill>
                <a:uFillTx/>
                <a:latin typeface="Arial Black"/>
                <a:ea typeface="黑体"/>
              </a:rPr>
              <a:t>的用法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2565360"/>
            <a:ext cx="700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I insist that you </a:t>
            </a:r>
            <a:r>
              <a:rPr b="0" lang="zh-CN" sz="4800" spc="-1" strike="noStrike">
                <a:solidFill>
                  <a:srgbClr val="ff3300"/>
                </a:solidFill>
                <a:latin typeface="Arial Black"/>
              </a:rPr>
              <a:t>(should give)</a:t>
            </a: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 my money back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     “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  <a:ea typeface="黑体"/>
              </a:rPr>
              <a:t>坚决要求</a:t>
            </a: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6000" y="476280"/>
            <a:ext cx="6861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e came home with  a smile on his face, which suggested that he ___ work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should find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ad los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should have found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ad found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084640"/>
            <a:ext cx="4427640" cy="1008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2637000"/>
            <a:ext cx="1944720" cy="13129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suggest“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表明”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1197000"/>
            <a:ext cx="7797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The monitor insisted that I ___ on duty the day before yesterday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am     B. was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C. be      D. would b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284640"/>
            <a:ext cx="3095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26920" y="620640"/>
            <a:ext cx="772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Jane’s pale face suggested that she ___ ill, and her parents suggested that  she ____a medical examination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be… should hav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was… hav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should be… ha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was… h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365720"/>
            <a:ext cx="4427280" cy="576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1628640"/>
            <a:ext cx="707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I insist that my money </a:t>
            </a: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be back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hey insist that he </a:t>
            </a: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leave for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 Beijing tomorrow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0920" y="765000"/>
            <a:ext cx="238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is back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8200" y="5300640"/>
            <a:ext cx="23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leaves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1916280"/>
            <a:ext cx="704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e insisted that his camel </a:t>
            </a: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had been</a:t>
            </a: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 stolen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440" y="4162320"/>
            <a:ext cx="3126600" cy="82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?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 should b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he teacher suggested that her students ____ a composition after school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writ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o write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wrote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had written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500280"/>
            <a:ext cx="2881440" cy="1008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79440" y="1803240"/>
            <a:ext cx="459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insist; suggest;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87280" y="765000"/>
            <a:ext cx="7148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The guard at the gate insisted that everybody ____ the rules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obeys   B. obe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C. will obe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D.would obe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3573360"/>
            <a:ext cx="302400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620640"/>
            <a:ext cx="7724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he boss insisted that John ___ unfit for his work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was      B. is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C. should be   D. wer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781360"/>
            <a:ext cx="259236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62280" y="4653000"/>
            <a:ext cx="5334840" cy="764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黑体"/>
                <a:ea typeface="黑体"/>
              </a:rPr>
              <a:t>insist“</a:t>
            </a:r>
            <a:r>
              <a:rPr b="1" lang="zh-CN" sz="4400" spc="-1" strike="noStrike">
                <a:solidFill>
                  <a:srgbClr val="eaeaea"/>
                </a:solidFill>
                <a:latin typeface="黑体"/>
                <a:ea typeface="黑体"/>
              </a:rPr>
              <a:t>坚持说”，接陈述语气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692280"/>
            <a:ext cx="792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The officer ordered (commanded) the damaged ____ before dawn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must be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would be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be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should have been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3716280"/>
            <a:ext cx="863640" cy="6494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476280"/>
            <a:ext cx="7508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e suggested (advised) that the wounded ___ to the hospital as soon as possible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ad been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should have been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would be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be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5850000"/>
            <a:ext cx="3961080" cy="74772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3:02:55Z</dcterms:created>
  <dc:creator>Legend User</dc:creator>
  <dc:description/>
  <dc:language>en-US</dc:language>
  <cp:lastModifiedBy>Legend User</cp:lastModifiedBy>
  <dcterms:modified xsi:type="dcterms:W3CDTF">2002-11-25T13:37:19Z</dcterms:modified>
  <cp:revision>6</cp:revision>
  <dc:subject/>
  <dc:title>幻灯片 1</dc:title>
</cp:coreProperties>
</file>