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8FE-1D68-4E70-94DB-74E2C5C3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AF5-8A9D-4D7D-9573-C9B372FE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F5A-6A92-4358-BB62-7DD6CCFD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1AB-7DD2-4BC5-A67A-47479A77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B053-0F4A-4603-9E88-D65C2EE9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B2B1-04C1-44EB-9C53-1C9519B5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2806-F9B9-438E-9442-BA1106B5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AB88-8E27-4A8B-9D9D-E5930206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B9D9-68A0-4DFB-A96A-6E387F2E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28AC-13D3-4128-B595-C4B13B67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1562-C851-4BA9-99C2-63FC578F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965-7002-4909-A34B-7B8D452D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B011-B16F-417D-8EB6-1905050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06DA-8FEA-4556-A01E-F80F756C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1862-694C-44AE-8378-18D01156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71AD-E910-42F2-9565-E73384ED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7AAA-C782-4A6E-A6A3-DB1377E6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C23-D0B7-443F-AA12-A6A4889B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001-C4D3-4490-8948-262A2C95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023-E6BE-4E30-9E34-AC3A6462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55E-A5D4-4F33-9869-D5BBBA26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95B-0610-4258-A3ED-69766E17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682-DAF9-4CD8-A401-0FB20F02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93E-85E5-4827-AD5E-45A5565D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7C34-C1B9-44CF-BAEF-94DEDDC7171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1424-17D2-4A09-BDDB-9C46284BC0E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73600" y="762120"/>
            <a:ext cx="7970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You didn’t let me dr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 we ___ in turn,you 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so t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drove;didn’t 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drove;wouldn’t 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ere driving;wouldn’t 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driven;wouldn’t have g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6019920"/>
            <a:ext cx="7924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240" y="1143000"/>
            <a:ext cx="705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0.---Has Tom been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New Yor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---No,but she wish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sh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would     B.will next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          D.had next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6386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1400" y="1295280"/>
            <a:ext cx="763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1.The two strangers t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s if the ___ friends for ye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h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71500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762120"/>
            <a:ext cx="7088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2.I’d rather you ___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yesterday.I’d rather you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re tomorr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didn’t go;w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dn’t gone;should 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n’t gone;w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didn’t go;should 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257800"/>
            <a:ext cx="4876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8200" y="1346040"/>
            <a:ext cx="7480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3.___ your help,I w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 finished the work ahe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of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Because      B.But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ith            D.If I h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34340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523880"/>
            <a:ext cx="788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4.If only I ___ where he liv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know          B.have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knew          D.should k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733920"/>
            <a:ext cx="213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20400" y="762120"/>
            <a:ext cx="6683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5.---Why didn’t you bu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record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---I ___ but I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fford the 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would    B.would like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h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bou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181480"/>
            <a:ext cx="358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3160" y="1498680"/>
            <a:ext cx="87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6.___ it rain tomorrow,w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uld have to put off the visi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o the Yangpu Brid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ere      B.Sh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   D.Wi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44956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01360" y="533520"/>
            <a:ext cx="8346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7.Jane’s pale face suggest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she __ ill,and her parent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suggested that she ___ a medic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examin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be…should h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as…h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should be…h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was…h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952880"/>
            <a:ext cx="32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82360" y="1219320"/>
            <a:ext cx="827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8.The monitor insists that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___ on duty the day befo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A.am     B.was    C.be    D.would 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396252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21880" y="4343400"/>
            <a:ext cx="6071760" cy="1739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从句中的谓语动词所表示的动作尚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发生，用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should+V”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，若表示“硬说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用陈述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6280" y="533520"/>
            <a:ext cx="7767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9.Most of the me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emanded(requested,required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the meeting __ till af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ri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houldn’t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not be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n’t be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not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952880"/>
            <a:ext cx="4114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240" y="304920"/>
            <a:ext cx="7090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if it ___ for the snow,w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___ the mountain yester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were no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ould have climb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ere not;could clim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 not bee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ould have climb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not been;could clim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724280"/>
            <a:ext cx="3886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72720" y="736560"/>
            <a:ext cx="7735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0.He came home with a smi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on his face,which sugges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he ___ wo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hould f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d lo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should have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441972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2666880"/>
            <a:ext cx="253512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Sugg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说明，表明，暗示”，宾语从句用陈述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3120" y="1600200"/>
            <a:ext cx="854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1V.The guard at the gate insis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everybody __ the ru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obeys       B.ob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ill obey   D.would ob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8098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3400" y="0"/>
            <a:ext cx="6247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.---If he ___,he ____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---Luckily he was sent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the hospital immediate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.was warned;would not t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.had been warn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would not have 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C.would be warn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ad not 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D.would have been warn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ad not 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733920"/>
            <a:ext cx="4190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7720" y="2209680"/>
            <a:ext cx="758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I wish I ____ you yester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een      B.did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 seen     D.were to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57200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5000" y="1523880"/>
            <a:ext cx="7663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5.Without electricity hu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ife ____ quite difficult to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is                 B.will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w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257800"/>
            <a:ext cx="2895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1560" y="914400"/>
            <a:ext cx="7294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6.When a pencil is partly 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 glass of water,it looks as 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t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breaks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s br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ere br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been br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334120"/>
            <a:ext cx="358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88920" y="990720"/>
            <a:ext cx="6566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7.____ go down town t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fternoon,please post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etter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Had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ere you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If you d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Should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617220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6640" y="990720"/>
            <a:ext cx="765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8.I lost your address,otherw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or) I ___ you long befo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had visi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ve visi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have visi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should vis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4724280"/>
            <a:ext cx="5181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600200"/>
            <a:ext cx="7767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9.I wish  I ___ how to transl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s sente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knew         B.k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ve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should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0:59:03Z</dcterms:created>
  <dc:creator>Legend User</dc:creator>
  <dc:description/>
  <dc:language>en-US</dc:language>
  <cp:lastModifiedBy>Legend User</cp:lastModifiedBy>
  <dcterms:modified xsi:type="dcterms:W3CDTF">2002-10-05T01:29:53Z</dcterms:modified>
  <cp:revision>4</cp:revision>
  <dc:subject/>
  <dc:title>PowerPoint 演示文稿</dc:title>
</cp:coreProperties>
</file>