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DC2EEA-CFA4-492A-AA89-A13CA1DCA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7621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B264E7-68FA-415A-81CB-C53EC4C79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744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BF3CB44-0436-46B0-8286-403A043B1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20D2C35-8B53-43B2-BBBC-2C7857159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EA3035B-B22A-4EF8-BF46-D26AF3268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744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7621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12E3D23-E508-4F05-A190-35E1F00D7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744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744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04E38FF-3AB8-4747-803F-3F8FAF77F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744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7621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3CFAF01-E694-45D9-9559-E75424A0F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7621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DC8928C-BB26-4A10-BB70-7D0D06F5A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744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7621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744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2B4970B-EE90-4A0B-81A0-003525459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3901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0177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7621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3901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0177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EE3A852-46AC-47AA-9211-E06F69EEC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F64A93-9033-4125-B150-444CC0B66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4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7621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744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8D402F-770B-44D2-BF7B-1BAEB2D33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subTitle"/>
          </p:nvPr>
        </p:nvSpPr>
        <p:spPr>
          <a:xfrm>
            <a:off x="7621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6FF438-9636-404B-8421-73E207AA0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9C6BEC-4450-45B5-BD55-4AC57E51A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744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98607E-6D07-40FF-8016-A85AE768C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462BE9-F0AF-45AD-A6DB-B200EC925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98574F-415B-4DE6-A529-D395711B9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744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7621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259244-07AA-45B7-8BBE-7CABCBC65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744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744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6B1193-768C-4D79-BDE5-347FB6358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744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7621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BAECF9-626D-44DF-82D2-44D479328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7621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5B329D-D499-4912-AAB5-9A02D9778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744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7621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4744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162232-5D28-45C6-9C0F-2104A3FEB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3901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177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7621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3901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177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A2BDD9-6220-4188-B9CB-F025E238E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33901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60177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7621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00" name="PlaceHolder 6"/>
          <p:cNvSpPr>
            <a:spLocks noGrp="1"/>
          </p:cNvSpPr>
          <p:nvPr>
            <p:ph/>
          </p:nvPr>
        </p:nvSpPr>
        <p:spPr>
          <a:xfrm>
            <a:off x="33901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01" name="PlaceHolder 7"/>
          <p:cNvSpPr>
            <a:spLocks noGrp="1"/>
          </p:cNvSpPr>
          <p:nvPr>
            <p:ph/>
          </p:nvPr>
        </p:nvSpPr>
        <p:spPr>
          <a:xfrm>
            <a:off x="60177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371EAC-F593-44B9-A06D-BDE9D7956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DF16789-3780-43A1-8CB7-D85AA6F83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7621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77A78A2-AF91-4684-A3A3-73455A086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4194AA0-6BAB-4C7A-A289-E7E225BAC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744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629C139-633D-47AA-85A5-EB670FF2F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745D68B-A490-40CF-88E2-4DC2C0A8E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1244584-C488-4D88-BDBE-442FE143E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744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7621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F6A5E57-5A55-48E2-B705-606294FC9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744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744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D07E1DF-3CFA-45F7-AC22-4BE584191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744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7621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034D941-08E3-4543-BF32-010CF3CE4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8489A-7AD0-4CFB-8D1E-8CD82DD81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7621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B06E601-4F2C-4A9F-9F0C-E20A54798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744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7621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744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BD017E7-487C-4D15-9DDA-B23391967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3901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177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7621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3901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177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0FB458D-4DD6-4564-980B-CF99BE749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B2C5A5B-28AB-49B5-A87E-CD8F4C5D2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subTitle"/>
          </p:nvPr>
        </p:nvSpPr>
        <p:spPr>
          <a:xfrm>
            <a:off x="7621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538B9C6-136F-4672-BA36-B8C299DFE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373CD91-C745-4343-BF3E-495AE45F5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744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D8F36C1-00E2-4D20-9BB4-644295DF0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B117693-094F-48A0-B829-7100BD003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B752FA2-834E-481A-B2B6-BB3DE16A4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744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7621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C87CDF4-51AD-4097-BE3C-2991F2240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7621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3F11B-7ED5-436A-A0D0-95487C868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744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4744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E7C9A2C-A9F7-47BC-B94F-017A075A8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744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7621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8791779-B9FF-40EE-9D93-57EA8D5FE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7621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EE54D67-A234-4992-88FE-52E337D27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744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7621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/>
          </p:nvPr>
        </p:nvSpPr>
        <p:spPr>
          <a:xfrm>
            <a:off x="4744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E45DFD9-C76B-49AD-B620-B98968047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33901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60177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18" name="PlaceHolder 5"/>
          <p:cNvSpPr>
            <a:spLocks noGrp="1"/>
          </p:cNvSpPr>
          <p:nvPr>
            <p:ph/>
          </p:nvPr>
        </p:nvSpPr>
        <p:spPr>
          <a:xfrm>
            <a:off x="7621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19" name="PlaceHolder 6"/>
          <p:cNvSpPr>
            <a:spLocks noGrp="1"/>
          </p:cNvSpPr>
          <p:nvPr>
            <p:ph/>
          </p:nvPr>
        </p:nvSpPr>
        <p:spPr>
          <a:xfrm>
            <a:off x="33901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20" name="PlaceHolder 7"/>
          <p:cNvSpPr>
            <a:spLocks noGrp="1"/>
          </p:cNvSpPr>
          <p:nvPr>
            <p:ph/>
          </p:nvPr>
        </p:nvSpPr>
        <p:spPr>
          <a:xfrm>
            <a:off x="60177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9B47E10-2D11-48CE-B7D3-BACFA232E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319D9FC8-480C-4A9F-9154-C1FB554A9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 type="subTitle"/>
          </p:nvPr>
        </p:nvSpPr>
        <p:spPr>
          <a:xfrm>
            <a:off x="7621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2498975E-AA8C-4FC0-A221-BD86CD39F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96EB92D5-AC9B-4A59-8C68-0A3D313B6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744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8FF3DA31-F492-4DF9-8D98-2E8305757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33E22ADA-E171-4C88-90E5-4FA33DFFD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42881-6BFE-49D6-B5AD-5BC1ED805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7B70D65B-5FAC-4A6F-B59C-27671032C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744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7621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CB3B9507-5B98-4CFC-B7AB-7D88AC3E0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744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4744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BAAF6957-DE87-46FE-8AB4-D2EB58459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744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7621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79CFEB20-266D-481A-9270-23AF2598A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7621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2CB7C448-F0CC-4981-B65C-CA2142EE9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744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7621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4744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4FC1A665-6691-4CEB-B1E3-234F1C99E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33901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60177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78" name="PlaceHolder 5"/>
          <p:cNvSpPr>
            <a:spLocks noGrp="1"/>
          </p:cNvSpPr>
          <p:nvPr>
            <p:ph/>
          </p:nvPr>
        </p:nvSpPr>
        <p:spPr>
          <a:xfrm>
            <a:off x="7621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79" name="PlaceHolder 6"/>
          <p:cNvSpPr>
            <a:spLocks noGrp="1"/>
          </p:cNvSpPr>
          <p:nvPr>
            <p:ph/>
          </p:nvPr>
        </p:nvSpPr>
        <p:spPr>
          <a:xfrm>
            <a:off x="33901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80" name="PlaceHolder 7"/>
          <p:cNvSpPr>
            <a:spLocks noGrp="1"/>
          </p:cNvSpPr>
          <p:nvPr>
            <p:ph/>
          </p:nvPr>
        </p:nvSpPr>
        <p:spPr>
          <a:xfrm>
            <a:off x="60177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1E6EED69-24D6-4A1E-9BAB-F879662C0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44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B1060-5852-489D-903C-9B87D53B0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559F1-EDE6-4D18-88B1-7EC6960D2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0D2B1-4C02-44C4-B28A-EA26F2510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744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7621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C6A72-A87D-46E9-95CC-4B3712E8D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7621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4E2111-1024-4292-9270-1E99E47F1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744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744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0404A-B9C3-47E0-B338-BBC75677B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744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7621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60A58-2945-4D73-A319-A5F919585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7621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B1308-4F5D-4122-AFB4-2D35D2496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744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7621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744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C18D0-BDFD-4963-8D34-481A9939B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3901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177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7621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3901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177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2E506-21EA-480E-A403-385598602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7A0993-5F05-4ADE-B207-A671355C2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7621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2A9E97-FDB8-4706-A858-AC823A1C5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0A8FFD-2BBB-4A82-B41E-D8265E999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744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2D5B3F-CA6F-4072-80F2-F121D4D1D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215971-1668-48A6-B46C-6977DFAF4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51AC32-1B90-48C1-B9AB-F481FE7F8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D16807-8AC5-4630-B7A7-E5C375299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744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7621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54200F-8F08-4061-9242-7656F5394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744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744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3E6EB0-A642-4B63-B49E-77A99FCD2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744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7621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39A594-CF70-480B-BF74-0531790A8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7621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AFE44E-7492-44DE-8D3F-9D3713A99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744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7621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744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1C5BB4-419E-4F69-B070-CA50F7A5C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3901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177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7621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3901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177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AFBD05-05B4-41AE-A10F-9B092080F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3B110A-97E3-4C74-875B-586654A57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7621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360FBA-BF9A-4F22-AA1F-4B935014D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BB198C-28FD-47F5-AB93-2F7D4D6F2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4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A1EF2D-E6E9-467C-A918-632EB1948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744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5F29C9-8AFA-4E06-B01B-EC923A672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8AF7BF-D85E-47D8-A01E-C987E3D3B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14F731-13FD-4C30-A12F-CE9FB1695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744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7621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776268-DEE4-41FE-B48E-6D4E68F7B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744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744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35C4DF-DDB9-425B-AFB5-2DE978D76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744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7621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CB366A-366D-4E28-8BF2-4E9721257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7621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8D1B2A-EA6C-4C3B-A201-A2669FEAD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44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7621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744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878A11-89BF-4A07-A7D0-36D408504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3901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177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7621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3901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177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FD49AF-216A-4D98-B5E9-DD7283677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F767A3-BF2D-4BA5-9C7B-2A2839F1D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32706F-84B1-4A87-9FF9-A7D04D3A8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7621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EA27F8-71FF-4A52-A672-39627E0D2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BF15FA-1C20-4363-9BE8-765D6C788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44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2C6914-E187-4631-84C1-82DC9A7E2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39B9A4-8A25-4ED9-A2CF-6C4608857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52B335-A65C-451E-9CD2-6259B0C97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744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7621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F5F092-2463-4349-89B1-078453DEB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744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744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94C88E-8726-44A9-B430-38A031000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744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7621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6201DE-6A54-4146-B0A8-9D53F9697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7621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255E8D-000A-4896-9F7A-60CF1B218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744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7621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744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66812F-5703-4C17-8A88-4F0DAEDD9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83D930-E844-4B8B-BC25-AE6BE3383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33901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0177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7621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72" name="PlaceHolder 6"/>
          <p:cNvSpPr>
            <a:spLocks noGrp="1"/>
          </p:cNvSpPr>
          <p:nvPr>
            <p:ph/>
          </p:nvPr>
        </p:nvSpPr>
        <p:spPr>
          <a:xfrm>
            <a:off x="33901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73" name="PlaceHolder 7"/>
          <p:cNvSpPr>
            <a:spLocks noGrp="1"/>
          </p:cNvSpPr>
          <p:nvPr>
            <p:ph/>
          </p:nvPr>
        </p:nvSpPr>
        <p:spPr>
          <a:xfrm>
            <a:off x="60177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E21DB7-5F53-43FD-8288-560BF8200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800BCBD-8624-4807-B98D-5BF1EFCFA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subTitle"/>
          </p:nvPr>
        </p:nvSpPr>
        <p:spPr>
          <a:xfrm>
            <a:off x="7621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44D9C9F-4E72-48F8-BA99-5EB060CAA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883AAEB-183F-4BC5-A3FE-6FF0A835C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744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AC5ED20-25FE-4B9C-AB1F-146069E93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BA86B86-AF65-46D6-8A4A-2BC825431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6642C05-713E-4CF9-B516-CF0A54A3F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744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7621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4097F7D-ECCE-426A-92AA-67E3E5DAB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744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744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5578619-F547-4C7F-8052-BD1A97CF6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744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7621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87DF096-38A5-4D41-BA46-4F1B76B35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4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7621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261C25-77FC-47D9-9A2C-B090E6FA1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7621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D0C0D39-43A2-4564-BB89-0756C2D64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744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7621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744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65D6044-7CA3-40C7-BB69-2366FF8AB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33901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60177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7621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32" name="PlaceHolder 6"/>
          <p:cNvSpPr>
            <a:spLocks noGrp="1"/>
          </p:cNvSpPr>
          <p:nvPr>
            <p:ph/>
          </p:nvPr>
        </p:nvSpPr>
        <p:spPr>
          <a:xfrm>
            <a:off x="33901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33" name="PlaceHolder 7"/>
          <p:cNvSpPr>
            <a:spLocks noGrp="1"/>
          </p:cNvSpPr>
          <p:nvPr>
            <p:ph/>
          </p:nvPr>
        </p:nvSpPr>
        <p:spPr>
          <a:xfrm>
            <a:off x="60177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D8EEB7B-B7FD-48AA-A9C0-ADAEE4B0B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B186C83-F828-43E1-B3CB-C2B029F0B633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ubTitle"/>
          </p:nvPr>
        </p:nvSpPr>
        <p:spPr>
          <a:xfrm>
            <a:off x="7621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7C2E7E1-EF5E-4532-B09D-2130FC4DE760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AE6825D-1199-45E4-8AD9-BC12E611B0D1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744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7A960A4-D718-44F4-857E-7904E19329F3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73AA4F3-0C8E-420F-9260-EFA4508C23C9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3F42B61-CAF5-44ED-9C24-F41FF969E412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744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7621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1757F41-2835-4A5E-8A57-127D22C605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744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744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D5F96F-F20C-4A73-B233-DFA1F1BA7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744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744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E716B60-B644-4258-9365-4AACC8D2CA3E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744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7621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A152A9F-F6D7-4D64-A4F4-118F8F54CD3F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7621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4E852B1-8BAB-4E66-9AD8-9ACDA64FF4CE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744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7621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744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6BD5F0B-8A06-4EB3-ADEE-BD29B0F2BAB4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3901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60177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7621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/>
          </p:nvPr>
        </p:nvSpPr>
        <p:spPr>
          <a:xfrm>
            <a:off x="33901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75" name="PlaceHolder 7"/>
          <p:cNvSpPr>
            <a:spLocks noGrp="1"/>
          </p:cNvSpPr>
          <p:nvPr>
            <p:ph/>
          </p:nvPr>
        </p:nvSpPr>
        <p:spPr>
          <a:xfrm>
            <a:off x="60177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051F782-9A3D-4F2C-8D0E-2E9C0C2AAF92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87A4242-0E34-4DDA-BC31-0178E06C0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7621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40B4B6A-2BA9-4B86-9B8A-6E97850A1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87CBD73-4E3F-4A8C-95CC-91860893F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744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9F992DB-3711-40E2-BF94-9C7B51C40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2565EE9-F961-4AD1-A7CE-36EA3CA88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744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7621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05A19E-CF33-4210-935B-45C6CBF30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736C0B2-B221-40E8-93C2-B82E563F6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744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7621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FF1FA10-E9E2-492E-B682-C5849ABEB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744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744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C98DB08-490A-45DB-A9A1-002373E9B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744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7621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0FA4768-3905-452B-BAB4-ACA1CB7CE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7621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115ED72-3AA7-4D29-828A-8B7F6D644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744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7621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744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40EB7FF-158D-47F0-895A-D604CDECD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3901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177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7621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3901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177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B9A8419-ACEB-4D02-A494-F06A78AE7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ACD388C-0379-4228-A903-CB6AD8E55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7621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9A3430B-2801-4445-9353-4B58EAB58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EF49F06-C99C-48DF-ABF3-8430AC264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45.xml"/><Relationship Id="rId7" Type="http://schemas.openxmlformats.org/officeDocument/2006/relationships/slideLayout" Target="../slideLayouts/slideLayout146.xml"/><Relationship Id="rId8" Type="http://schemas.openxmlformats.org/officeDocument/2006/relationships/slideLayout" Target="../slideLayouts/slideLayout147.xml"/><Relationship Id="rId9" Type="http://schemas.openxmlformats.org/officeDocument/2006/relationships/slideLayout" Target="../slideLayouts/slideLayout148.xml"/><Relationship Id="rId10" Type="http://schemas.openxmlformats.org/officeDocument/2006/relationships/slideLayout" Target="../slideLayouts/slideLayout149.xml"/><Relationship Id="rId11" Type="http://schemas.openxmlformats.org/officeDocument/2006/relationships/slideLayout" Target="../slideLayouts/slideLayout150.xml"/><Relationship Id="rId12" Type="http://schemas.openxmlformats.org/officeDocument/2006/relationships/slideLayout" Target="../slideLayouts/slideLayout151.xml"/><Relationship Id="rId13" Type="http://schemas.openxmlformats.org/officeDocument/2006/relationships/slideLayout" Target="../slideLayouts/slideLayout152.xml"/><Relationship Id="rId14" Type="http://schemas.openxmlformats.org/officeDocument/2006/relationships/slideLayout" Target="../slideLayouts/slideLayout153.xml"/><Relationship Id="rId15" Type="http://schemas.openxmlformats.org/officeDocument/2006/relationships/slideLayout" Target="../slideLayouts/slideLayout154.xml"/><Relationship Id="rId16" Type="http://schemas.openxmlformats.org/officeDocument/2006/relationships/slideLayout" Target="../slideLayouts/slideLayout155.xml"/><Relationship Id="rId17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38746-7D2B-4355-9B9C-DBBB0621C72B}" type="slidenum">
              <a:rPr b="0" lang="zh-CN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0D6CE-091F-447D-90BF-5B9B8B514AF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body"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051560" indent="-210240">
              <a:spcBef>
                <a:spcPts val="700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3" marL="1472040" indent="-210240">
              <a:spcBef>
                <a:spcPts val="700"/>
              </a:spcBef>
              <a:buClr>
                <a:srgbClr val="33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1892520" indent="-210240">
              <a:spcBef>
                <a:spcPts val="700"/>
              </a:spcBef>
              <a:buClr>
                <a:srgbClr val="00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5" marL="1892520" indent="-21024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6" marL="1892520" indent="-21024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3" name=""/>
          <p:cNvSpPr/>
          <p:nvPr/>
        </p:nvSpPr>
        <p:spPr>
          <a:xfrm>
            <a:off x="0" y="2286000"/>
            <a:ext cx="533520" cy="53352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533520" y="2819520"/>
            <a:ext cx="533160" cy="53316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1981080" y="533520"/>
            <a:ext cx="381240" cy="38088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62120" y="1066680"/>
            <a:ext cx="380880" cy="38124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1143000" y="685800"/>
            <a:ext cx="380880" cy="38088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2362320" y="152280"/>
            <a:ext cx="380880" cy="38124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0" y="755640"/>
            <a:ext cx="5867280" cy="7632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715000" y="609480"/>
            <a:ext cx="304920" cy="304920"/>
          </a:xfrm>
          <a:prstGeom prst="rect">
            <a:avLst/>
          </a:prstGeom>
          <a:solidFill>
            <a:srgbClr val="0099cc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5562720" y="457200"/>
            <a:ext cx="304560" cy="30492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8458200" y="3962520"/>
            <a:ext cx="380880" cy="380880"/>
          </a:xfrm>
          <a:prstGeom prst="rect">
            <a:avLst/>
          </a:prstGeom>
          <a:solidFill>
            <a:srgbClr val="0099cc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8686800" y="3657600"/>
            <a:ext cx="380880" cy="380880"/>
          </a:xfrm>
          <a:prstGeom prst="rect">
            <a:avLst/>
          </a:prstGeom>
          <a:solidFill>
            <a:srgbClr val="009999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14" name=""/>
          <p:cNvGrpSpPr/>
          <p:nvPr/>
        </p:nvGrpSpPr>
        <p:grpSpPr>
          <a:xfrm>
            <a:off x="0" y="2286000"/>
            <a:ext cx="1066680" cy="1066680"/>
            <a:chOff x="0" y="2286000"/>
            <a:chExt cx="1066680" cy="1066680"/>
          </a:xfrm>
        </p:grpSpPr>
        <p:sp>
          <p:nvSpPr>
            <p:cNvPr id="515" name=""/>
            <p:cNvSpPr/>
            <p:nvPr/>
          </p:nvSpPr>
          <p:spPr>
            <a:xfrm>
              <a:off x="0" y="2286000"/>
              <a:ext cx="533520" cy="53316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533520" y="2819160"/>
              <a:ext cx="533160" cy="53352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7" name="PlaceHolder 2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 type="dt" idx="29"/>
          </p:nvPr>
        </p:nvSpPr>
        <p:spPr>
          <a:xfrm>
            <a:off x="6553080" y="6480000"/>
            <a:ext cx="18288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b2b2b2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 type="ftr" idx="30"/>
          </p:nvPr>
        </p:nvSpPr>
        <p:spPr>
          <a:xfrm>
            <a:off x="1295280" y="6480000"/>
            <a:ext cx="28958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b2b2b2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 type="sldNum" idx="31"/>
          </p:nvPr>
        </p:nvSpPr>
        <p:spPr>
          <a:xfrm>
            <a:off x="5791320" y="6171840"/>
            <a:ext cx="761760" cy="60948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2800" spc="-1" strike="noStrike">
                <a:solidFill>
                  <a:srgbClr val="000066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E5647-6EB9-43C5-94BB-991945CBCE14}" type="slidenum">
              <a:rPr b="1" lang="zh-CN" sz="28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1" name=""/>
          <p:cNvGrpSpPr/>
          <p:nvPr/>
        </p:nvGrpSpPr>
        <p:grpSpPr>
          <a:xfrm>
            <a:off x="762120" y="152280"/>
            <a:ext cx="1981080" cy="1295640"/>
            <a:chOff x="762120" y="152280"/>
            <a:chExt cx="1981080" cy="1295640"/>
          </a:xfrm>
        </p:grpSpPr>
        <p:sp>
          <p:nvSpPr>
            <p:cNvPr id="522" name=""/>
            <p:cNvSpPr/>
            <p:nvPr/>
          </p:nvSpPr>
          <p:spPr>
            <a:xfrm>
              <a:off x="1981440" y="533520"/>
              <a:ext cx="380880" cy="380880"/>
            </a:xfrm>
            <a:prstGeom prst="rect">
              <a:avLst/>
            </a:prstGeom>
            <a:solidFill>
              <a:srgbClr val="0099cc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762120" y="1066680"/>
              <a:ext cx="380880" cy="381240"/>
            </a:xfrm>
            <a:prstGeom prst="rect">
              <a:avLst/>
            </a:prstGeom>
            <a:solidFill>
              <a:srgbClr val="0099cc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1143000" y="685800"/>
              <a:ext cx="381240" cy="380880"/>
            </a:xfrm>
            <a:prstGeom prst="rect">
              <a:avLst/>
            </a:prstGeom>
            <a:solidFill>
              <a:srgbClr val="339966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362320" y="152280"/>
              <a:ext cx="380880" cy="38124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"/>
          <p:cNvSpPr/>
          <p:nvPr/>
        </p:nvSpPr>
        <p:spPr>
          <a:xfrm>
            <a:off x="2895480" y="4303800"/>
            <a:ext cx="3276720" cy="0"/>
          </a:xfrm>
          <a:prstGeom prst="line">
            <a:avLst/>
          </a:prstGeom>
          <a:ln w="381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4" name=""/>
          <p:cNvSpPr/>
          <p:nvPr/>
        </p:nvSpPr>
        <p:spPr>
          <a:xfrm>
            <a:off x="0" y="1066680"/>
            <a:ext cx="8686800" cy="53352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65" name=""/>
          <p:cNvGrpSpPr/>
          <p:nvPr/>
        </p:nvGrpSpPr>
        <p:grpSpPr>
          <a:xfrm>
            <a:off x="533520" y="0"/>
            <a:ext cx="3276360" cy="2133720"/>
            <a:chOff x="533520" y="0"/>
            <a:chExt cx="3276360" cy="2133720"/>
          </a:xfrm>
        </p:grpSpPr>
        <p:sp>
          <p:nvSpPr>
            <p:cNvPr id="566" name=""/>
            <p:cNvSpPr/>
            <p:nvPr/>
          </p:nvSpPr>
          <p:spPr>
            <a:xfrm>
              <a:off x="1600200" y="1066680"/>
              <a:ext cx="53352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133720" y="160020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743200" y="533520"/>
              <a:ext cx="533520" cy="53316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276720" y="106668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1066680" y="533520"/>
              <a:ext cx="533520" cy="53316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33520" y="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72" name=""/>
          <p:cNvGrpSpPr/>
          <p:nvPr/>
        </p:nvGrpSpPr>
        <p:grpSpPr>
          <a:xfrm>
            <a:off x="533520" y="0"/>
            <a:ext cx="3276000" cy="2133720"/>
            <a:chOff x="533520" y="0"/>
            <a:chExt cx="3276000" cy="2133720"/>
          </a:xfrm>
        </p:grpSpPr>
        <p:sp>
          <p:nvSpPr>
            <p:cNvPr id="573" name=""/>
            <p:cNvSpPr/>
            <p:nvPr/>
          </p:nvSpPr>
          <p:spPr>
            <a:xfrm>
              <a:off x="1599840" y="1067040"/>
              <a:ext cx="533160" cy="533160"/>
            </a:xfrm>
            <a:prstGeom prst="rect">
              <a:avLst/>
            </a:prstGeom>
            <a:solidFill>
              <a:srgbClr val="0099cc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133360" y="1600200"/>
              <a:ext cx="533160" cy="53352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2742840" y="533520"/>
              <a:ext cx="533160" cy="53352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3276360" y="1067040"/>
              <a:ext cx="533160" cy="53316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066680" y="533520"/>
              <a:ext cx="532800" cy="533520"/>
            </a:xfrm>
            <a:prstGeom prst="rect">
              <a:avLst/>
            </a:prstGeom>
            <a:solidFill>
              <a:srgbClr val="339966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533520" y="0"/>
              <a:ext cx="533160" cy="53352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79" name=""/>
          <p:cNvSpPr/>
          <p:nvPr/>
        </p:nvSpPr>
        <p:spPr>
          <a:xfrm>
            <a:off x="4114800" y="4191120"/>
            <a:ext cx="210960" cy="210960"/>
          </a:xfrm>
          <a:prstGeom prst="rect">
            <a:avLst/>
          </a:prstGeom>
          <a:solidFill>
            <a:srgbClr val="0099cc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4419720" y="4191120"/>
            <a:ext cx="210960" cy="210960"/>
          </a:xfrm>
          <a:prstGeom prst="rect">
            <a:avLst/>
          </a:prstGeom>
          <a:solidFill>
            <a:srgbClr val="009999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4724280" y="4191120"/>
            <a:ext cx="211320" cy="210960"/>
          </a:xfrm>
          <a:prstGeom prst="rect">
            <a:avLst/>
          </a:prstGeom>
          <a:solidFill>
            <a:srgbClr val="00cc99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dt" idx="32"/>
          </p:nvPr>
        </p:nvSpPr>
        <p:spPr>
          <a:xfrm>
            <a:off x="6553080" y="6480000"/>
            <a:ext cx="18288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b2b2b2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 type="ftr" idx="33"/>
          </p:nvPr>
        </p:nvSpPr>
        <p:spPr>
          <a:xfrm>
            <a:off x="1295280" y="6480000"/>
            <a:ext cx="28958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b2b2b2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 type="sldNum" idx="34"/>
          </p:nvPr>
        </p:nvSpPr>
        <p:spPr>
          <a:xfrm>
            <a:off x="5791320" y="6171840"/>
            <a:ext cx="761760" cy="60948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3200" spc="-1" strike="noStrike">
                <a:solidFill>
                  <a:srgbClr val="000066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94985-0E7F-4B56-B447-ACB5818D964C}" type="slidenum">
              <a:rPr b="1" lang="zh-CN" sz="32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1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622" name=""/>
            <p:cNvSpPr/>
            <p:nvPr/>
          </p:nvSpPr>
          <p:spPr>
            <a:xfrm>
              <a:off x="457200" y="76320"/>
              <a:ext cx="8229600" cy="3808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76320" y="457200"/>
              <a:ext cx="380880" cy="59436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457200" y="6400800"/>
              <a:ext cx="8229600" cy="38088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8686800" y="457200"/>
              <a:ext cx="380880" cy="594360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457200" y="457200"/>
              <a:ext cx="8229600" cy="5943600"/>
            </a:xfrm>
            <a:prstGeom prst="rect">
              <a:avLst/>
            </a:prstGeom>
            <a:noFill/>
            <a:ln cap="sq" w="57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76320" y="76320"/>
              <a:ext cx="8991360" cy="6705360"/>
            </a:xfrm>
            <a:prstGeom prst="rect">
              <a:avLst/>
            </a:prstGeom>
            <a:noFill/>
            <a:ln cap="sq"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28" name=""/>
            <p:cNvGrpSpPr/>
            <p:nvPr/>
          </p:nvGrpSpPr>
          <p:grpSpPr>
            <a:xfrm>
              <a:off x="0" y="0"/>
              <a:ext cx="609480" cy="609480"/>
              <a:chOff x="0" y="0"/>
              <a:chExt cx="609480" cy="609480"/>
            </a:xfrm>
          </p:grpSpPr>
          <p:sp>
            <p:nvSpPr>
              <p:cNvPr id="629" name=""/>
              <p:cNvSpPr/>
              <p:nvPr/>
            </p:nvSpPr>
            <p:spPr>
              <a:xfrm>
                <a:off x="0" y="0"/>
                <a:ext cx="609480" cy="609480"/>
              </a:xfrm>
              <a:prstGeom prst="rect">
                <a:avLst/>
              </a:prstGeom>
              <a:solidFill>
                <a:srgbClr val="ffffff"/>
              </a:solidFill>
              <a:ln cap="sq" w="57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160200" y="160200"/>
                <a:ext cx="289080" cy="289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57575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31" name=""/>
            <p:cNvGrpSpPr/>
            <p:nvPr/>
          </p:nvGrpSpPr>
          <p:grpSpPr>
            <a:xfrm>
              <a:off x="0" y="6246720"/>
              <a:ext cx="609480" cy="609840"/>
              <a:chOff x="0" y="6246720"/>
              <a:chExt cx="609480" cy="609840"/>
            </a:xfrm>
          </p:grpSpPr>
          <p:sp>
            <p:nvSpPr>
              <p:cNvPr id="632" name=""/>
              <p:cNvSpPr/>
              <p:nvPr/>
            </p:nvSpPr>
            <p:spPr>
              <a:xfrm>
                <a:off x="0" y="6246720"/>
                <a:ext cx="609480" cy="609840"/>
              </a:xfrm>
              <a:prstGeom prst="rect">
                <a:avLst/>
              </a:prstGeom>
              <a:solidFill>
                <a:srgbClr val="ffffff"/>
              </a:solidFill>
              <a:ln cap="sq" w="57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160200" y="6407280"/>
                <a:ext cx="289080" cy="2887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57575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34" name=""/>
            <p:cNvGrpSpPr/>
            <p:nvPr/>
          </p:nvGrpSpPr>
          <p:grpSpPr>
            <a:xfrm>
              <a:off x="8532720" y="6246720"/>
              <a:ext cx="609840" cy="609840"/>
              <a:chOff x="8532720" y="6246720"/>
              <a:chExt cx="609840" cy="609840"/>
            </a:xfrm>
          </p:grpSpPr>
          <p:sp>
            <p:nvSpPr>
              <p:cNvPr id="635" name=""/>
              <p:cNvSpPr/>
              <p:nvPr/>
            </p:nvSpPr>
            <p:spPr>
              <a:xfrm>
                <a:off x="8532720" y="6246720"/>
                <a:ext cx="609840" cy="609840"/>
              </a:xfrm>
              <a:prstGeom prst="rect">
                <a:avLst/>
              </a:prstGeom>
              <a:solidFill>
                <a:srgbClr val="ffffff"/>
              </a:solidFill>
              <a:ln cap="sq" w="57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8693280" y="6407280"/>
                <a:ext cx="288720" cy="2887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57575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37" name=""/>
            <p:cNvGrpSpPr/>
            <p:nvPr/>
          </p:nvGrpSpPr>
          <p:grpSpPr>
            <a:xfrm>
              <a:off x="8532720" y="0"/>
              <a:ext cx="609840" cy="609480"/>
              <a:chOff x="8532720" y="0"/>
              <a:chExt cx="609840" cy="609480"/>
            </a:xfrm>
          </p:grpSpPr>
          <p:sp>
            <p:nvSpPr>
              <p:cNvPr id="638" name=""/>
              <p:cNvSpPr/>
              <p:nvPr/>
            </p:nvSpPr>
            <p:spPr>
              <a:xfrm>
                <a:off x="8532720" y="0"/>
                <a:ext cx="609840" cy="609480"/>
              </a:xfrm>
              <a:prstGeom prst="rect">
                <a:avLst/>
              </a:prstGeom>
              <a:solidFill>
                <a:srgbClr val="ffffff"/>
              </a:solidFill>
              <a:ln cap="sq" w="57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8693280" y="160200"/>
                <a:ext cx="288720" cy="289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57575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body"/>
          </p:nvPr>
        </p:nvSpPr>
        <p:spPr>
          <a:xfrm>
            <a:off x="7621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1" marL="339480" indent="-3394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2" marL="339480" indent="-3394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3" marL="339480" indent="-3394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4" marL="339480" indent="-3394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5" marL="339480" indent="-3394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6" marL="339480" indent="-3394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 type="dt" idx="35"/>
          </p:nvPr>
        </p:nvSpPr>
        <p:spPr>
          <a:xfrm>
            <a:off x="6705720" y="5486400"/>
            <a:ext cx="18288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800" spc="-1" strike="noStrike">
                <a:solidFill>
                  <a:srgbClr val="000000"/>
                </a:solidFill>
                <a:latin typeface="Monotype Corsiv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Monotype Corsiva"/>
              </a:rPr>
              <a:t>&lt;date/time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 type="ftr" idx="3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 type="sldNum" idx="3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EB387-07E4-43EA-B3B1-D6649E7BE6B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6"/>
    <p:sldLayoutId id="2147483806" r:id="rId7"/>
    <p:sldLayoutId id="2147483807" r:id="rId8"/>
    <p:sldLayoutId id="2147483808" r:id="rId9"/>
    <p:sldLayoutId id="2147483809" r:id="rId10"/>
    <p:sldLayoutId id="2147483810" r:id="rId11"/>
    <p:sldLayoutId id="2147483811" r:id="rId12"/>
    <p:sldLayoutId id="2147483812" r:id="rId13"/>
    <p:sldLayoutId id="2147483813" r:id="rId14"/>
    <p:sldLayoutId id="2147483814" r:id="rId15"/>
    <p:sldLayoutId id="2147483815" r:id="rId16"/>
    <p:sldLayoutId id="2147483816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09140-53F0-4B4D-8BE0-57F148C0096F}" type="slidenum">
              <a:rPr b="0" lang="zh-CN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"/>
          <p:cNvGrpSpPr/>
          <p:nvPr/>
        </p:nvGrpSpPr>
        <p:grpSpPr>
          <a:xfrm>
            <a:off x="-8405280" y="4680"/>
            <a:ext cx="17538120" cy="27381240"/>
            <a:chOff x="-8405280" y="4680"/>
            <a:chExt cx="17538120" cy="27381240"/>
          </a:xfrm>
        </p:grpSpPr>
        <p:sp>
          <p:nvSpPr>
            <p:cNvPr id="127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-8405280" y="4680"/>
              <a:ext cx="773094112920" cy="2738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0"/>
                </a:path>
              </a:pathLst>
            </a:custGeom>
            <a:noFill/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  <a:ea typeface="宋体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0199B-4005-40FC-AA7F-52CA63774A0F}" type="slidenum">
              <a:rPr b="0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0" name=""/>
          <p:cNvGrpSpPr/>
          <p:nvPr/>
        </p:nvGrpSpPr>
        <p:grpSpPr>
          <a:xfrm>
            <a:off x="-93752280" y="1463760"/>
            <a:ext cx="171988200" cy="21589560"/>
            <a:chOff x="-93752280" y="1463760"/>
            <a:chExt cx="171988200" cy="21589560"/>
          </a:xfrm>
        </p:grpSpPr>
        <p:sp>
          <p:nvSpPr>
            <p:cNvPr id="171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-93752280" y="1463760"/>
              <a:ext cx="171988200" cy="2158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"/>
                </a:path>
              </a:pathLst>
            </a:custGeom>
            <a:noFill/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dt" idx="10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ftr" idx="11"/>
          </p:nvPr>
        </p:nvSpPr>
        <p:spPr>
          <a:xfrm>
            <a:off x="129528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sldNum" idx="12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F2EB0-7AF8-4A83-B442-499912291FB1}" type="slidenum">
              <a:rPr b="0" lang="zh-CN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14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6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218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19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220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227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C100D-A89D-4A38-A872-75C580D9363C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4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275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7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279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80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281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86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288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sldNum" idx="1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B00C6-866E-4486-B902-8E3BD34A1A58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1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" descr=""/>
          <p:cNvPicPr/>
          <p:nvPr/>
        </p:nvPicPr>
        <p:blipFill>
          <a:blip r:embed="rId2"/>
          <a:stretch/>
        </p:blipFill>
        <p:spPr>
          <a:xfrm>
            <a:off x="0" y="4303800"/>
            <a:ext cx="9144000" cy="2554200"/>
          </a:xfrm>
          <a:prstGeom prst="rect">
            <a:avLst/>
          </a:prstGeom>
          <a:ln w="0">
            <a:noFill/>
          </a:ln>
        </p:spPr>
      </p:pic>
      <p:pic>
        <p:nvPicPr>
          <p:cNvPr id="335" name="" descr=""/>
          <p:cNvPicPr/>
          <p:nvPr/>
        </p:nvPicPr>
        <p:blipFill>
          <a:blip r:embed="rId3"/>
          <a:stretch/>
        </p:blipFill>
        <p:spPr>
          <a:xfrm>
            <a:off x="8686800" y="64008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PlaceHolder 1"/>
          <p:cNvSpPr>
            <a:spLocks noGrp="1"/>
          </p:cNvSpPr>
          <p:nvPr>
            <p:ph type="sldNum" idx="19"/>
          </p:nvPr>
        </p:nvSpPr>
        <p:spPr>
          <a:xfrm>
            <a:off x="8686800" y="6459480"/>
            <a:ext cx="3808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F1FC7-9FAE-4E57-B631-D6340469953B}" type="slidenum">
              <a:rPr b="0" lang="zh-CN" sz="1400" spc="-1" strike="noStrike">
                <a:solidFill>
                  <a:srgbClr val="ffff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4"/>
          <a:stretch/>
        </p:blipFill>
        <p:spPr>
          <a:xfrm>
            <a:off x="609480" y="0"/>
            <a:ext cx="1685880" cy="6858000"/>
          </a:xfrm>
          <a:prstGeom prst="rect">
            <a:avLst/>
          </a:prstGeom>
          <a:ln w="0">
            <a:noFill/>
          </a:ln>
        </p:spPr>
      </p:pic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2438280" y="762120"/>
            <a:ext cx="60199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title"/>
          </p:nvPr>
        </p:nvSpPr>
        <p:spPr>
          <a:xfrm>
            <a:off x="861480" y="774720"/>
            <a:ext cx="1143000" cy="53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377" name="" descr=""/>
            <p:cNvPicPr/>
            <p:nvPr/>
          </p:nvPicPr>
          <p:blipFill>
            <a:blip r:embed="rId2"/>
            <a:stretch/>
          </p:blipFill>
          <p:spPr>
            <a:xfrm>
              <a:off x="1676520" y="4772160"/>
              <a:ext cx="7467480" cy="208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8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68588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9" name="" descr=""/>
            <p:cNvPicPr/>
            <p:nvPr/>
          </p:nvPicPr>
          <p:blipFill>
            <a:blip r:embed="rId4"/>
            <a:stretch/>
          </p:blipFill>
          <p:spPr>
            <a:xfrm>
              <a:off x="304920" y="1371600"/>
              <a:ext cx="8534160" cy="3772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dt" idx="2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 type="ftr" idx="2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 type="sldNum" idx="2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55BC9-9CAA-4FCA-AA76-6C57B3F107B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 type="dt" idx="2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 type="ftr" idx="2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 type="sldNum" idx="2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ECFB1-AF57-449F-AAAA-88ECAA05A8C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9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"/>
          <p:cNvSpPr/>
          <p:nvPr/>
        </p:nvSpPr>
        <p:spPr>
          <a:xfrm>
            <a:off x="1187280" y="2449440"/>
            <a:ext cx="6626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5. </a:t>
            </a:r>
            <a:r>
              <a:rPr b="1" lang="en-US" sz="4800" spc="-1" strike="noStrike">
                <a:solidFill>
                  <a:srgbClr val="ffff00"/>
                </a:solidFill>
                <a:latin typeface="Arial Black"/>
              </a:rPr>
              <a:t>why don’t</a:t>
            </a: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 you do something about it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/>
          </p:nvPr>
        </p:nvSpPr>
        <p:spPr>
          <a:xfrm>
            <a:off x="324000" y="1989000"/>
            <a:ext cx="853272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1" marL="7279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1. There seems (to be)…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2. I would like you to…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3. It  looks as if…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4. I insist that you (should)…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5. why don’t you do something about it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6" name=""/>
          <p:cNvSpPr txBox="1"/>
          <p:nvPr/>
        </p:nvSpPr>
        <p:spPr>
          <a:xfrm>
            <a:off x="2843280" y="981000"/>
            <a:ext cx="3390840" cy="99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 Black"/>
              </a:rPr>
              <a:t>Oral practic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</p:spTree>
  </p:cSld>
  <p:transition spd="med">
    <p:blinds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7" name="" descr=""/>
          <p:cNvPicPr/>
          <p:nvPr/>
        </p:nvPicPr>
        <p:blipFill>
          <a:blip r:embed="rId1"/>
          <a:stretch/>
        </p:blipFill>
        <p:spPr>
          <a:xfrm>
            <a:off x="468360" y="441360"/>
            <a:ext cx="8136000" cy="5840280"/>
          </a:xfrm>
          <a:prstGeom prst="rect">
            <a:avLst/>
          </a:prstGeom>
          <a:ln w="0">
            <a:noFill/>
          </a:ln>
        </p:spPr>
      </p:pic>
      <p:sp>
        <p:nvSpPr>
          <p:cNvPr id="698" name=""/>
          <p:cNvSpPr txBox="1"/>
          <p:nvPr/>
        </p:nvSpPr>
        <p:spPr>
          <a:xfrm>
            <a:off x="3203640" y="1628640"/>
            <a:ext cx="2727360" cy="169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Thanks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699" name=""/>
          <p:cNvSpPr txBox="1"/>
          <p:nvPr/>
        </p:nvSpPr>
        <p:spPr>
          <a:xfrm>
            <a:off x="3132000" y="2997360"/>
            <a:ext cx="3168720" cy="122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Thanks</a:t>
            </a:r>
            <a:endParaRPr b="1" lang="en-US" sz="40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2339640" y="1341000"/>
            <a:ext cx="4103640" cy="107964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Black"/>
              </a:rPr>
              <a:t>At the shop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82" name=""/>
          <p:cNvSpPr/>
          <p:nvPr/>
        </p:nvSpPr>
        <p:spPr>
          <a:xfrm>
            <a:off x="1403280" y="3429000"/>
            <a:ext cx="62658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 Black"/>
              </a:rPr>
              <a:t>How to talk when shopping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1331640" y="1773360"/>
            <a:ext cx="6264360" cy="302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Arial Black"/>
              </a:rPr>
              <a:t>What’s happening?</a:t>
            </a:r>
            <a:br>
              <a:rPr sz="4800"/>
            </a:b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ffffff"/>
                </a:solidFill>
                <a:latin typeface="Arial Black"/>
              </a:rPr>
              <a:t>shop assistant and a customer</a:t>
            </a: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6840" y="1988640"/>
            <a:ext cx="8939160" cy="40309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trips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1008000" cy="18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ff3300"/>
                </a:solidFill>
                <a:latin typeface="Arial Black"/>
              </a:rPr>
              <a:t>?</a:t>
            </a:r>
            <a:r>
              <a:rPr b="0" lang="en-US" sz="9600" spc="-1" strike="noStrike">
                <a:solidFill>
                  <a:srgbClr val="e3e3ff"/>
                </a:solidFill>
                <a:latin typeface="Arial Black"/>
              </a:rPr>
              <a:t> </a:t>
            </a:r>
            <a:r>
              <a:rPr b="0" lang="en-US" sz="9600" spc="-1" strike="noStrike">
                <a:solidFill>
                  <a:srgbClr val="e3e3ff"/>
                </a:solidFill>
                <a:latin typeface="Arial"/>
              </a:rPr>
              <a:t>    </a:t>
            </a:r>
            <a:endParaRPr b="0" lang="en-US" sz="9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68360" y="1457280"/>
            <a:ext cx="84247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 Black"/>
              </a:rPr>
              <a:t>1 </a:t>
            </a: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what did the customer buy 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2 Why did she return to the shop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3 what did she want the assistant to do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4 what did they both agree to do at las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" dur="80"/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" dur="80"/>
                                        <p:tgtEl>
                                          <p:spTgt spid="6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" dur="80"/>
                                        <p:tgtEl>
                                          <p:spTgt spid="6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8" name=""/>
          <p:cNvSpPr/>
          <p:nvPr/>
        </p:nvSpPr>
        <p:spPr>
          <a:xfrm>
            <a:off x="3434760" y="3213000"/>
            <a:ext cx="190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anguage stud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9" name=""/>
          <p:cNvSpPr txBox="1"/>
          <p:nvPr/>
        </p:nvSpPr>
        <p:spPr>
          <a:xfrm>
            <a:off x="2411280" y="2492280"/>
            <a:ext cx="431964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language study</a:t>
            </a:r>
            <a:endParaRPr b="0" lang="en-US" sz="4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med">
    <p:blinds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"/>
          <p:cNvSpPr/>
          <p:nvPr/>
        </p:nvSpPr>
        <p:spPr>
          <a:xfrm>
            <a:off x="900000" y="2133720"/>
            <a:ext cx="72010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1</a:t>
            </a: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. </a:t>
            </a:r>
            <a:r>
              <a:rPr b="1" lang="en-US" sz="4800" spc="-1" strike="noStrike">
                <a:solidFill>
                  <a:srgbClr val="ffff00"/>
                </a:solidFill>
                <a:latin typeface="Arial Black"/>
              </a:rPr>
              <a:t>There seems to be</a:t>
            </a: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 something wrong with it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"/>
          <p:cNvSpPr/>
          <p:nvPr/>
        </p:nvSpPr>
        <p:spPr>
          <a:xfrm>
            <a:off x="1116000" y="2349360"/>
            <a:ext cx="74167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2. I </a:t>
            </a:r>
            <a:r>
              <a:rPr b="1" lang="en-US" sz="4800" spc="-1" strike="noStrike">
                <a:solidFill>
                  <a:srgbClr val="ffff00"/>
                </a:solidFill>
                <a:latin typeface="Arial Black"/>
              </a:rPr>
              <a:t>would like</a:t>
            </a: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 you </a:t>
            </a:r>
            <a:r>
              <a:rPr b="1" lang="en-US" sz="4800" spc="-1" strike="noStrike">
                <a:solidFill>
                  <a:srgbClr val="ffff00"/>
                </a:solidFill>
                <a:latin typeface="Arial Black"/>
              </a:rPr>
              <a:t>to</a:t>
            </a: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 change this blouse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"/>
          <p:cNvSpPr/>
          <p:nvPr/>
        </p:nvSpPr>
        <p:spPr>
          <a:xfrm>
            <a:off x="395280" y="2149560"/>
            <a:ext cx="86407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3. </a:t>
            </a:r>
            <a:r>
              <a:rPr b="1" lang="en-US" sz="4800" spc="-1" strike="noStrike">
                <a:solidFill>
                  <a:srgbClr val="ffff00"/>
                </a:solidFill>
                <a:latin typeface="Arial Black"/>
              </a:rPr>
              <a:t>It looks as if</a:t>
            </a: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 it has not been washed following the instruction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"/>
          <p:cNvSpPr/>
          <p:nvPr/>
        </p:nvSpPr>
        <p:spPr>
          <a:xfrm>
            <a:off x="539640" y="2378160"/>
            <a:ext cx="8209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4. I </a:t>
            </a:r>
            <a:r>
              <a:rPr b="1" lang="en-US" sz="4800" spc="-1" strike="noStrike">
                <a:solidFill>
                  <a:srgbClr val="ffff00"/>
                </a:solidFill>
                <a:latin typeface="Arial Black"/>
              </a:rPr>
              <a:t>insist</a:t>
            </a: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 that you give me my money back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9T03:21:52Z</dcterms:created>
  <dc:creator>zz</dc:creator>
  <dc:description/>
  <dc:language>en-US</dc:language>
  <cp:lastModifiedBy>Legend User</cp:lastModifiedBy>
  <dcterms:modified xsi:type="dcterms:W3CDTF">2002-12-01T06:49:10Z</dcterms:modified>
  <cp:revision>18</cp:revision>
  <dc:subject/>
  <dc:title>介绍演讲者</dc:title>
</cp:coreProperties>
</file>