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gif" ContentType="image/gif"/>
  <Override PartName="/ppt/media/image11.wmf" ContentType="image/x-wmf"/>
  <Override PartName="/ppt/media/image3.png" ContentType="image/png"/>
  <Override PartName="/ppt/media/image23.gif" ContentType="image/gif"/>
  <Override PartName="/ppt/media/image20.png" ContentType="image/png"/>
  <Override PartName="/ppt/media/image17.gif" ContentType="image/gif"/>
  <Override PartName="/ppt/media/image18.gif" ContentType="image/gif"/>
  <Override PartName="/ppt/media/image21.png" ContentType="image/png"/>
  <Override PartName="/ppt/media/image19.png" ContentType="image/png"/>
  <Override PartName="/ppt/media/image16.jpeg" ContentType="image/jpe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22.gif" ContentType="image/gif"/>
  <Override PartName="/ppt/media/image2.png" ContentType="image/pn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FFC7-83B2-4152-BF5A-04779A2A5D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e insist on / upon self-reliance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们坚持自力更生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Not a word fell from her lips. She fell silent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一声不吭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又陷入沉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he could not suffer critic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受不了批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er hair's going gr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的头发变为灰白色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The old lady will go nuts if still no news comes from her 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假如还是没有她儿子的消息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太太可真要发疯了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C20-ACA6-4F0A-9FD1-DA9FEE2B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F30-CD0E-4B38-94E1-581ACCA6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EAD-BAC9-4489-B5DF-8C24D2B6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C5F-9224-4200-86C9-4335B22E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A0FE-F789-43B0-A8F4-86D1C8F5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F941-CAB4-4CBD-B4B9-3E66F690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BCE5-A839-45B3-A788-3AD6E607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53D3-2EA6-4429-BF5B-6CD8165D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4BC3-10C6-47A3-B59B-A0D1D61D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E3E5-97D3-4E2B-B338-8C0E810D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28AE-4A22-4FA4-A6D3-3E3FB15A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1C3-7261-4396-93B8-4D4B67B1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C84E-31AD-4B84-851D-B1F8431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3999-CECC-4A3B-B19D-8D6E94DD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3DBF-997F-45BA-8FAD-551583F1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A841-91B3-4C41-8845-8F3A2AD1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CE58-57EB-43C2-B9C9-4F8E013B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6D0-52C9-408B-9E7E-BB0B86C3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81E-4CA6-40CC-8463-FEA5A892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CAC-01DA-4C25-A009-53C829A7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D05-AB37-4E68-B521-D24D6851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1BC-ECA6-4A0A-80B8-45D8297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966-C9E2-4A4C-A735-44376D06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373-626C-400C-9D3F-C50614C2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9DD0-6451-47BE-8BD6-535391D585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9E03-E350-4C4E-A99C-5CE672817F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29528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Lesson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ew Words and Expres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oatma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old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val offic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is cousin is a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sailo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 He is doing well in the nav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HH01669_" descr=""/>
          <p:cNvPicPr/>
          <p:nvPr/>
        </p:nvPicPr>
        <p:blipFill>
          <a:blip r:embed="rId5"/>
          <a:stretch/>
        </p:blipFill>
        <p:spPr>
          <a:xfrm>
            <a:off x="5486400" y="3200400"/>
            <a:ext cx="114948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ep 1: Lea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his nationality? 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we call him “Captain”, what do you think of his job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ntry did he discov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that there is a famous strait called “Cook Strait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752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1240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ai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7339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ustr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bgb3u21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44280"/>
            <a:ext cx="9144000" cy="10688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sten to the tape and tell whether these sentences are true or fals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071720"/>
            <a:ext cx="88203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Captain Cook insisted on taking live animals because he liked them very much. 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ENDEAVOUR was a strong and fast ship which also had plenty of space below for storing things.  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Cook suggested taking a lot of vinegar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cleaning the inside of the ship.(   )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f.gif (15087 bytes)"/>
          <p:cNvPicPr/>
          <p:nvPr/>
        </p:nvPicPr>
        <p:blipFill>
          <a:blip r:embed="rId2"/>
          <a:stretch/>
        </p:blipFill>
        <p:spPr>
          <a:xfrm>
            <a:off x="395280" y="2328840"/>
            <a:ext cx="693720" cy="433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.gif (15087 bytes)"/>
          <p:cNvPicPr/>
          <p:nvPr/>
        </p:nvPicPr>
        <p:blipFill>
          <a:blip r:embed="rId3"/>
          <a:stretch/>
        </p:blipFill>
        <p:spPr>
          <a:xfrm>
            <a:off x="4094280" y="4292640"/>
            <a:ext cx="693720" cy="433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t.gif (13807 bytes)"/>
          <p:cNvPicPr/>
          <p:nvPr/>
        </p:nvPicPr>
        <p:blipFill>
          <a:blip r:embed="rId4"/>
          <a:stretch/>
        </p:blipFill>
        <p:spPr>
          <a:xfrm>
            <a:off x="8317080" y="5877000"/>
            <a:ext cx="704520" cy="44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98440"/>
            <a:ext cx="8915400" cy="70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tep 2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 to  the dialogue and find out: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are they going to take with them for this long journe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.Foo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buClr>
                <a:srgbClr val="0033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live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3. cabbage in vin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4. vin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8580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y are they going to take all these things with them for this long journ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Vinega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bbage in vineg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ive anim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905120"/>
            <a:ext cx="464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m to 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66688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the inside of the 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3352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them 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4191120"/>
            <a:ext cx="7086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gs: provide them with me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ep :  provide them with meat.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chickens:  provide them with eggs and m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Step3 Practice: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read the dialogue in pairs. </a:t>
            </a:r>
            <a:br>
              <a:rPr sz="6600"/>
            </a:br>
            <a:br>
              <a:rPr sz="3200"/>
            </a:b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What is Captain Cook talking about to the seama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518148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icrosoft Sans Serif"/>
              </a:rPr>
              <a:t>what stores Captain Cook wants the seaman to o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2. Why does Captain Cook insist on taking some live animals for their expediti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ecause the men often fall ill and suffer fev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3. What other food will they take for this expediti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36576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take a lot of cabbage in vineg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4. Why does Captain Cook want the cabbage to be kept in vinega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41911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ecause eating cabbage will keep them health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5. What kind of ship are they going to tak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37339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take the Endeavo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efinition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 journey undertaken by a group of people with a definite objective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56386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Lucida Sans Unicode"/>
              </a:rPr>
              <a:t>expe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4.gif (56554 字节)"/>
          <p:cNvPicPr/>
          <p:nvPr/>
        </p:nvPicPr>
        <p:blipFill>
          <a:blip r:embed="rId3"/>
          <a:stretch/>
        </p:blipFill>
        <p:spPr>
          <a:xfrm>
            <a:off x="1600200" y="762120"/>
            <a:ext cx="5761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6. Why does Captain Cook suggest taking a lot of vinega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3809880"/>
            <a:ext cx="701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use it for cleaning the inside of the ship. If they do this, they’ll have less sickn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Step 4 Find the sentences or phras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 is very important that we t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ave a f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 we would throw away if we did not have the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shall order them to (eat 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ry h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lot of room below the deck for putting stores of 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It is very important that we tak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have a fev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32767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I insist on tak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48006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uffer f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at we would throw away if we did not have the anim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I shall order them to (eat it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3200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that we would otherwise throw a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5181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I shall insist that they 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ry har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 lot of room below the deck for putting stores of foo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12193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endeav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419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a lot of room below for s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80880"/>
            <a:ext cx="82296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Step5.key words and phr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expedition,insist on doing,suffer fever,live animals,hear of sth,keep sb healthy,suggest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191120"/>
            <a:ext cx="7620120" cy="2399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tep 6:Language point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838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※ 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prepare for =get ready for=make preparation for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而准备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514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hat special present do you prepare for Teachers’ Day</a:t>
            </a:r>
            <a:r>
              <a:rPr b="0" lang="zh-CN" sz="4400" spc="-1" strike="noStrike">
                <a:solidFill>
                  <a:srgbClr val="ff3300"/>
                </a:solidFill>
                <a:latin typeface="Monotype Corsiv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0384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be prepared for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---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做好准备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25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expedition to the Pacif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44197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ave you decided which boat to take, sir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某个范围内选择一个，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i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keep them healthy. Healthy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形容词作宾补，对宾语进行补充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3644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ore     1)n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储藏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y took enough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ith them for the long jour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v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储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can store the numbers into  your telephone so that you won’t have to dial them one by one nex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9144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order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vt./n----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订购，订单，点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I have ordered beaf for supp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company received an order of 500 comput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2) vt./n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命令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order sb to do sth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n’t order me to do any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manager ordered that everyone </a:t>
            </a:r>
            <a:r>
              <a:rPr b="0" lang="zh-CN" sz="30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shoul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 work extra hours this wee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army received an order that they</a:t>
            </a:r>
            <a:r>
              <a:rPr b="0" lang="zh-CN" sz="30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shoul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)set off before daybrea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3) n.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次序，状况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in order   ;out of order ;in the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order of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insist on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taking proper food for this expeditio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3276720"/>
            <a:ext cx="4114800" cy="2743200"/>
          </a:xfrm>
          <a:prstGeom prst="cloudCallout">
            <a:avLst>
              <a:gd name="adj1" fmla="val -56750"/>
              <a:gd name="adj2" fmla="val -130324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sis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h. /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坚持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efinition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upplies, especially of food, clothing, or arm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19112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icrosoft Sans Serif"/>
              </a:rPr>
              <a:t>store  (</a:t>
            </a:r>
            <a:r>
              <a:rPr b="1" i="1" lang="en-US" sz="6000" spc="-1" strike="noStrike">
                <a:solidFill>
                  <a:srgbClr val="ff3300"/>
                </a:solidFill>
                <a:latin typeface="Microsoft Sans Serif"/>
              </a:rPr>
              <a:t>n</a:t>
            </a:r>
            <a:r>
              <a:rPr b="1" lang="en-US" sz="6000" spc="-1" strike="noStrike">
                <a:solidFill>
                  <a:srgbClr val="ff3300"/>
                </a:solidFill>
                <a:latin typeface="Microsoft Sans Serif"/>
              </a:rPr>
              <a:t>.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insist on sth. / doing sth.</a:t>
            </a:r>
            <a:br>
              <a:rPr sz="3200"/>
            </a:b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insist that … (should) do sth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si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“坚持”别人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应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某事，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ould do,should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省略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insist on taking proper food for this expedition.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hall insist that they do from now on.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560" y="3276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ed o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her stay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t ho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st on / upon self-reli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ll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 not re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ntil we finish the 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ed that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should) b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vi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He insisted that he had paid the bi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476280"/>
            <a:ext cx="7416720" cy="1556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常用此句型中的动词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uggest, propose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建议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命令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require, command, demand, desire, request,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要求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advis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忠告 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2698920"/>
            <a:ext cx="856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He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omic Sans MS"/>
              </a:rPr>
              <a:t>suggests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 that Mary do more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His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omic Sans MS"/>
              </a:rPr>
              <a:t> suggestion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 is that Mary do m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practice.</a:t>
            </a:r>
            <a:r>
              <a:rPr b="1" lang="zh-CN" sz="32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他建议玛丽多做练习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95280" y="549360"/>
            <a:ext cx="80643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 insist that you _____________ (use) a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e insisted that he _____________  (not tell) a l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He suggested _____ (go) to the concert with me and I thought his expression suggested he _____ (be) really interested in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6174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hould use/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4920" y="198612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n’t 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3284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4437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8604360" y="6165720"/>
            <a:ext cx="431640" cy="5763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. The men often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fall ill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and suffer fev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438280"/>
            <a:ext cx="3505320" cy="1981440"/>
          </a:xfrm>
          <a:prstGeom prst="cloudCallout">
            <a:avLst>
              <a:gd name="adj1" fmla="val 53351"/>
              <a:gd name="adj2" fmla="val -121393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come  ill; be 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fall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为系动词，表示“进入某种状态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night sh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i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c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on they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asle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 word fell from her lips. Sh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sil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g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3. The men often fall ill and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suffer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fev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124080"/>
            <a:ext cx="4343400" cy="1828800"/>
          </a:xfrm>
          <a:prstGeom prst="cloudCallout">
            <a:avLst>
              <a:gd name="adj1" fmla="val -73611"/>
              <a:gd name="adj2" fmla="val -120138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ffe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……之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suffer sth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could not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critic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en my father was a child, 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hunger and c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 serous disease as a result of over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s King’s legs were badly hurt and s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great p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ahoma"/>
              </a:rPr>
              <a:t>suffer from</a:t>
            </a:r>
            <a:r>
              <a:rPr b="1" i="1" lang="zh-CN" sz="4800" spc="-1" strike="noStrike">
                <a:solidFill>
                  <a:srgbClr val="000000"/>
                </a:solidFill>
                <a:latin typeface="Tahoma"/>
                <a:ea typeface="华文新魏"/>
              </a:rPr>
              <a:t>因…而受苦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He is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ing 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tootha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ed</a:t>
            </a:r>
            <a:r>
              <a:rPr b="1" lang="zh-CN" sz="2800" spc="-1" strike="noStrike">
                <a:solidFill>
                  <a:srgbClr val="c7c7d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greatly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over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We learned that he was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ing</a:t>
            </a:r>
            <a:r>
              <a:rPr b="1" i="1" lang="zh-CN" sz="2800" spc="-1" strike="noStrike">
                <a:solidFill>
                  <a:srgbClr val="c7c7df"/>
                </a:solidFill>
                <a:latin typeface="Tahoma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canc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live  [lɑiv]          adj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活的；现场直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[ liv ]        v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生存； 活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live , li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ving: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活着的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dj                  live:  adj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生命力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iving fish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活鱼 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ive fish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活蹦乱跳的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9280" y="146160"/>
            <a:ext cx="7578720" cy="106884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2) I didn't know we were going to take live animals with us, Sir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先生，我（刚才）不知道咱们要带活动物随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2560" y="177336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 don't know …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话时还不知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 didn't know …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话前不知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注意语境产生的区别，有时说汉语，听不出差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3789360"/>
            <a:ext cx="763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don‘t know who he i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不知道他是何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现在还不知道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didn’t know who he wa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（刚才）不知道他是何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现在已知道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2057400"/>
            <a:ext cx="914400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※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provide sb. with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“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给某人提供某物”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(=provide sth. for sb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335268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e school provided the children ____ books.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     </a:t>
            </a: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e school provided books ___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800" y="312408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680" y="38098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480060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同义：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supply sb with s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= supply sth  to / for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water/electricity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3049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otherwise      adv.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否则；要不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hrow away    (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及物动词）扔掉；抛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Definition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o a great degree; especiall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88620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Verdana"/>
              </a:rPr>
              <a:t>particular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68360" y="115920"/>
            <a:ext cx="7176960" cy="15562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3) It is not worth taking many vegetables. They quickly go bad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带这么多蔬菜不值，因为蔬菜易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8414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 doing /sth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264960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e book is worth reading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本书值得一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31880" y="3857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y of sth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，佩得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480996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y of being done = be worthy to be don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一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539720"/>
            <a:ext cx="2665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orth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c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lu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valu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2106720"/>
            <a:ext cx="3743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没价值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无价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非常宝贵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3280" y="1916280"/>
            <a:ext cx="2160360" cy="576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556000" y="2491920"/>
            <a:ext cx="2520720" cy="10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2709720"/>
            <a:ext cx="2520720" cy="1150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771640" y="3860280"/>
            <a:ext cx="2305080" cy="5763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2667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Guess the mea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. They usually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go bad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as soon as we are at se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41148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went whit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with ang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r hair's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going grey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1295280"/>
            <a:ext cx="6095880" cy="2438640"/>
          </a:xfrm>
          <a:prstGeom prst="wedgeEllipseCallout">
            <a:avLst>
              <a:gd name="adj1" fmla="val 5050"/>
              <a:gd name="adj2" fmla="val -80337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与形容词连用，表示“变得，成为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urn, become, ge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40320" y="5638680"/>
            <a:ext cx="865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go/become hungry/ mad/wrong/st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5. They usually go bad as soon as we are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at sea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海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航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e se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海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ship is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t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children are playing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t the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似的短语还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038480"/>
            <a:ext cx="327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t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t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21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※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in vinegar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用醋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in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prep.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用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材料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362320"/>
            <a:ext cx="807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ink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用墨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this way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以这种方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a low voice</a:t>
            </a: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低声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029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※ “ </a:t>
            </a: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keep + sb. + adj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.”   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------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保持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6. Have you </a:t>
            </a:r>
            <a:r>
              <a:rPr b="1" i="1" lang="zh-CN" sz="3600" spc="-1" strike="noStrike">
                <a:solidFill>
                  <a:srgbClr val="ff3300"/>
                </a:solidFill>
                <a:latin typeface="Tahoma"/>
              </a:rPr>
              <a:t>decided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which boat to take, sir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didn’t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deci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what to do th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y hav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decided 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building a school t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思相近的短语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3048120"/>
            <a:ext cx="3809880" cy="838080"/>
          </a:xfrm>
          <a:prstGeom prst="wedgeEllipseCallout">
            <a:avLst>
              <a:gd name="adj1" fmla="val -50125"/>
              <a:gd name="adj2" fmla="val -92615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可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0384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up one’s mind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determined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5562720"/>
            <a:ext cx="914400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would do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表示过去习惯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e.g: She would sit like that for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7. It is a good, strong ship,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though</a:t>
            </a: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 not very fas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词</a:t>
            </a:r>
            <a:r>
              <a:rPr b="1" i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ough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引导的让步状语从句中的主语与主句中的主语相同时，可以略去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ough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面的主语和谓语中的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She knows a lot of things </a:t>
            </a: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tho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ugh</a:t>
            </a:r>
            <a:r>
              <a:rPr b="1" lang="zh-CN" sz="3600" spc="-1" strike="noStrike">
                <a:solidFill>
                  <a:srgbClr val="c7c7d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very young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Though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short of money,  they were determined to continue with their projec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. I </a:t>
            </a:r>
            <a:r>
              <a:rPr b="1" i="1" lang="zh-CN" sz="3200" spc="-1" strike="noStrike">
                <a:solidFill>
                  <a:srgbClr val="ff3300"/>
                </a:solidFill>
                <a:latin typeface="Tahoma"/>
              </a:rPr>
              <a:t>sugges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taking a lot of vinegar.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uggest + doing/n./that sb.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should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  do…     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uggest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：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how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（ 不虚拟）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I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 bringing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the meeting to an e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The teacher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ed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we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(should) attend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the medical confer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His pale face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ed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he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Arial Narrow"/>
              </a:rPr>
              <a:t>was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in poor heal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4952880"/>
            <a:ext cx="5715000" cy="1828800"/>
          </a:xfrm>
          <a:prstGeom prst="wedgeEllipseCallout">
            <a:avLst>
              <a:gd name="adj1" fmla="val -18416"/>
              <a:gd name="adj2" fmla="val -81162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gges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“暗示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show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从句用陈述语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523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※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hy vinegar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000" y="2286000"/>
            <a:ext cx="740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hy (do we) take vinegar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76720"/>
            <a:ext cx="914400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※ </a:t>
            </a:r>
            <a:r>
              <a:rPr b="0" lang="zh-CN" sz="5400" spc="-1" strike="noStrike">
                <a:solidFill>
                  <a:srgbClr val="003300"/>
                </a:solidFill>
                <a:latin typeface="Times New Roman"/>
              </a:rPr>
              <a:t>use sth for doing sth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                               “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使用某物去做某事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7960" y="4495680"/>
            <a:ext cx="803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被动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5400" spc="-1" strike="noStrike">
                <a:solidFill>
                  <a:srgbClr val="003300"/>
                </a:solidFill>
                <a:latin typeface="Times New Roman"/>
              </a:rPr>
              <a:t>sth be used for doing s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9. leaving at 7 a.m.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sharp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adv.(exactly at the stated time)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harp  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adv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指时间“几点整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The train arrives at 4 p.m.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  <a:ea typeface="华文新魏"/>
              </a:rPr>
              <a:t>shar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38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3124080"/>
            <a:ext cx="152388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200400"/>
            <a:ext cx="388620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 ill ,fever, sic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200400"/>
            <a:ext cx="228600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172200"/>
            <a:ext cx="236196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(of be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115920"/>
            <a:ext cx="8820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all ill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生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fall s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uffer fever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发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at sea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海上（航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row away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扔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rovide sb with sth=provide sth to sb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提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go bad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食物）变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or stores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供储存用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stor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存储备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the store (s)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库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5800" y="18900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11280" y="68112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.   Milk is easy to ________ bad in summer.                               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turn     B. go     C. be    D. be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273456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bad,  go wrong ,  go mad,  go hungry ,  go deaf ,  go blind,  go dry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固定搭配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动态动词，表示状态的变化。还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become,  grow,  get,  turn,  fall,  com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还有一类表示状态存在的静态系动词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有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eem,  appear,  look,  feel,  smell,  sound,  taste,  keep,  remain,  continue,  stay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rov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等。   故选答案</a:t>
            </a:r>
            <a:r>
              <a:rPr b="0" lang="zh-CN" sz="3200" spc="-1" strike="noStrike">
                <a:solidFill>
                  <a:srgbClr val="660066"/>
                </a:solidFill>
                <a:latin typeface="Comic Sans MS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t.gif (13807 bytes)"/>
          <p:cNvPicPr/>
          <p:nvPr/>
        </p:nvPicPr>
        <p:blipFill>
          <a:blip r:embed="rId2"/>
          <a:stretch/>
        </p:blipFill>
        <p:spPr>
          <a:xfrm>
            <a:off x="2787480" y="1908000"/>
            <a:ext cx="704880" cy="441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11280" y="115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hoose the best ans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2997360"/>
            <a:ext cx="75596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500280"/>
            <a:ext cx="52578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8000" y="44712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 problem ________ unsolved until    last year.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kept    B. stay    C. remained    D.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2) His face ________red at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went    B. grew  C. turned   D. loo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3) The moment he went to bed,  he________ a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go    B. fell    C. was    D.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t.gif (13807 bytes)"/>
          <p:cNvPicPr/>
          <p:nvPr/>
        </p:nvPicPr>
        <p:blipFill>
          <a:blip r:embed="rId2"/>
          <a:stretch/>
        </p:blipFill>
        <p:spPr>
          <a:xfrm>
            <a:off x="3780000" y="1700280"/>
            <a:ext cx="704520" cy="441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t.gif (13807 bytes)"/>
          <p:cNvPicPr/>
          <p:nvPr/>
        </p:nvPicPr>
        <p:blipFill>
          <a:blip r:embed="rId3"/>
          <a:stretch/>
        </p:blipFill>
        <p:spPr>
          <a:xfrm>
            <a:off x="3938760" y="3203640"/>
            <a:ext cx="704520" cy="441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t.gif (13807 bytes)"/>
          <p:cNvPicPr/>
          <p:nvPr/>
        </p:nvPicPr>
        <p:blipFill>
          <a:blip r:embed="rId4"/>
          <a:stretch/>
        </p:blipFill>
        <p:spPr>
          <a:xfrm>
            <a:off x="6027840" y="5148360"/>
            <a:ext cx="704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6600" y="547920"/>
            <a:ext cx="7781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4)   That is a ________fis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ve   B. alive    C. life    D.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5)  They are going to give ______ broadcast while the football game is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fe    B. living    C. alive   D.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6) The general was caught ______ in the w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ve   B. alive    C. life    D.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t.gif (13807 bytes)"/>
          <p:cNvPicPr/>
          <p:nvPr/>
        </p:nvPicPr>
        <p:blipFill>
          <a:blip r:embed="rId2"/>
          <a:stretch/>
        </p:blipFill>
        <p:spPr>
          <a:xfrm>
            <a:off x="1274760" y="1125360"/>
            <a:ext cx="704880" cy="441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t.gif (13807 bytes)"/>
          <p:cNvPicPr/>
          <p:nvPr/>
        </p:nvPicPr>
        <p:blipFill>
          <a:blip r:embed="rId3"/>
          <a:stretch/>
        </p:blipFill>
        <p:spPr>
          <a:xfrm>
            <a:off x="6746760" y="3059280"/>
            <a:ext cx="704880" cy="441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t.gif (13807 bytes)"/>
          <p:cNvPicPr/>
          <p:nvPr/>
        </p:nvPicPr>
        <p:blipFill>
          <a:blip r:embed="rId4"/>
          <a:stretch/>
        </p:blipFill>
        <p:spPr>
          <a:xfrm>
            <a:off x="2627280" y="5003640"/>
            <a:ext cx="704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-76320"/>
            <a:ext cx="876312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7 Listen and fill in the bl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ptain Cook is___________for a great ___________to the Pacific.He is now telling a ________what_______he has to______. Cook _______on taking some______animals because they can eat the food which would be ___________ and ___________them with eggs and meat.He has decided to take lots of cabbage ___vinegar in order to__________them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also suggests________300 litres of vinegar for__________the______of the ship to protect them_______________sic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609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ep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p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600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1600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0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2133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3048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rown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0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5257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5791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791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62485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/aga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762120"/>
            <a:ext cx="815364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 2 , page 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8  Homework            Do Ex2&amp;3 on p149 in the W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45720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x. 2 , Page 7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371600"/>
            <a:ext cx="327672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nsis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ive / li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ealt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1295280"/>
            <a:ext cx="342900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8. sugge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9. has fall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0.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1. ro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2. lea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3. t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4. li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57200" y="457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.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066680"/>
            <a:ext cx="89154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going to Tianjin by tr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eating dry food and drinking rain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storing plenty of sugar and sa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leaning the inside of the 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to go to Hangzhou instead of Dalian for my holi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o join us in this exped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0920" y="289080"/>
            <a:ext cx="8748720" cy="257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( 1 ) insi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解作‘坚决要求’， 即指说话者的要求时，其宾语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虚拟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如解作‘力说’，‘坚持认为’，即指说话者的‘看法’或‘事实’时，其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陈述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3068640"/>
            <a:ext cx="7993080" cy="2025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sugge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作‘建议’解时，其宾语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虚拟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如解作‘暗示’，‘表明’解时，其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陈述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8532720" y="6165720"/>
            <a:ext cx="503280" cy="5763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7.gif (2841 bytes)"/>
          <p:cNvPicPr/>
          <p:nvPr/>
        </p:nvPicPr>
        <p:blipFill>
          <a:blip r:embed="rId3"/>
          <a:stretch/>
        </p:blipFill>
        <p:spPr>
          <a:xfrm>
            <a:off x="539640" y="404640"/>
            <a:ext cx="473040" cy="420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26.gif (1643 bytes)"/>
          <p:cNvPicPr/>
          <p:nvPr/>
        </p:nvPicPr>
        <p:blipFill>
          <a:blip r:embed="rId4"/>
          <a:stretch/>
        </p:blipFill>
        <p:spPr>
          <a:xfrm>
            <a:off x="108000" y="2997360"/>
            <a:ext cx="7920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057400" y="2590920"/>
            <a:ext cx="55627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6600"/>
                </a:solidFill>
                <a:latin typeface="宋体"/>
              </a:rPr>
              <a:t>Good - bye  !</a:t>
            </a:r>
            <a:endParaRPr b="0" lang="en-US" sz="24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alive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ely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ing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They often make experiments o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Microsoft Sans Serif"/>
              </a:rPr>
              <a:t>live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 anim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MP00640_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90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eginnin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utum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he and her family went to the United States in t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fal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of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BD06675_" descr=""/>
          <p:cNvPicPr/>
          <p:nvPr/>
        </p:nvPicPr>
        <p:blipFill>
          <a:blip r:embed="rId5"/>
          <a:stretch/>
        </p:blipFill>
        <p:spPr>
          <a:xfrm>
            <a:off x="1295280" y="3124080"/>
            <a:ext cx="862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a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el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compan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suffere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a heavy loss as a result of the acci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AN01124_" descr=""/>
          <p:cNvPicPr/>
          <p:nvPr/>
        </p:nvPicPr>
        <p:blipFill>
          <a:blip r:embed="rId4"/>
          <a:stretch/>
        </p:blipFill>
        <p:spPr>
          <a:xfrm>
            <a:off x="1066680" y="2514600"/>
            <a:ext cx="9558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r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 another wa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o it now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Otherwis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it will be too l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BD04918_" descr=""/>
          <p:cNvPicPr/>
          <p:nvPr/>
        </p:nvPicPr>
        <p:blipFill>
          <a:blip r:embed="rId5"/>
          <a:stretch/>
        </p:blipFill>
        <p:spPr>
          <a:xfrm>
            <a:off x="5943600" y="1905120"/>
            <a:ext cx="8366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01:30:17Z</dcterms:created>
  <dc:creator>DARK-Angel</dc:creator>
  <dc:description/>
  <dc:language>en-US</dc:language>
  <cp:lastModifiedBy>w</cp:lastModifiedBy>
  <dcterms:modified xsi:type="dcterms:W3CDTF">2004-08-03T15:45:51Z</dcterms:modified>
  <cp:revision>78</cp:revision>
  <dc:subject/>
  <dc:title>PowerPoint 演示文稿</dc:title>
</cp:coreProperties>
</file>