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F3E1-86D7-444B-AB6D-C659F70D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0A09-7192-47C5-BBA8-7420D3CE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77EA-2855-4CC6-B9C3-D3824EBC9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D585-826C-4090-95A2-C0114799A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54CD-1F53-4F6F-A34F-6CF513D2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A6B0-9DA5-4C92-893B-32A11FBD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FD9A-0CA0-40F0-B53E-5C27B0FA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DE87-810D-472C-B0BF-DB8EF384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3AA4-5781-4066-9C3D-B0150B32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BF12-A7B1-42CB-B94B-599EC8E9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5375-3FAC-47A4-B756-4C4320C2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109B-BFF1-4162-8567-DB31A3BB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75E5-DDE1-4CB7-A533-913EE33A6D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jpeg"/><Relationship Id="rId3" Type="http://schemas.openxmlformats.org/officeDocument/2006/relationships/slide" Target="slide6.xml"/><Relationship Id="rId4" Type="http://schemas.openxmlformats.org/officeDocument/2006/relationships/image" Target="../media/image1.jpeg"/><Relationship Id="rId5" Type="http://schemas.openxmlformats.org/officeDocument/2006/relationships/slide" Target="slide6.xm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jpeg"/><Relationship Id="rId3" Type="http://schemas.openxmlformats.org/officeDocument/2006/relationships/slide" Target="slide6.xm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jpeg"/><Relationship Id="rId3" Type="http://schemas.openxmlformats.org/officeDocument/2006/relationships/slide" Target="slide6.xm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28600"/>
            <a:ext cx="8229600" cy="72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单词拼写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Farmers p_________ city people with fresh vegetables and meat every d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Tom s_________ cycling to the country instead of going by bu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Jane is not present today. She has f_____ ill agai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A m_______ is a person who buys and sells goods for making mone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You mustn't drive too fast, for it is d________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685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rov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19051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ugge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010280" y="3124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a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4343400"/>
            <a:ext cx="253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erch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62920" y="5562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anger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57200"/>
            <a:ext cx="8305920" cy="74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Do you believe that some living things 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存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______ on the other planet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The football team of Class Five 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打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_______ that of Class Four yesterd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The day when Macao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澳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 returns to China is worth 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庆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____________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The Taiwan Island is 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________ from the main lan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.It is said that Australia was once 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相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 to South Americ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9907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43800" y="16002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ef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33526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eleb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4038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6004080"/>
            <a:ext cx="2362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onnec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914400"/>
            <a:ext cx="883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It's___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令人惊讶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at he should finish the given task in three d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The Johnsons are__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庆祝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hristmas far from their coun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Mr. Wang is in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管理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f our class. He is our class teac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He went to England for the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目的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f studying science and technolo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Cook charted the coasts of the two island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分隔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y the narrow chann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8380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stonis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905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eleb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28195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37339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52578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69960"/>
            <a:ext cx="914400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The enemy was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打败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nd all the cities were liber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After the battle the army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前进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ack towards Ro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Ship building used to be one of our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主要的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ndus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The child likes to eat sweet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饼干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.Villagers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提供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Army with food and medic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6858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ef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1905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hea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3048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aj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560" y="4267080"/>
            <a:ext cx="12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isc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0" y="49528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rovi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4572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33520"/>
            <a:ext cx="914400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He remembered that he put the shoes in the box under his b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remembered ________the shoes in the box under the b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The speech given by Captain Cook excited us very mu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____ ____ ____the speech given by Captain C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He is not interested in these th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____ ____ ____ ____these th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1676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u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41911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were excited 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5592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akes no interest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609480"/>
            <a:ext cx="914400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They surprised us with a vis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____us____ _________with a vis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While he was doing his homework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heard someone knock at the d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 _______his homework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heard someone knock at the d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1295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12952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y    surp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276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While d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228600"/>
            <a:ext cx="876312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Wang Lin insisted on ____to work in the country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be sen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B.sending     C.being sen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D.s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When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hotel will be the highest building in the 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be complet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B.comple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we complet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D.it comple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We shall travel by night as ____by d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an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both        C.wel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D.well as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419720" y="1371600"/>
            <a:ext cx="538200" cy="731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9880" y="3429000"/>
            <a:ext cx="538200" cy="731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786280" y="5562720"/>
            <a:ext cx="5382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380880"/>
            <a:ext cx="8839080" cy="70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They joined the team ____of the missing chi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in searc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to sear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search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.search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Mr Wang is ____the library while the lab is ____his w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in charge of…in charg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in the charge of…in charge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in charge of…in the charg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.in the charge of…in the charge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990720"/>
            <a:ext cx="538200" cy="731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28600" y="5181480"/>
            <a:ext cx="5382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" y="181080"/>
            <a:ext cx="8915400" cy="77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Please remember ____to me as soon as you get the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wri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B.having writt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to wr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D.to have writt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He suggested the man ____to pris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referred to…be s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referring to…should be s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referred to…was sent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referring to…was s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280" y="2057400"/>
            <a:ext cx="538200" cy="731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3581280"/>
            <a:ext cx="5382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4T14:55:34Z</dcterms:created>
  <dc:creator>w</dc:creator>
  <dc:description/>
  <dc:language>en-US</dc:language>
  <cp:lastModifiedBy>w</cp:lastModifiedBy>
  <dcterms:modified xsi:type="dcterms:W3CDTF">2004-08-04T15:30:05Z</dcterms:modified>
  <cp:revision>8</cp:revision>
  <dc:subject/>
  <dc:title>PowerPoint 演示文稿</dc:title>
</cp:coreProperties>
</file>