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B9A-4F84-4C6C-B730-366061B8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26C-8A82-4300-AFF4-FB7C75AD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316-FB95-4A37-855D-7C1DB945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193-1C07-4332-802F-7971C490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E478-7F23-443D-B262-4AC3010D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D63F-21C6-47AA-A1F8-F88AE354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C421-8360-4988-882C-0EF5DF17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D28B-4BA1-416E-9877-8D3E1937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6B5B-D14F-42B0-8B2C-A37CD902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8277-552D-48EB-929F-5885BCE5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3898-78BE-4E14-891D-66FAB318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189-A2AF-444A-B09A-77090C86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BB00-859A-4704-B8F1-6AD5FA9D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07DD-AC82-45BA-867B-CDAF0A2B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F83C-2E27-458A-900D-CD178B47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5D01-5E75-43A6-B62B-86D09DE6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2411-48CF-45AB-92FD-76ED1015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524-952B-4B11-9734-D704B5CD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B7E-E4C0-4D05-BD41-2159B1E4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14B-F8B1-435C-AEFB-00CE1CF6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C8C-D270-4463-9A94-20F2E1E9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DDB-7AD3-4B79-999A-6F2EC007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AAF-1B5E-47A4-B607-C067197A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EC8-D814-45EB-B8A8-D0B43687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C02C-D0F8-4690-B06D-BB1BDE2CA6D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3A60-CAD3-4410-BA00-6E057F08A95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45640" y="981000"/>
            <a:ext cx="3077640" cy="8251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eaeaea"/>
                </a:solidFill>
                <a:uFillTx/>
                <a:latin typeface="Arial Black"/>
              </a:rPr>
              <a:t>insist </a:t>
            </a:r>
            <a:r>
              <a:rPr b="0" lang="zh-CN" sz="4800" spc="-1" strike="noStrike" u="sng">
                <a:solidFill>
                  <a:srgbClr val="eaeaea"/>
                </a:solidFill>
                <a:uFillTx/>
                <a:latin typeface="Arial Black"/>
                <a:ea typeface="黑体"/>
              </a:rPr>
              <a:t>的用法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2565360"/>
            <a:ext cx="700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I insist that you </a:t>
            </a:r>
            <a:r>
              <a:rPr b="0" lang="zh-CN" sz="4800" spc="-1" strike="noStrike">
                <a:solidFill>
                  <a:srgbClr val="ff3300"/>
                </a:solidFill>
                <a:latin typeface="Arial Black"/>
              </a:rPr>
              <a:t>(should give)</a:t>
            </a: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 my money back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     “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  <a:ea typeface="黑体"/>
              </a:rPr>
              <a:t>坚决要求</a:t>
            </a: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16000" y="476280"/>
            <a:ext cx="6861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e came home with  a smile on his face, which suggested that he ___ work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should find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ad los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should have found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ad found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5084640"/>
            <a:ext cx="4427640" cy="1008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2637000"/>
            <a:ext cx="1944720" cy="13129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suggest“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表明”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1197000"/>
            <a:ext cx="7797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The monitor insisted that I ___ on duty the day before yesterday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am     B. was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C. be      D. would be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284640"/>
            <a:ext cx="309564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26920" y="620640"/>
            <a:ext cx="7726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Jane’s pale face suggested that she ___ ill, and her parents suggested that  she ____a medical examination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be… should hav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was… have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should be… ha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was… has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365720"/>
            <a:ext cx="4427280" cy="576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00000" y="1628640"/>
            <a:ext cx="707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I insist that my money </a:t>
            </a: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be back</a:t>
            </a: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They insist that he </a:t>
            </a: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leave for</a:t>
            </a: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 Beijing tomorrow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0920" y="765000"/>
            <a:ext cx="238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?</a:t>
            </a: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is back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8200" y="5300640"/>
            <a:ext cx="23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?</a:t>
            </a: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leaves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1916280"/>
            <a:ext cx="704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e insisted that his camel </a:t>
            </a:r>
            <a:r>
              <a:rPr b="0" lang="en-US" sz="4400" spc="-1" strike="noStrike">
                <a:solidFill>
                  <a:srgbClr val="ff3300"/>
                </a:solidFill>
                <a:latin typeface="Arial Black"/>
              </a:rPr>
              <a:t>had been</a:t>
            </a: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 stolen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440" y="4162320"/>
            <a:ext cx="3126600" cy="825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?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  <a:ea typeface="黑体"/>
              </a:rPr>
              <a:t> should be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The teacher suggested that her students ____ a composition after school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write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to write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wrote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had written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500280"/>
            <a:ext cx="2881440" cy="1008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79440" y="1803240"/>
            <a:ext cx="459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insist; suggest; 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87280" y="765000"/>
            <a:ext cx="7148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The guard at the gate insisted that everybody ____ the rules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obeys   B. obe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C. will obe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Arial Black"/>
              </a:rPr>
              <a:t>D.would obe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3573360"/>
            <a:ext cx="302400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9640" y="620640"/>
            <a:ext cx="7724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The boss insisted that John ___ unfit for his work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was      B. is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Black"/>
              </a:rPr>
              <a:t>C. should be   D. were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781360"/>
            <a:ext cx="259236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62280" y="4653000"/>
            <a:ext cx="5334840" cy="764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黑体"/>
                <a:ea typeface="黑体"/>
              </a:rPr>
              <a:t>insist“</a:t>
            </a:r>
            <a:r>
              <a:rPr b="1" lang="zh-CN" sz="4400" spc="-1" strike="noStrike">
                <a:solidFill>
                  <a:srgbClr val="eaeaea"/>
                </a:solidFill>
                <a:latin typeface="黑体"/>
                <a:ea typeface="黑体"/>
              </a:rPr>
              <a:t>坚持说”，接陈述语气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692280"/>
            <a:ext cx="792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The officer ordered (commanded) the damaged ____ before dawn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must be repaire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would be repaire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be repaire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should have been repaired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3716280"/>
            <a:ext cx="863640" cy="6494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476280"/>
            <a:ext cx="7508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e suggested (advised) that the wounded ___ to the hospital as soon as possible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had been sen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should have been sen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would be sen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Black"/>
              </a:rPr>
              <a:t>be sen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5850000"/>
            <a:ext cx="3961080" cy="74772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3:02:55Z</dcterms:created>
  <dc:creator>Legend User</dc:creator>
  <dc:description/>
  <dc:language>en-US</dc:language>
  <cp:lastModifiedBy>Legend User</cp:lastModifiedBy>
  <dcterms:modified xsi:type="dcterms:W3CDTF">2002-11-25T13:37:19Z</dcterms:modified>
  <cp:revision>6</cp:revision>
  <dc:subject/>
  <dc:title>幻灯片 1</dc:title>
</cp:coreProperties>
</file>