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0CB-ACEE-41AD-8B76-2516DB32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FB0-1540-4759-BF71-79183CB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CDA-4B61-44F1-A79F-7B221E3C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FD5-C688-4C2B-8A0F-B5474F1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BEB1-133F-4A47-A415-46E19C33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0580-DDBE-4A0C-8F98-0801DB4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3902-A7E2-4E56-8A6F-3353F3CD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65B4-A079-454A-B3C6-A695C6A3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B6A4-C650-44C7-B2A1-0897B176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8F99-F4FB-4B02-8BA3-4F6093AA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AA7-1C3B-4529-8E88-B1469B1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518-EBCB-4969-B636-1FCAEFE8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516A-A6E6-4839-AB3B-095A76D7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8538-559A-4A61-80DA-E11299E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48A0-1221-4A11-A0CF-79ECF699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DE93-3F5E-490A-956D-066B8DC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B160-BA99-4CC9-8377-05F62071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3E1-5A0F-4DC3-933B-B327B9DD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255-0B36-4D26-815F-ACF29A7B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DE0-AE3D-4098-B4B0-A7DB1F7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8AD-01BF-4AEB-B1DE-6812F49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F61-E144-49E2-8600-B5B0F63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F10-6362-427A-9A55-F7D84F2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0B4C-EC05-4D7C-90A6-F5E03E5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228-0BE4-4BD2-A145-42E6A49DE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975F-06FC-4A68-862A-9322FD59E9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92320" y="2438280"/>
            <a:ext cx="3838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或将来的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1800" y="91440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eat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hours ago,so I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am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hungry n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　　　　（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9640" y="3886200"/>
            <a:ext cx="829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ea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reakfast sever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urs ago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ungry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2932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91640" y="541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240" y="709560"/>
            <a:ext cx="646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is not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a good student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did not study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for the te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事实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4520" y="3657600"/>
            <a:ext cx="6935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 good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tudi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81600" y="3200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现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53200" y="5105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209680"/>
            <a:ext cx="2438280" cy="1524240"/>
          </a:xfrm>
          <a:prstGeom prst="wedgeRectCallout">
            <a:avLst>
              <a:gd name="adj1" fmla="val -112046"/>
              <a:gd name="adj2" fmla="val 60416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主语是单数或复数后面都可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51640" y="2286000"/>
            <a:ext cx="568836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,might,should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　　用法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7840" y="137160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I’d had enough money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c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Flori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vac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44920" y="4038480"/>
            <a:ext cx="646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ould have gone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have been able to 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（早就能去的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8640" y="114300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you were a better stude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ight ge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better grad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44440" y="3124080"/>
            <a:ext cx="622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ou might get=maybe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would get(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也许你会得到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08320" y="1066680"/>
            <a:ext cx="773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all,tell him I’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 back around f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200" y="3124080"/>
            <a:ext cx="7222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should call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Joh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ll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有些不肯定或怀疑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但两句的意思基本相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71800" y="2743200"/>
            <a:ext cx="36543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的省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062800" y="1066680"/>
            <a:ext cx="5886720" cy="1556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r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you,I wouldn’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th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29840" y="3124080"/>
            <a:ext cx="44524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were you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196720" y="1422360"/>
            <a:ext cx="549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 known,I w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told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30200" y="3581280"/>
            <a:ext cx="48927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I had know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661040" y="1346040"/>
            <a:ext cx="66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Shoul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anyone call,ple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ke a messa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47520" y="3352680"/>
            <a:ext cx="641844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=If anyone should call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65760" y="990720"/>
            <a:ext cx="374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560" y="502920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将来时用于结果句，表示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可预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事实或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涉及到将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某个具体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438280"/>
            <a:ext cx="675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morrow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ill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ents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754440" y="914400"/>
            <a:ext cx="20095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暗含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6080" y="2362320"/>
            <a:ext cx="625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gon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,but I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9680" y="4343400"/>
            <a:ext cx="6665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I hadn’t had to stu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95640" y="1066680"/>
            <a:ext cx="776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never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succeed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out your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09120" y="3098880"/>
            <a:ext cx="691956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if you hadn’t helped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82880" y="990720"/>
            <a:ext cx="614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e ran;otherwise,s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miss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7200" y="3962520"/>
            <a:ext cx="524340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she had not run,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08680" y="762120"/>
            <a:ext cx="362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现在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结果句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将来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080" y="426708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用于结果句表示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习惯性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640" y="2362320"/>
            <a:ext cx="763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v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r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my parents every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14360" y="2286000"/>
            <a:ext cx="420408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现在和将来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62120" y="88884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enough time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 parent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1240" y="2514600"/>
            <a:ext cx="7782120" cy="1434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ruth,I do not have en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ime,so I will not write to th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7400" y="4340160"/>
            <a:ext cx="47826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中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+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52480" y="2286000"/>
            <a:ext cx="71629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的非真实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（与事实相反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4520" y="380880"/>
            <a:ext cx="717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had h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ough time,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would have written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to 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s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yesterday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4200" y="2819520"/>
            <a:ext cx="796536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ruth,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 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have enough ti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didn’t writ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th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52320" y="4648320"/>
            <a:ext cx="5261400" cy="13129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句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过去完成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结果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主句）用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would have+-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87480" y="738360"/>
            <a:ext cx="657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与将来情况相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had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[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should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/were to hav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] enough time, I 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would write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o my parents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0680" y="1143000"/>
            <a:ext cx="3649320" cy="15562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条件句中“混合时间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　　　的用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200400"/>
            <a:ext cx="4546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从句中的时间与结果句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的时间经常不同：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一个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可能是现在，另一个句子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能是过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1:00:22Z</dcterms:created>
  <dc:creator>李徐琴</dc:creator>
  <dc:description/>
  <dc:language>en-US</dc:language>
  <cp:lastModifiedBy>赵晨盼</cp:lastModifiedBy>
  <dcterms:modified xsi:type="dcterms:W3CDTF">2002-10-27T11:25:27Z</dcterms:modified>
  <cp:revision>7</cp:revision>
  <dc:subject/>
  <dc:title>PowerPoint 演示文稿</dc:title>
</cp:coreProperties>
</file>