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0930-CA31-4D57-8DA3-93FF6A8C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AE6-48FB-4258-B0FE-5CE41FA0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DB2-E441-400F-BC2D-087768BA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2DF1-985C-4CF4-AE4F-3DB585BE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ECE8-BCCB-49CD-8019-823978C8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5180-34EC-4873-95E4-69692A7D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25D7-F473-4F19-82E1-4E9BB69F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8B67-72D6-4FFA-8EE7-6D60DA01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2FC1-5C5F-45EF-9C45-4A952083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5CB6-E7D4-4D8E-B5B8-668839B9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0A15-373A-4CA3-A1BF-6B4CABF3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9B4-CE97-419A-AE9A-7BA376D6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1062-6175-4395-BE58-3CB83AFD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268F-F800-4660-8630-50453F87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956D-7A50-4509-8498-CBCFBB80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2EEB-E18A-4862-9B0B-8E39A6DF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0EFB-94DE-43FB-8C06-DACE5169C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F86-2FB3-4C1C-82B2-98F33712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962F-90D9-490F-B4EC-C53B1793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57D-A4EE-46CB-A325-CCF20D75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6240-9969-4F2D-8873-FA953923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44B-9412-48E7-AE33-DD9B6289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D2D3-B92F-4E69-98BB-EF6A8177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0AB9-479B-4948-B384-60534DC0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2A6D-00CC-497F-A8B5-5B1B6A13A5D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FFA6-78E5-469F-A8EF-829F9CC438E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73600" y="762120"/>
            <a:ext cx="79700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.You didn’t let me dri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f we ___ in turn,you 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so t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drove;didn’t 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drove;wouldn’t 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ere driving;wouldn’t 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driven;wouldn’t have g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6019920"/>
            <a:ext cx="7924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240" y="1143000"/>
            <a:ext cx="705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0.---Has Tom been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New York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---No,but she wish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she 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would     B.will next t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d          D.had next t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56386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1400" y="1295280"/>
            <a:ext cx="7631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1.The two strangers tal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s if the ___ friends for yea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should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would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ve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5715000"/>
            <a:ext cx="2666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762120"/>
            <a:ext cx="7088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2.I’d rather you ___ th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yesterday.I’d rather you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ere tomorr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didn’t go;w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hadn’t gone;should 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dn’t gone;w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didn’t go;should 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5257800"/>
            <a:ext cx="4876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88200" y="1346040"/>
            <a:ext cx="7480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3.___ your help,I would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ave finished the work ahe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of 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Because      B.But f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ith            D.If I h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34340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1523880"/>
            <a:ext cx="788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4.If only I ___ where he liv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know          B.have kn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knew          D.should k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3733920"/>
            <a:ext cx="2133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20400" y="762120"/>
            <a:ext cx="6683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5.---Why didn’t you bu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e record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---I ___ but I could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fford the mone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would    B.would like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ould ha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bough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5181480"/>
            <a:ext cx="3581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43160" y="1498680"/>
            <a:ext cx="87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6.___ it rain tomorrow,w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ould have to put off the visi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o the Yangpu Brid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ere      B.Shou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ould    D.Wi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4495680"/>
            <a:ext cx="2209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01360" y="533520"/>
            <a:ext cx="8346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7.Jane’s pale face suggest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at she __ ill,and her parent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suggested that she ___ a medic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examin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be…should ha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was…ha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should be…h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was…h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4952880"/>
            <a:ext cx="327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82360" y="1219320"/>
            <a:ext cx="827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8.The monitor insists that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___ on duty the day befo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yester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A.am     B.was    C.be    D.would 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3962520"/>
            <a:ext cx="1752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21880" y="4343400"/>
            <a:ext cx="6071760" cy="1739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从句中的谓语动词所表示的动作尚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发生，用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should+V”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，若表示“硬说”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用陈述语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36280" y="533520"/>
            <a:ext cx="7767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9.Most of the me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emanded(requested,required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at the meeting __ till af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Fri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shouldn’t put of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not be put of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ouldn’t be put of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not put of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4952880"/>
            <a:ext cx="4114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240" y="304920"/>
            <a:ext cx="7090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.if it ___ for the snow,w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___ the mountain yester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were no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ould have climb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were not;could clim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d not bee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ould have climb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not been;could clim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724280"/>
            <a:ext cx="3886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72720" y="736560"/>
            <a:ext cx="77353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0.He came home with a smi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on his face,which sugges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at he ___ wor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should fi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had lo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should have f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f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4419720"/>
            <a:ext cx="2666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2666880"/>
            <a:ext cx="2535120" cy="1739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Sugg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说明，表明，暗示”，宾语从句用陈述语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3120" y="1600200"/>
            <a:ext cx="854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1V.The guard at the gate insis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at everybody __ the rul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obeys       B.obe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ill obey   D.would obe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38098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73400" y="0"/>
            <a:ext cx="6247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3.---If he ___,he ____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---Luckily he was sent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the hospital immediate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A.was warned;would not t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B.had been warned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would not have ta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C.would be warned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ad not ta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D.would have been warned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had not ta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3733920"/>
            <a:ext cx="4190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7720" y="2209680"/>
            <a:ext cx="7581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4.I wish I ____ you yester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seen      B.did s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d seen     D.were to s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572000"/>
            <a:ext cx="2743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5000" y="1523880"/>
            <a:ext cx="7663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5.Without electricity hum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ife ____ quite difficult to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is                 B.will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ould have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would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5257800"/>
            <a:ext cx="2895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1560" y="914400"/>
            <a:ext cx="7294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6.When a pencil is partly 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 glass of water,it looks as i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t_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breaks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has brok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ere brok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had been brok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334120"/>
            <a:ext cx="3581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88920" y="990720"/>
            <a:ext cx="65660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7.____ go down town th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fternoon,please post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etter for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Had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Were you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If you di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Should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6172200"/>
            <a:ext cx="32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6640" y="990720"/>
            <a:ext cx="765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8.I lost your address,otherwi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(or) I ___ you long befor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had visi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B.have visi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would have visit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should vis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4724280"/>
            <a:ext cx="5181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1600200"/>
            <a:ext cx="7767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9.I wish  I ___ how to transl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is sente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A.knew         B.k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.have kn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.should kn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0:59:03Z</dcterms:created>
  <dc:creator>Legend User</dc:creator>
  <dc:description/>
  <dc:language>en-US</dc:language>
  <cp:lastModifiedBy>Legend User</cp:lastModifiedBy>
  <dcterms:modified xsi:type="dcterms:W3CDTF">2002-10-05T01:29:53Z</dcterms:modified>
  <cp:revision>4</cp:revision>
  <dc:subject/>
  <dc:title>PowerPoint 演示文稿</dc:title>
</cp:coreProperties>
</file>