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F59-FDE9-429A-9548-B60A200E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F90-5D2C-4EE0-ABC8-1277C291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36E-BE01-4E2E-979A-8DBD76CB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05D-24D0-465F-AF73-DE9E719D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4E0A-7D31-44B4-8528-939349C1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972-3A2C-429D-8C5E-38CEC039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7055-1F73-42B3-90B5-DDF6096F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3967-B056-4262-AABA-42B94F2D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C712-66FA-4CDE-9B37-8D441A62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64D5-C29A-421C-9FB4-AB1C3EE8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FBF1-6533-4722-9E2F-51212FE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342-FC1C-423B-B023-DF0872FE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8E07-D345-4A5E-9582-01AD466D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2C09-8838-44F6-AE2F-0BF24061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3198-DE1D-49DE-BB9B-E8231DE3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4CEE-F354-4D81-A067-6BC9A9AC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534F-7A38-4AFD-8540-73919972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3E5-A76F-4342-A5D8-37FBC2E7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231-9673-4E53-8733-8204A755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A9B-24C5-42B3-A8E6-DC9DF08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518-0EFB-4589-970A-2E0D9C55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A94-703B-4348-BA2C-76C65777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429C-4A4C-4AC1-B800-44E7016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5BB-84E7-4FAF-9877-0B17AB4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3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8B7C-81AC-43B6-9873-D31B367D8835}" type="slidenum">
              <a:rPr b="0" lang="zh-CN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C50E-E53D-4613-9E63-FDE521A8A3C3}" type="slidenum">
              <a:rPr b="0" lang="zh-CN" sz="14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29800" y="1447920"/>
            <a:ext cx="4225320" cy="82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is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后面动词的形式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02400" y="297180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is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后跟一个宾语从句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达</a:t>
            </a: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与现实不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800" spc="-1" strike="noStrike">
                <a:solidFill>
                  <a:srgbClr val="66ff33"/>
                </a:solidFill>
                <a:latin typeface="Times New Roman"/>
              </a:rPr>
              <a:t>与现实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</a:rPr>
              <a:t>相反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的愿望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53560" y="1295280"/>
            <a:ext cx="7090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现在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don’t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know French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t is raining right now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2240" y="3500280"/>
            <a:ext cx="413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I knew French</a:t>
            </a:r>
            <a:r>
              <a:rPr b="0" lang="en-US" sz="4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53800" y="4149720"/>
            <a:ext cx="490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it weren’t raining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right now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3200" y="990720"/>
            <a:ext cx="8004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过去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John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idn’t co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Mary couldn’t co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70480" y="3048120"/>
            <a:ext cx="426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John had com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809880"/>
            <a:ext cx="609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Mary could have come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9160" y="1066680"/>
            <a:ext cx="8309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与将来的愿望相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She will not tell m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e isn’t going to be here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wish_____________________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6760" y="3276720"/>
            <a:ext cx="481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she would tell m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7560" y="3962520"/>
            <a:ext cx="66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he were going to be here</a:t>
            </a: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7:59:31Z</dcterms:created>
  <dc:creator>Legend User</dc:creator>
  <dc:description/>
  <dc:language>en-US</dc:language>
  <cp:lastModifiedBy>赵晨盼</cp:lastModifiedBy>
  <dcterms:modified xsi:type="dcterms:W3CDTF">2002-10-27T11:06:09Z</dcterms:modified>
  <cp:revision>3</cp:revision>
  <dc:subject/>
  <dc:title>PowerPoint 演示文稿</dc:title>
</cp:coreProperties>
</file>