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DE7-D69F-4D86-BEF7-8CA330D0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F4-E8C2-4742-8A28-9C2035F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310-D909-4D45-85A2-0615F893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5ED-1639-49A4-A828-886D1782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A77-9055-4690-AE9A-B1DB41C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A5E-9837-471D-855C-6E84838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B7B-09FD-4E83-8A3D-20E841BA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4E9-9166-484A-A95A-2173743F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691-736A-4C77-82F7-1453FCD5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A7E-F59E-4787-8708-03C3DE9A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347-C146-4289-9F5D-A540878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194-8FCD-4803-AE45-D32F785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52BD-E3E1-4365-946B-61C4804EFB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4360" y="765000"/>
            <a:ext cx="5354280" cy="1574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as if “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好像”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可接表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或方式状语从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99736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e makes it seem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this is one of the most delicious meals that he has ever enjoy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1560" y="2705040"/>
            <a:ext cx="911520" cy="341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81960" y="1382760"/>
            <a:ext cx="6208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s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acted as though 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had never me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3440" y="1295280"/>
            <a:ext cx="5089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ill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spoke as if s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wouldn’t b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47440" y="1752480"/>
            <a:ext cx="42040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若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陈述语气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，则表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较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真实性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3429000"/>
            <a:ext cx="707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looks as if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it is going to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r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268280"/>
            <a:ext cx="68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English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is not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141720"/>
            <a:ext cx="6716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e speaks English ____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71628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English was her native ton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6000" y="1557360"/>
            <a:ext cx="86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see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You look as if____________ 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</a:rPr>
              <a:t>you had seen a gho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129852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didn’t climb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hen I reached the fourth floor, I felt _________________________________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149720"/>
            <a:ext cx="77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as if I had climbed Mt. Eve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7280" y="1413000"/>
            <a:ext cx="74214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t seems as if he ____ 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A.was              B.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.has been       D.had 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371628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260280"/>
            <a:ext cx="7580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en a pencil is partly in a glass of water, it looks as if  it 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rea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s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re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had been bro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3645000"/>
            <a:ext cx="5040360" cy="863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5084640"/>
            <a:ext cx="7164360" cy="9471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主句和从句中的谓语动词 所表达 的动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发生，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般过去 式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从句的动作在主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生， 则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过去 完成 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692280"/>
            <a:ext cx="7869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wo strangers talked as if they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01336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9640" y="981000"/>
            <a:ext cx="802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ook at the clouds. It looks as if it ____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4508640"/>
            <a:ext cx="4427640" cy="1008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3640" y="3141720"/>
            <a:ext cx="3889440" cy="131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seemed that…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后用陈述语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421000"/>
            <a:ext cx="8048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The woman loves the children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  <a:ea typeface="黑体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 she were their mo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4520" y="954000"/>
            <a:ext cx="2375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方式状语从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620640"/>
            <a:ext cx="8280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The teacher treated us as if we ____ her own childr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migh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924280"/>
            <a:ext cx="27370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0200" y="2427120"/>
            <a:ext cx="3908520" cy="70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从句的情况与主句同时发生，动词用过去式：从句的情况发生在主句之前，谓语用过去完成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2708280"/>
            <a:ext cx="69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通常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as if / as though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后面的概念是“不真实的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39320" y="2133720"/>
            <a:ext cx="71287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new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6400" y="762120"/>
            <a:ext cx="4028760" cy="764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 if = as 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2640" y="3733920"/>
            <a:ext cx="52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But he doesn’t know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80760" y="4724280"/>
            <a:ext cx="5871240" cy="76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现在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5960" y="1523880"/>
            <a:ext cx="806436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talks about Rom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en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there him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4680" y="3276720"/>
            <a:ext cx="725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He hasn’t or probably hasn’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1680" y="4419720"/>
            <a:ext cx="4586760" cy="1574280"/>
          </a:xfrm>
          <a:prstGeom prst="rect">
            <a:avLst/>
          </a:prstGeom>
          <a:noFill/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谈论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情况，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s 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后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过去完成时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27320" y="2565360"/>
            <a:ext cx="688464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ate so much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s if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adn’t had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a meal for day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4200" y="1425600"/>
            <a:ext cx="621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e spok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s if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he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ouldn’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240" y="3213000"/>
            <a:ext cx="54475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she will be he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653000"/>
            <a:ext cx="8208720" cy="8251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谈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将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的情况，从句中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过去将来式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4360" y="316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1360" y="1523880"/>
            <a:ext cx="618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is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talked to him as if 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 chi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0800" y="533520"/>
            <a:ext cx="7224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did no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take a show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ith 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非真实句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When she came in from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rainstorm,she looked as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had taken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a shower wit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er clothes 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8:24:30Z</dcterms:created>
  <dc:creator>Legend User</dc:creator>
  <dc:description/>
  <dc:language>en-US</dc:language>
  <cp:lastModifiedBy>Legend User</cp:lastModifiedBy>
  <dcterms:modified xsi:type="dcterms:W3CDTF">2002-11-25T12:54:29Z</dcterms:modified>
  <cp:revision>11</cp:revision>
  <dc:subject/>
  <dc:title>PowerPoint 演示文稿</dc:title>
</cp:coreProperties>
</file>