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2C78-9323-4CFF-B8D4-B27B39B25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6817-C350-49DB-ADBE-0F3B11D5E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95E8-F968-4CF8-8B38-0EC3BED7D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320F-F4E6-4A41-BF5B-F8D0DD053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1054-E96C-41C6-AC67-306671BDD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29DD-D05C-43C7-8007-97AD8E70E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25B3-F5DF-4ACA-BD6E-0008796DF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35BC-250A-4E60-81EF-C4FD2785E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033B-ADAE-4907-84B5-1119377AF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BAF2-0E48-4866-9CAD-FE1A0D09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BA4C-625E-484F-BC6A-BFA337EE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1EBD-01AC-40F4-9978-D8C231F6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BBFA0-D837-4262-BD8A-C2295CC5729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53240" y="95400"/>
            <a:ext cx="268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rown  vt. 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15080" y="776160"/>
            <a:ext cx="492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an drowned in the riv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167920" y="1386000"/>
            <a:ext cx="620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an drowned himself in the river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13640" y="2057400"/>
            <a:ext cx="615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great flood drowned many hous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67000" y="2895480"/>
            <a:ext cx="540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drowning man / a drowned m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44680" y="3610080"/>
            <a:ext cx="390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2.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revent … from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1520" y="4191120"/>
            <a:ext cx="859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heavy rain yesterday prevented us ( from) com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43520" y="4875120"/>
            <a:ext cx="4348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ent… (from) doing s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stop… (from) do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keep.. from do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278720" y="399960"/>
            <a:ext cx="27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upside dow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20240" y="447840"/>
            <a:ext cx="180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颠倒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杂乱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64760" y="1066680"/>
            <a:ext cx="487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ng upside down from a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97800" y="1752480"/>
            <a:ext cx="616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boy turned the room upside dow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05640" y="2438280"/>
            <a:ext cx="55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Second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oun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an emergenc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8280" y="30481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每分钟都很重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8920" y="3657600"/>
            <a:ext cx="349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ery minute count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91240" y="4267080"/>
            <a:ext cx="416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5.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keep /bear .. in m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51840" y="4952880"/>
            <a:ext cx="506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ease keep these rules in min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5320" y="5576760"/>
            <a:ext cx="78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ep in mind that the petrol can only last 2 hou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278000" y="171360"/>
            <a:ext cx="208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6. panic v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62320" y="838080"/>
            <a:ext cx="441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case of fire, don’t panic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29200" y="1630440"/>
            <a:ext cx="119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.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惊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0800" y="1690560"/>
            <a:ext cx="220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t in a pan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23320" y="2438280"/>
            <a:ext cx="421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rowd was in a pani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12000" y="3124080"/>
            <a:ext cx="505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e phoned the doctor in pani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64160" y="3962520"/>
            <a:ext cx="263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7. calm adj.v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34360" y="4038480"/>
            <a:ext cx="454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 was a calm, cloudless da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66200" y="4800600"/>
            <a:ext cx="708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always keeps/stays calm in an emergenc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25480" y="5553000"/>
            <a:ext cx="46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ease go to calm the pati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82560" y="5553000"/>
            <a:ext cx="64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V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355760" y="55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60680" y="401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33400" y="399960"/>
            <a:ext cx="321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8.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respond   ( to 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22000" y="1209600"/>
            <a:ext cx="544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didn’t respond to my ques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94360" y="1905120"/>
            <a:ext cx="613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e hasn’t responded to treatment ye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41360" y="2544840"/>
            <a:ext cx="233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response  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38400" y="3276720"/>
            <a:ext cx="66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made/gave no response to my ques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38400" y="4038480"/>
            <a:ext cx="64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r cries for  help met with no respons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40440" y="4800600"/>
            <a:ext cx="26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n response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77640" y="5562720"/>
            <a:ext cx="679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opened the door in response to a knock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508040" y="554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64880" y="282600"/>
            <a:ext cx="195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9.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itnes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36800" y="863640"/>
            <a:ext cx="484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d you witness the accident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96440" y="1625760"/>
            <a:ext cx="297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itness to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为。。。 作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24720" y="2235240"/>
            <a:ext cx="772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e witnessed to seeing that man take the mone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87960" y="2768760"/>
            <a:ext cx="210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itness     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13800" y="3290760"/>
            <a:ext cx="75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police found the witness to the murder cas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12360" y="3747960"/>
            <a:ext cx="521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was a witness to the accid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76560" y="4297320"/>
            <a:ext cx="287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10 .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on the wa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78520" y="4876920"/>
            <a:ext cx="408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ristmas is on the way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26320" y="5410080"/>
            <a:ext cx="527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e is on the way to getting well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7120" y="5943600"/>
            <a:ext cx="44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is on the way to succes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ckal</cp:lastModifiedBy>
  <dcterms:modified xsi:type="dcterms:W3CDTF">2001-05-30T16:25:31Z</dcterms:modified>
  <cp:revision>6</cp:revision>
  <dc:subject/>
  <dc:title>PowerPoint Presentation</dc:title>
</cp:coreProperties>
</file>