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E18-50FE-4AB0-A8AD-A1DCC84F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CE0-E59C-4E63-8D2E-0559CAB6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4B1-6C4D-4401-9784-4D1A9304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D22-C705-4639-8E48-4C2DC83A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886-2372-42FD-8DEB-F764FE9A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B2C-F4A5-499F-BEAB-849E7550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376-02A9-4107-AD3A-01500E6D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318-3832-4DF3-8F8E-B97CF9DC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100-5EDD-4911-86CF-39A62DB9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0E13-6922-47A9-B84F-7B6EAC33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B90-5D4B-42C7-AAF8-F4703E40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074-1FAE-4829-8E50-836721B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1F1A-975B-45BD-9EC7-8787340F92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362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临 江 中 学       江 建 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gy</cp:lastModifiedBy>
  <dcterms:modified xsi:type="dcterms:W3CDTF">2004-12-20T13:29:55Z</dcterms:modified>
  <cp:revision>25</cp:revision>
  <dc:subject/>
  <dc:title>PowerPoint Presentation</dc:title>
</cp:coreProperties>
</file>