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5279-F918-4D30-8D29-6081A4BF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43A-3C94-4CE0-AD42-45DB7E67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E29-B58A-490E-B979-0CB13574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641-DDAA-4491-9C7C-ADCF4339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59B8-B8EC-4940-9D26-D9D1DD91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335F-06F6-459B-9C33-8151AD77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1C9D-0314-4E6D-93EE-67B2AA30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34EC-08CE-43EC-BE7B-5CCE9550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43F3-33AD-4926-BBC5-E516FCA6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A88E-EB16-4AD5-B094-92266CB5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03AC-B30D-47D9-BDF4-83A8D3D5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A0FE-9B09-4459-BBFA-28599901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58F1-ECE5-44D2-BD5F-72B2B53A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D903-67BA-48FD-A86B-FB65BE8F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6A86-F3DA-4CF3-9774-E1249BA7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085D-027E-448E-9692-CCA8EE5D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EA37-2039-4AA3-B497-2EA2DF48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4874-FAB9-42C5-8813-C0B8E68F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506-B685-49B0-8A95-B2309259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C061-E04F-4DED-9A73-3FBAD963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D6A-C1FF-491B-9B03-99BCA573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F0DB-5654-4A37-A052-EA953045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A79-B36B-424D-941E-D41CA012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F722-FEB3-4E7A-9226-D70AB8EF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EF18-7680-4DB5-8012-045D07B60981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6ECD-AC7C-42D7-BCC9-0D39317FEFB4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1752480"/>
            <a:ext cx="821988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Period 1 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Warming up &amp; Listening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3808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Make him /her spit by patting him/her on the bac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63868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To avoid this, we shouldn’t talk or laugh when eat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10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743200" cy="3189240"/>
          </a:xfrm>
          <a:prstGeom prst="rect">
            <a:avLst/>
          </a:prstGeom>
          <a:ln w="0">
            <a:noFill/>
          </a:ln>
        </p:spPr>
      </p:pic>
      <p:pic>
        <p:nvPicPr>
          <p:cNvPr id="145" name="11" descr=""/>
          <p:cNvPicPr/>
          <p:nvPr/>
        </p:nvPicPr>
        <p:blipFill>
          <a:blip r:embed="rId2"/>
          <a:stretch/>
        </p:blipFill>
        <p:spPr>
          <a:xfrm>
            <a:off x="7010280" y="609480"/>
            <a:ext cx="1844640" cy="4267440"/>
          </a:xfrm>
          <a:prstGeom prst="rect">
            <a:avLst/>
          </a:prstGeom>
          <a:ln w="0">
            <a:noFill/>
          </a:ln>
        </p:spPr>
      </p:pic>
      <p:pic>
        <p:nvPicPr>
          <p:cNvPr id="146" name="12" descr=""/>
          <p:cNvPicPr/>
          <p:nvPr/>
        </p:nvPicPr>
        <p:blipFill>
          <a:blip r:embed="rId3"/>
          <a:stretch/>
        </p:blipFill>
        <p:spPr>
          <a:xfrm>
            <a:off x="3429000" y="1924200"/>
            <a:ext cx="380988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685800"/>
            <a:ext cx="8964720" cy="59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sten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e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ook at the pictures on P.58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ere are the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at do you guess has happened to the   boy and the girl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ow read the requirements quickly and find out what to do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le-Listening:  listen to the tape and finish the exercises on p.58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193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1.Listen to the tape. What happened to each chil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1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2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4114800"/>
          <a:ext cx="8457840" cy="2435400"/>
        </p:xfrm>
        <a:graphic>
          <a:graphicData uri="http://schemas.openxmlformats.org/drawingml/2006/table">
            <a:tbl>
              <a:tblPr/>
              <a:tblGrid>
                <a:gridCol w="4069440"/>
                <a:gridCol w="2314080"/>
                <a:gridCol w="207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1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2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hen did it happ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as any first aid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If so what was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-8640" y="3352680"/>
            <a:ext cx="90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2. Listen to the tape again and answer the question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219320"/>
            <a:ext cx="8458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 Listen to the nurse’s questions in the first dialogue and write them dow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1.Can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2.What’s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What did you do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4.Does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t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752480"/>
            <a:ext cx="44956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 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9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3276360" cy="2895840"/>
          </a:xfrm>
          <a:prstGeom prst="rect">
            <a:avLst/>
          </a:prstGeom>
          <a:ln w="0">
            <a:noFill/>
          </a:ln>
        </p:spPr>
      </p:pic>
      <p:pic>
        <p:nvPicPr>
          <p:cNvPr id="156" name="8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038480" cy="3218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0666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happened to the gir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2767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 before the doctor com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1055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do you already know about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018-1-1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987720" cy="527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8964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ming-up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6002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rainstorming: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words can you think of when you talk about accidents and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962520"/>
            <a:ext cx="3048120" cy="990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Accid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First a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048120" y="342864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row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43400" y="3200040"/>
            <a:ext cx="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743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le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257800" y="335232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819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hok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943600" y="3733560"/>
            <a:ext cx="762120" cy="53316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33526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urn/catch fi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724280"/>
            <a:ext cx="68580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952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cu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4952880"/>
            <a:ext cx="152280" cy="9144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electr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733920" y="4952880"/>
            <a:ext cx="30456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6386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wou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286000" y="4266720"/>
            <a:ext cx="990720" cy="2286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Times New Roman"/>
              </a:rPr>
              <a:t>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590920" y="4724280"/>
            <a:ext cx="76176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u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scio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791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5b5249"/>
                </a:solidFill>
                <a:latin typeface="Times New Roman"/>
              </a:rPr>
              <a:t>… …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219320"/>
            <a:ext cx="831672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air Work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 on P.57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1447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heck to see if he /she is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35268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ry to start his /her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4100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Never swim in deep wa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2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99072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Call for a doctor or an 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362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Never pull her out of the c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73392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Find enough people to lift  the car safely and take her to hospital at o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715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Look at both sides when crossing the stre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3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73392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9144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Call 119 first and tell them the exact address on the phon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8195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If someone is badly burnt,we should call 120 to ask for an ambul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58640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ever play with fi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careful with g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Make sure that all the electric wires are sa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4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80988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2120"/>
            <a:ext cx="426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Try to stop the bleed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81080"/>
            <a:ext cx="41148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Press a handkerchief onto the bleeding point and hold it the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267080"/>
            <a:ext cx="41911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Hold up the part of body which is bleeding if possibl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5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647960" cy="3886200"/>
          </a:xfrm>
          <a:prstGeom prst="rect">
            <a:avLst/>
          </a:prstGeom>
          <a:ln w="0">
            <a:noFill/>
          </a:ln>
        </p:spPr>
      </p:pic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6479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22860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Go to the hospital at o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29528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ever pull it out of the cu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019-1-3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338148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3920" y="449568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f the cut is not serious, we can wash the area of cut,dry it and cover it with a piece of dry and clean clot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15" descr=""/>
          <p:cNvPicPr/>
          <p:nvPr/>
        </p:nvPicPr>
        <p:blipFill>
          <a:blip r:embed="rId2"/>
          <a:stretch/>
        </p:blipFill>
        <p:spPr>
          <a:xfrm>
            <a:off x="4191120" y="685800"/>
            <a:ext cx="4495680" cy="322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45:31Z</dcterms:created>
  <dc:creator>0</dc:creator>
  <dc:description/>
  <dc:language>en-US</dc:language>
  <cp:lastModifiedBy>jackal</cp:lastModifiedBy>
  <dcterms:modified xsi:type="dcterms:W3CDTF">2001-05-30T17:20:42Z</dcterms:modified>
  <cp:revision>23</cp:revision>
  <dc:subject/>
  <dc:title>PowerPoint 演示文稿</dc:title>
</cp:coreProperties>
</file>