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3F1-E124-4E69-BD05-FCBC9FF9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D76-C0C1-4DF0-93A7-FAF1F5E7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C7F-4289-42EC-8DFA-F942CA11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257-FABE-4ACE-9D81-ECDFB15F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CF8-7A4A-4F43-A73D-1F456105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864-9477-4DA0-88E5-6CDC532A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707-F3DA-41B4-ABFB-6662987E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D50-CD6C-4F01-84AA-7F68FD8B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177-3B66-4788-B045-258F5210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F91-EC4C-4F93-8E10-D75CE4D4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D50-49CC-4892-BE44-76FFE2E7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A4F-09A9-4E96-AC97-87414B66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FD25-B933-4481-9552-8961AB27B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imple%20present&amp;present%20continuous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9640" y="1916280"/>
            <a:ext cx="41432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/>
              </a:rPr>
              <a:t>一般现在时和现在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一般过去时和过去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现在完成时和现在完成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完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将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7164360" y="5229360"/>
            <a:ext cx="792360" cy="682560"/>
          </a:xfrm>
          <a:custGeom>
            <a:avLst/>
            <a:gdLst>
              <a:gd name="textAreaLeft" fmla="*/ 43920 w 792360"/>
              <a:gd name="textAreaRight" fmla="*/ 748440 w 792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5073" h="21600">
                <a:moveTo>
                  <a:pt x="0" y="0"/>
                </a:moveTo>
                <a:lnTo>
                  <a:pt x="25073" y="0"/>
                </a:lnTo>
                <a:lnTo>
                  <a:pt x="25073" y="21600"/>
                </a:lnTo>
                <a:lnTo>
                  <a:pt x="0" y="21600"/>
                </a:lnTo>
                <a:close/>
              </a:path>
              <a:path fill="lightenLess" w="25073" h="21600">
                <a:moveTo>
                  <a:pt x="0" y="0"/>
                </a:moveTo>
                <a:lnTo>
                  <a:pt x="25073" y="0"/>
                </a:lnTo>
                <a:lnTo>
                  <a:pt x="23673" y="1400"/>
                </a:lnTo>
                <a:lnTo>
                  <a:pt x="1400" y="1400"/>
                </a:lnTo>
                <a:close/>
              </a:path>
              <a:path fill="darken" w="25073" h="21600">
                <a:moveTo>
                  <a:pt x="25073" y="0"/>
                </a:moveTo>
                <a:lnTo>
                  <a:pt x="25073" y="21600"/>
                </a:lnTo>
                <a:lnTo>
                  <a:pt x="23673" y="20200"/>
                </a:lnTo>
                <a:lnTo>
                  <a:pt x="23673" y="1400"/>
                </a:lnTo>
                <a:close/>
              </a:path>
              <a:path fill="darkenLess" w="25073" h="21600">
                <a:moveTo>
                  <a:pt x="2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3" y="20200"/>
                </a:lnTo>
                <a:close/>
              </a:path>
              <a:path fill="lighten" w="2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3" h="21600">
                <a:moveTo>
                  <a:pt x="16035" y="10800"/>
                </a:moveTo>
                <a:lnTo>
                  <a:pt x="5530" y="17806"/>
                </a:lnTo>
                <a:lnTo>
                  <a:pt x="5530" y="3794"/>
                </a:lnTo>
                <a:close/>
              </a:path>
              <a:path fill="darken" w="25073" h="21600">
                <a:moveTo>
                  <a:pt x="17881" y="3794"/>
                </a:moveTo>
                <a:lnTo>
                  <a:pt x="17881" y="17806"/>
                </a:lnTo>
                <a:lnTo>
                  <a:pt x="19543" y="17806"/>
                </a:lnTo>
                <a:lnTo>
                  <a:pt x="195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3:50:37Z</dcterms:created>
  <dc:creator>李徐琴</dc:creator>
  <dc:description/>
  <dc:language>en-US</dc:language>
  <cp:lastModifiedBy>Legend User</cp:lastModifiedBy>
  <dcterms:modified xsi:type="dcterms:W3CDTF">2002-11-24T10:07:14Z</dcterms:modified>
  <cp:revision>3</cp:revision>
  <dc:subject/>
  <dc:title>幻灯片 1</dc:title>
</cp:coreProperties>
</file>