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32E0-033D-463E-BB66-E1E398455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ADB9-034A-4711-BDA6-CB0BAC832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7731-B644-4FAB-AA14-CF08D063F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DDD3-C4F3-49A2-8515-D12BB6837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EFA9C-D749-48E1-B50B-3E706C6E3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2279F-15E8-4909-BF89-3437EC432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C28B0-CF77-440F-956C-68EDDD08B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F7CC9-AFC1-4182-8FDF-CF135FD42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C8510-56A4-4CFE-A227-E12F753ED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64131-A716-4710-B1CD-375ABC2BE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22194-EF35-4537-97BD-9EFAA5E2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F7CD-49F1-4DB2-B151-10823095F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02159-FAB6-479C-8F37-9BDDDAA5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E7CC3-54C8-4D0A-8821-444EC073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A300A-61AD-4E25-A573-C4F4585FE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86069-23A4-4E45-98C8-1267E5EED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C686C-8E9E-46BA-AE0D-CCEEBAB0F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E426-C4C2-4667-AC6F-A1D0FE7D5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C324-1761-4FDF-A502-B9211AD86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84D7-DBD3-4F40-96DC-F6A450E20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5C72-F59F-40A3-82BF-6BA93D4BF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78C7-95EE-4005-921E-DA6503D9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B6A0-B731-435B-ADD0-901ABE10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7D23-107E-4FCC-AC94-279BA32F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D8C3B-F04C-41C9-9536-ED7380EFFC6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trtegic1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D82D4-CCF1-44EE-9B0A-698CB56C3B8E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247560" y="4648320"/>
            <a:ext cx="3289680" cy="155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非限制性定语从句起补充说明的作用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省去后不影响主句的意思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逗号与主句分开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翻译时常译作并列的分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37200" y="685800"/>
            <a:ext cx="671112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非限制性定语从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This note was left by John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who was here a moment ag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这条子是约翰留的，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他刚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来过这儿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735200" y="1447920"/>
            <a:ext cx="6735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在句中作地点状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Chaplin went to the State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where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most of the fil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were made at that ti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259280" y="1143000"/>
            <a:ext cx="7885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whose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句中作定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Chaplin ,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whose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mother wa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ill for many years,had to danc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in streets to earn mone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041560" y="139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92640" y="1143000"/>
            <a:ext cx="72414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、介词＋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which/whom/who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In the office,I never see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to have time until 5:30 p.m.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by which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time many peopl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have gone ho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525320" y="533520"/>
            <a:ext cx="6615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 introduced me to h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oommates,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both of who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re from Californ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84440" y="2971800"/>
            <a:ext cx="7002360" cy="3445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of,many of,most of 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e of,two of, half of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th of,neither of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ch of,all of,several of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few of, little of, a number 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369440" y="1676520"/>
            <a:ext cx="7108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teachers discussed Ji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ne of 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whos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problems wa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oor study habi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965240" y="1544760"/>
            <a:ext cx="6645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改正句子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Last night I took a taxi,and which took me ho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048120"/>
            <a:ext cx="914400" cy="53316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2819520"/>
            <a:ext cx="251460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   i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295280" y="1752480"/>
            <a:ext cx="74678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expressed the hope which Mr. and Mrs. smith would come to visit China the next yea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62920" y="1828800"/>
            <a:ext cx="153972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450440" y="1295280"/>
            <a:ext cx="6927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1.Tom's mother kept tell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him that he should wor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harder,but ___didn't help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A.he  B.which  C.she  D.i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86600" y="4191120"/>
            <a:ext cx="9144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70160" y="838080"/>
            <a:ext cx="73116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.I shall never forget thos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ears  ___ I lived in th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untry with the farmer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____has a great effect o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lif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.that,which   B.when,whi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.which,that   D.when,w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05520" y="5257800"/>
            <a:ext cx="335268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676880" y="990720"/>
            <a:ext cx="6598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3.He paid the boy $10 for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washing ten window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most of ___hadn't bee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cleaned at least a yea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A.these      B.tho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C.that        D.whi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95680" y="5410080"/>
            <a:ext cx="198144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381400" y="609480"/>
            <a:ext cx="55299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比较：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Those 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who want to go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please sign their nam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想去的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人请在这里签名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26320" y="4343400"/>
            <a:ext cx="4322880" cy="155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限制性定语从句起限定作用，是主句不可缺少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部分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先行词间无逗号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翻译时常译作前置定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293840" y="685800"/>
            <a:ext cx="6499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4.There are twenty-fiv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pupils in the class,___ a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from the United Stat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A.three of which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B.some of who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C.all of them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D.five of tho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00200" y="4343400"/>
            <a:ext cx="403848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95280" y="533520"/>
            <a:ext cx="7057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5.The students climbed  th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ill,___ they could get  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onderful view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.on its top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.on the top of i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.on whose top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.on the top of th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47920" y="4876920"/>
            <a:ext cx="373356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293840" y="1371600"/>
            <a:ext cx="7056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6. The weather turned out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to be very good,___w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more than we could expec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A.what        B.which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C.that          D.i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19720" y="4343400"/>
            <a:ext cx="198108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144440" y="1219320"/>
            <a:ext cx="7444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7.This dictionary,the first fe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pages___ are missing,is o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no u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A.of which    B.for which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C.to that        D.to whi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95280" y="4114800"/>
            <a:ext cx="266724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224360" y="1143000"/>
            <a:ext cx="7921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8.Beijing,___,is a beautifu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it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.which is the capital of Chin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.which is the capital ci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.that is the capital of Chi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.that is the capital ci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95280" y="3352680"/>
            <a:ext cx="746784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70160" y="838080"/>
            <a:ext cx="746244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9.He made another wonderfu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discovery ,___ of gre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importan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A.which I think 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B.which I think it 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C.which I think i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D.I think which 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3809880"/>
            <a:ext cx="441972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218600" y="1371600"/>
            <a:ext cx="72932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10.She heard a terrible nois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___ brought her heart in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mou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A.it                B.whi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C.this            D.th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00600" y="4343400"/>
            <a:ext cx="198108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219680" y="1523880"/>
            <a:ext cx="7665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11.Carol said the work would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be done by October,___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personally I doubt very mu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A.it             B.th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C.when       D.whi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5181480"/>
            <a:ext cx="198144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523880" y="1066680"/>
            <a:ext cx="7620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12.The weather turned ou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to be very good,___w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more than we could expec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A.what       B.which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C.that         D.i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4038480"/>
            <a:ext cx="198108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507320" y="1270080"/>
            <a:ext cx="7261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13.He paid the boy $10 for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washing ten windows,most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of ___hadn't been cleaned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at least a yea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A.these          B.tho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C.that            D.whi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29200" y="5638680"/>
            <a:ext cx="198108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904400" y="990720"/>
            <a:ext cx="6226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The travellers 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who kne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about the floods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took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another roa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The travellers,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who kne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about the floods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,too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another roa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962600" y="457200"/>
            <a:ext cx="330120" cy="459720"/>
          </a:xfrm>
          <a:prstGeom prst="rect">
            <a:avLst/>
          </a:prstGeom>
          <a:noFill/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只有那些知道前面有洪水的旅客们才绕道而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34000" y="5486400"/>
            <a:ext cx="330120" cy="459720"/>
          </a:xfrm>
          <a:prstGeom prst="rect">
            <a:avLst/>
          </a:prstGeom>
          <a:noFill/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旅客们知道前面有洪水，因而绕道而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27160" y="507960"/>
            <a:ext cx="78188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14.___ is mentioned abov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the number of the studen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in senior high school i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increasin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Which         B. 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C.That             D.It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05520" y="4191120"/>
            <a:ext cx="198108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4876920"/>
            <a:ext cx="7696080" cy="173988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引导非限制性定语从句，位于句首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在定语从句中作主语，代表整个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句所表达的内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524600" y="380880"/>
            <a:ext cx="72262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15.___ is known to all,Chi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will be an ___ and powerfu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country in 20 or 30 years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A.That…advanc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B.This…advanc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C.As…advanc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D.It…advanc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76520" y="5562720"/>
            <a:ext cx="396216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23880" y="762120"/>
            <a:ext cx="634536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　　　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几种情况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which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用来指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此时不用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a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The BBC World Servic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broadcasts all kinds of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programs,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which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chang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from month to mon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371600" y="762120"/>
            <a:ext cx="7086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clock struck thirtee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which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made everyone laug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45480" y="2514600"/>
            <a:ext cx="7100640" cy="1739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Which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修饰整个句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which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指代“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clock struck thirteen”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又如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30720" y="4419720"/>
            <a:ext cx="6986880" cy="1556280"/>
          </a:xfrm>
          <a:prstGeom prst="rect">
            <a:avLst/>
          </a:prstGeom>
          <a:noFill/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elevator is out of order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which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s too ba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906200" y="1752480"/>
            <a:ext cx="6936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he said that the man w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thief,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which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turned out t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 tru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371600" y="1295280"/>
            <a:ext cx="6616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who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用来指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Charlie Chaplin,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who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died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In 1977,was one of th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world’s greatest actors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371600" y="1371600"/>
            <a:ext cx="7191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whom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在句中作宾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The doctor ,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whom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the nurs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is talking to, is leaving for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Africa next wee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222200" y="1447920"/>
            <a:ext cx="7561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在句中作时间状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He went to the States i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1912,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when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he was notic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by an important film directo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6T07:34:46Z</dcterms:created>
  <dc:creator>Legend User</dc:creator>
  <dc:description/>
  <dc:language>en-US</dc:language>
  <cp:lastModifiedBy>Legend User</cp:lastModifiedBy>
  <dcterms:modified xsi:type="dcterms:W3CDTF">2002-09-29T01:59:18Z</dcterms:modified>
  <cp:revision>19</cp:revision>
  <dc:subject/>
  <dc:title>PowerPoint 演示文稿</dc:title>
</cp:coreProperties>
</file>