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5756275" cy="7981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642-717B-47AC-B218-B19E641B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D46-F1F2-42E9-BACF-4AF3F0DD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E5A-760E-448F-B698-FA881926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C78-7FAD-46B3-AA9F-F390ED16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472-36F6-4A7F-80C0-6F187C7C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5FE-DB90-4CB2-8865-E7675C8A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39C-1B1C-4D51-AD71-1CBC5DFF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500-0DD6-4FB1-8AFC-91998EE3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A1D-E648-49D6-9140-DB88EC13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2B6-5AAE-47E4-9E0D-D1B9A9E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9CB-1512-4349-822B-A1CFF5EB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7FA-F245-4911-BBCF-B34CD51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BB4-BCDE-4A3A-91E8-E79D71BBA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108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0:05:36Z</dcterms:created>
  <dc:creator>Legend User</dc:creator>
  <dc:description/>
  <dc:language>en-US</dc:language>
  <cp:lastModifiedBy>Legend User</cp:lastModifiedBy>
  <dcterms:modified xsi:type="dcterms:W3CDTF">2003-01-06T10:33:53Z</dcterms:modified>
  <cp:revision>2</cp:revision>
  <dc:subject/>
  <dc:title>幻灯片 1</dc:title>
</cp:coreProperties>
</file>