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CEE-4090-4704-98F1-E67935AD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186-B458-43C8-B1FA-E4F7A838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147-6EAF-4C8A-8581-0B2099D3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5D4-B779-4F7C-A8EC-9D2376E8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276-5746-48DE-9F76-ED4844D2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332D-6D7F-4F13-B08C-05C6839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5A6B-A3F9-4261-9516-E4002E25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C728-BE38-469A-BC25-DE401777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0D91-0A55-4B23-93B3-C009E97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3702-F26F-477D-9ADC-7DDDFA7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3ADD-04B0-4A84-B1A0-04E9759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FED-DF6C-40DC-BA60-EF17414F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4AB-DC2A-4837-A7B3-85691BCE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93EC-9ACF-46F4-B26C-C47A897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0739-4F49-496B-A29F-2F06B226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32C1-9E18-445B-A72A-A83BEB4D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F431-FDC7-4EAB-9108-DEE29A1F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19D-DA65-4F95-8C10-2FB10804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195-9678-4648-A8F6-D161B8BB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085-FBB5-4430-8A21-AA48F7EB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5A1-3DB6-4DAC-B508-4FBAEAAC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44C-BA19-471F-928C-2E416A7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032-A3F9-41A9-BBE7-AF43F9C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A98-C162-4231-8F1E-7C91BB7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767-CD29-4193-BD77-4B85B062E0D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328-EB07-4008-87B2-F731EE3A55B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286000"/>
            <a:ext cx="5791320" cy="155628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+ which\whom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5373720"/>
            <a:ext cx="280836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12952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992840"/>
            <a:ext cx="3838320" cy="70344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中缺少什么成分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267080"/>
            <a:ext cx="27432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1120" y="5410080"/>
            <a:ext cx="2466360" cy="76428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确定句子类型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40384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91120"/>
            <a:ext cx="25146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0640" y="1523880"/>
            <a:ext cx="678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old Olympic Game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moder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games cam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began aroun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year 776BC in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676520"/>
            <a:ext cx="725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ome of the gam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young men compete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re: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running,jumping 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restl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90512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country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first Olympic Gam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ere held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s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240" y="1676520"/>
            <a:ext cx="654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 Barcelona the Chines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got 16 gold medal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which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12 were won b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om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0440" y="914400"/>
            <a:ext cx="6340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ink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.This is the room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35440" y="1776240"/>
            <a:ext cx="7149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.The comrad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me knows French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girl 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you'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ook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in the classroom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3429000"/>
            <a:ext cx="304920" cy="60948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60480" y="1066680"/>
            <a:ext cx="6459840" cy="131292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或介词短语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)+which/who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in fron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3200" y="228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类型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3200" y="2514600"/>
            <a:ext cx="5145840" cy="314136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.a few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os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ny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om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n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3920" y="5867280"/>
            <a:ext cx="4103640" cy="70344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.NOUN+of 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496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03848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2:36:14Z</dcterms:created>
  <dc:creator>Legend User</dc:creator>
  <dc:description/>
  <dc:language>en-US</dc:language>
  <cp:lastModifiedBy>赵晨盼</cp:lastModifiedBy>
  <dcterms:modified xsi:type="dcterms:W3CDTF">2002-10-13T10:32:04Z</dcterms:modified>
  <cp:revision>5</cp:revision>
  <dc:subject/>
  <dc:title>PowerPoint 演示文稿</dc:title>
</cp:coreProperties>
</file>