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03F-6986-4852-9423-DD74B637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3EF-26F7-4834-ADA7-15859217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D2C-6990-4C1C-90FF-69C7809A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186-477D-4DE8-9146-779401F1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EC8-11F3-45E9-B1C3-6993656C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2B44-9FB1-4874-BD17-180CE589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A1CC-7DF4-4DD3-97E2-074C6A4C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C2B3-FB1B-418E-9B3E-82AB32B1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E0F4-A288-49D7-9658-764E7756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873A-C2EA-48B9-AD62-D61BC53C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0452-F993-4653-A3B3-CEC2FC1C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849-250E-4786-A619-73A7C62A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A0B3-9CDA-4BB3-AB79-5BF68BF9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E5B2-4A6E-4C5F-82C7-C0C72E92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AD23-3B32-4817-B6C1-3E21C33D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EB53-077F-4C48-BAAE-EE62D047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F732-1B84-41EF-8E49-4CFC2508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37E-B6BB-43D6-AFB4-D2B9E998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126-4187-43CF-A444-96CC3436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6B7-055D-40EB-96CE-D60CC1FB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677-E82C-4576-84DB-07ACA10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CE5-3A12-429F-87AB-5796349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C49-A57D-4BA4-AC01-7D1C80F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623-12E5-4714-9E20-1E31C7B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8D16-D26A-4F18-9BDE-2E42644E34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4DC7-0659-4A08-8C6F-F4BF84624A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236232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at/which/who/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定语从句中作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语或宾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5040" y="1752480"/>
            <a:ext cx="791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This is the mountain vill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______ we visited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ich            B.in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ere            D.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1280" y="1752480"/>
            <a:ext cx="5781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This is the factory 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visited last Fri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se     B.in 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o         D.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8098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58760" y="1752480"/>
            <a:ext cx="747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.Is this the store ____ se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ll kinds 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0320" y="1547640"/>
            <a:ext cx="749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.Is this store ___ sells all kin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65760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57680" y="1752480"/>
            <a:ext cx="679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He has done ____ he can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lp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all that        B.all what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ich         D.all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2133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6120" y="1828800"/>
            <a:ext cx="792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.The man ___ is our new teac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you spok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B.whom you spoke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ith who you spok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.you spoke with wh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76720"/>
            <a:ext cx="49528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34720" y="1828800"/>
            <a:ext cx="7354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9.On the bus I saw a student 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 thought was y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      B.who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that           D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20040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90512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t was in the bookstore 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that I met your brother-in-law the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838080"/>
            <a:ext cx="6096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met your brother-in-law 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in the bookst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/was… that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733920"/>
            <a:ext cx="6705720" cy="21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 w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the bookstore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met your brother-in-law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7524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expressed the hope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that Mr and Mrs smith would come to visit China th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96240" y="1600200"/>
            <a:ext cx="45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复合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包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句子的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要主语和动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不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和一个主句连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49760" y="251460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定语从句是从属分句，修饰先行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143000"/>
            <a:ext cx="7543800" cy="609480"/>
          </a:xfrm>
          <a:prstGeom prst="wedgeRectCallout">
            <a:avLst>
              <a:gd name="adj1" fmla="val 36152"/>
              <a:gd name="adj2" fmla="val 17786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先行词由名词（或代词）来充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4840" y="3809880"/>
            <a:ext cx="4752720" cy="19224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：定语从句对一个先行词进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描写、限定或提供进一步的信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又称为形容词性从句或关系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83160" y="658800"/>
            <a:ext cx="71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t homes in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thqu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5200" y="3809880"/>
            <a:ext cx="76604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 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who l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homes in the earthqua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2819520"/>
            <a:ext cx="2133720" cy="761760"/>
          </a:xfrm>
          <a:prstGeom prst="cloudCallout">
            <a:avLst>
              <a:gd name="adj1" fmla="val -20462"/>
              <a:gd name="adj2" fmla="val 9583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048120"/>
            <a:ext cx="1752840" cy="609480"/>
          </a:xfrm>
          <a:prstGeom prst="cloudCallout">
            <a:avLst>
              <a:gd name="adj1" fmla="val -46740"/>
              <a:gd name="adj2" fmla="val 7005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00840" y="1928880"/>
            <a:ext cx="645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aw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1360" y="3886200"/>
            <a:ext cx="6892560" cy="14346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m we s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yesterda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048120"/>
            <a:ext cx="2133360" cy="761760"/>
          </a:xfrm>
          <a:prstGeom prst="cloudCallout">
            <a:avLst>
              <a:gd name="adj1" fmla="val -18972"/>
              <a:gd name="adj2" fmla="val 9916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1752480" cy="609480"/>
          </a:xfrm>
          <a:prstGeom prst="cloudCallout">
            <a:avLst>
              <a:gd name="adj1" fmla="val 34240"/>
              <a:gd name="adj2" fmla="val 10260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838080" y="1676520"/>
            <a:ext cx="8001000" cy="3504960"/>
            <a:chOff x="838080" y="1676520"/>
            <a:chExt cx="8001000" cy="3504960"/>
          </a:xfrm>
        </p:grpSpPr>
        <p:sp>
          <p:nvSpPr>
            <p:cNvPr id="103" name=""/>
            <p:cNvSpPr/>
            <p:nvPr/>
          </p:nvSpPr>
          <p:spPr>
            <a:xfrm>
              <a:off x="838080" y="1676520"/>
              <a:ext cx="8001000" cy="34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主语             　宾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人　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o               who\whom\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            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物  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ich              whic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24382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3200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38098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44956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58160" y="155592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确定主句和从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55120" y="2209680"/>
            <a:ext cx="24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先行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5120" y="2819520"/>
            <a:ext cx="25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0000" y="3505320"/>
            <a:ext cx="49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在定语从句中作何成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2360" y="4191120"/>
            <a:ext cx="407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用其他连接词替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是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2880" y="548640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省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7000" y="7621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何分析含有定语从句的复合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6840" y="803160"/>
            <a:ext cx="772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定语从句合并每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1.The long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ill looks n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been there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early fifty ye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7840" y="3809880"/>
            <a:ext cx="771048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The long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ich /that 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een there for nearly fifty year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till looks nic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0720" y="91440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a great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840" y="3505320"/>
            <a:ext cx="69746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has a great knowledg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1:28:47Z</dcterms:created>
  <dc:creator>Legend User</dc:creator>
  <dc:description/>
  <dc:language>en-US</dc:language>
  <cp:lastModifiedBy>Legend User</cp:lastModifiedBy>
  <dcterms:modified xsi:type="dcterms:W3CDTF">2002-09-30T10:33:22Z</dcterms:modified>
  <cp:revision>10</cp:revision>
  <dc:subject/>
  <dc:title>PowerPoint 演示文稿</dc:title>
</cp:coreProperties>
</file>